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BA86-2CC8-42D6-89EA-40C566434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E068-EB0B-49A4-8AD4-F35F0DDD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7603-CC76-4825-AB79-025C04EB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68FA-E715-487C-B3A6-658C9D6F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BBB8-91C4-4139-8ED7-2ACF861B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EC65-FF96-4514-9C62-DBE811B2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E796-25F0-49CC-85B3-B9E02A2F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E929-0BBC-4BCA-857F-193E09AA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20AD-C7F2-4C38-A182-71D7ED58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4CD6-53E7-41BF-B394-5349F5DA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7378-F46F-485E-AB8B-A1C09047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327E-B934-409A-85FB-700F0C72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71F4-643B-4BA8-A4A3-5AF9E5EF7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Oscillator Strengths for Rydberg Transitions in CO between 925 and 956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819520"/>
            <a:ext cx="78483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R. Federman, Y. Sheffer (Univ. of Tole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. Eidelsberg, J.L. Lemaire, J.H. Fillion, F. Rostas (Obs. de Paris, Meud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. Ruiz (Univ. de 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lag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research was supported by NASA and the CNRS-PCMI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528480"/>
            <a:ext cx="78516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ur Previous Measurements on 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297080"/>
            <a:ext cx="77691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delsberg et al. (2004, A&amp;A, 424, 35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he SU5 beam line                                                      at the SuperACO                                                Synchrotron in Ors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iv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values for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0-0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1-0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(0-0) bands for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,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, and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(967 – 97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Å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significant mixing among bands, but sum of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values independent of isotop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measurements on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results consistent with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ar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s from the most recent laboratory and astronomical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27525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ewest Results on 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data acquired on SU5 beam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74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-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=0-3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s as well as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1-0)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6-0) bands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6-0) formally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0-0) ba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74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ied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,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, and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at pressures usually ranging from 2 to 14 mTorr; pressures up to 60 mTorr used for wea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1-0) band of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74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 based on profile syntheses that adjusted the band oscillator strength and line width (instrumental, thermal, and predissociation) in a non-linear           least-squares fash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74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ed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ependent predissociation wid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74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0-0) band, wh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value is well determined, used to determine CO column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scillator Strengths for 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ison of Results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valu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alics: measurements at 20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28600" y="1905120"/>
          <a:ext cx="8763120" cy="4314600"/>
        </p:xfrm>
        <a:graphic>
          <a:graphicData uri="http://schemas.openxmlformats.org/drawingml/2006/table">
            <a:tbl>
              <a:tblPr/>
              <a:tblGrid>
                <a:gridCol w="4114800"/>
                <a:gridCol w="1143000"/>
                <a:gridCol w="1219320"/>
                <a:gridCol w="1143000"/>
                <a:gridCol w="11430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-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-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-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-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Results (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effer et al. 2003 (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elsberg et al. 1991 (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.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2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k et al. 1992, 1993, 1994 (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shino et al. 1995 (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6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8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4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.0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2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Results (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.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elsberg et al. 1991 (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.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.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1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Results (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turb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elsberg et al. 1991 (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.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.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1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44160" indent="-34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 fractionation among isotopomers in diffuse clou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7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ve Isotopic Photodissociation dominan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7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models not adeq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7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include new reaction rates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160" indent="-34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values indicate larger values – consistent with other recent measurements – than what is used in models for many important Rydberg transi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7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s self shielding from photodi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160" indent="-34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7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ependent predissociation wid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7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measurements with SOLEIL, the next generation synchrotron source in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7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interstellar data on CO and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constrain models fur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 observed in many astronomical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 and dark, molecular interstellar clou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mstellar shells of asymptotic giant branch stars and planetary nebul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mstellar disks around newly formed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ts and planetary atmosph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es affecting mix of isotop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tope Charge Exchange – favors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has lower zero-point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– 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35 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ve Isotopic Photodissociation – favors more abundant isotopic 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sociation occurs through line absorption at far UV waveleng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abundant variant has lines that are more optically thick, shielding itself from further di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ubble Space Telescop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on diffuse interstellar clou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 Ratios: 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1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/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13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 = 70±7; 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16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/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 = 560±25; 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16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/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17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 = 1900±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62120" y="1981080"/>
          <a:ext cx="7543800" cy="2647800"/>
        </p:xfrm>
        <a:graphic>
          <a:graphicData uri="http://schemas.openxmlformats.org/drawingml/2006/table">
            <a:tbl>
              <a:tblPr/>
              <a:tblGrid>
                <a:gridCol w="2514600"/>
                <a:gridCol w="1371600"/>
                <a:gridCol w="1218960"/>
                <a:gridCol w="1219320"/>
                <a:gridCol w="1219320"/>
              </a:tblGrid>
              <a:tr h="761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P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h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χ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)/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)/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4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)/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0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3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ed models [e.g., van Dishoeck &amp; Black (1988)] can reproduce either the isotopomeric ratios or the total column density, but not both with the sam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for diffuse molecular clouds produce too little CO (increasing the rate constant for 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OH – Dubernet et al. 1992 – lessens probl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ed models [e.g., van Dishoeck &amp; Black (1988)] can reproduce either the isotopomeric ratios or the total column density, but not both with the sam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for diffuse molecular clouds produce too little CO (increasing the rate constant for 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OH – Dubernet et al. 1992 – lessens probl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 that part of the problem lies in adopted oscillator strength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values), which now seem too small for many important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values lessen amount of self shielding, but need more self shie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528480"/>
            <a:ext cx="78516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ur Previous Measurements on 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296720"/>
            <a:ext cx="776916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derman et al. (2001, ApJS, 134, 13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he Synchrotron Radiation                                  Center of the Univ. of                                          Wisconsin-Mad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iv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values for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0-0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1-0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(0-0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1-0)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0-0) bands (above 107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Å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results agree with other recent determinations based on electron energy loss and laser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the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values tend to be larger than those used in chemical models, with the differences increasing with increasing band 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257800" y="1828800"/>
            <a:ext cx="292572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ur Previous Measurements on 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r Ultraviolet Spectroscopic Explor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52716" t="0" r="0" b="81466"/>
          <a:stretch/>
        </p:blipFill>
        <p:spPr>
          <a:xfrm>
            <a:off x="2743200" y="3124080"/>
            <a:ext cx="5740560" cy="2917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124080" y="563868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D 203374A (Sheffer et al. 2003, ApJ, 597, L2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09480" y="2133720"/>
            <a:ext cx="201132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ur Previous Measurements on 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r Ultraviolet Spectroscopic Explor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52716" t="0" r="0" b="81466"/>
          <a:stretch/>
        </p:blipFill>
        <p:spPr>
          <a:xfrm>
            <a:off x="2743200" y="3124080"/>
            <a:ext cx="5740560" cy="2917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124080" y="563868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D 203374A (Sheffer et al. 2003, ApJ, 597, L2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9480" y="2133720"/>
            <a:ext cx="2011320" cy="1603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76720" y="26668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57640" y="26668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87840" y="26668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29200" y="26668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75240" y="26668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13360" y="26668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9T13:17:47Z</dcterms:created>
  <dc:creator>Steven Federman</dc:creator>
  <dc:description/>
  <dc:language>en-US</dc:language>
  <cp:lastModifiedBy> Steve Federman</cp:lastModifiedBy>
  <dcterms:modified xsi:type="dcterms:W3CDTF">2005-06-10T16:52:00Z</dcterms:modified>
  <cp:revision>63</cp:revision>
  <dc:subject/>
  <dc:title>The Solar Wind</dc:title>
</cp:coreProperties>
</file>