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385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DD5-76A0-4FAB-A004-9FEA9871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D9B-FEA4-4390-854F-BBFEBCA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C99-D07D-452F-975D-39146B6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3E8-3900-4487-A189-F6186998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ABB-DE50-4929-A546-E9B6FFEF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404-EDC3-4F30-8CF3-74094660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5CE-EB10-4F5D-A634-3C497AA9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F5F-66E7-444F-93AC-D751482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102-1BBB-42AA-8320-6DA140C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959-E331-4D2C-9162-8575E08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AAF-E2C7-46B5-89C2-FD250CC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0F6-2884-4BE3-9596-E00BFCA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ＭＳ ゴシック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4737-48A9-44DB-AA49-7D7147C5F4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7960" y="762120"/>
            <a:ext cx="73267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3-Dimensional Intermolecular Potentia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nergy Surface of Ar-SH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00400"/>
            <a:ext cx="6248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. Sumiyosh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. 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niv. of Tok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943600" y="58071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by Molpro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65120" y="1981080"/>
            <a:ext cx="73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CCSD(T) / aug-cc-pVTZ with bo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3sp, 2df, 1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55760" y="3108240"/>
            <a:ext cx="7178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tal of 1806 poi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 3.3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0 Å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1.2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51 Å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0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090880"/>
            <a:ext cx="154080" cy="15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-12600"/>
            <a:ext cx="60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lculation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analysis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7200" y="990720"/>
            <a:ext cx="69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An initial 3-D potential by </a:t>
            </a:r>
            <a:r>
              <a:rPr b="1" i="1" lang="ja-JP" sz="24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90520" y="3214800"/>
            <a:ext cx="154080" cy="15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428292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0080" y="2762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83800" y="1859040"/>
            <a:ext cx="52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e rotational transition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/2 ← 3/2,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 = 1.5   -  7.5,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5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83800" y="2867040"/>
            <a:ext cx="539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itions of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1/2 ← 3/2,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” = 0   -  4,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1 line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ighted b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7720" y="51973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-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06040" y="4419720"/>
            <a:ext cx="528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e rotational transition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/2 ← 3/2,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 = 1.5   -  7.5,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6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3960" y="838080"/>
            <a:ext cx="50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s with parity doublings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fin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2057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77920" y="297180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o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171920" y="3301920"/>
            <a:ext cx="2286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08640" y="-1260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set to be f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171920" y="244476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79640" y="46641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073640" y="48420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22200" y="2266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95440" y="458784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90200" y="5295960"/>
            <a:ext cx="53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itions of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/2 ← 3/2,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” = 1   -  4,       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3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ighted b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0280" y="541008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o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154640" y="574056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824200" y="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st-square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87440" y="1295280"/>
            <a:ext cx="18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87440" y="2763720"/>
            <a:ext cx="20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87440" y="2409840"/>
            <a:ext cx="2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87440" y="2055960"/>
            <a:ext cx="205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87440" y="1692360"/>
            <a:ext cx="2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87440" y="1328760"/>
            <a:ext cx="20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7440" y="2055960"/>
            <a:ext cx="276696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387440" y="2022120"/>
            <a:ext cx="180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851120" y="2022120"/>
            <a:ext cx="14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305080" y="2022120"/>
            <a:ext cx="32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770200" y="2022120"/>
            <a:ext cx="14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235320" y="2022120"/>
            <a:ext cx="14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689280" y="2022120"/>
            <a:ext cx="32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154400" y="2022120"/>
            <a:ext cx="180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43160" y="200016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43160" y="200016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43160" y="1968480"/>
            <a:ext cx="75960" cy="87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4" y="0"/>
                </a:moveTo>
                <a:lnTo>
                  <a:pt x="41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43160" y="1968480"/>
            <a:ext cx="75960" cy="87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4" y="0"/>
                </a:moveTo>
                <a:lnTo>
                  <a:pt x="41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43160" y="200016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43160" y="200016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3160" y="201132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43160" y="201132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43160" y="1990800"/>
            <a:ext cx="75960" cy="871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4" y="0"/>
                </a:moveTo>
                <a:lnTo>
                  <a:pt x="41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43160" y="1990800"/>
            <a:ext cx="75960" cy="871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4" y="0"/>
                </a:moveTo>
                <a:lnTo>
                  <a:pt x="41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43160" y="202248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3160" y="202248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43160" y="202248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43160" y="202248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43160" y="1990800"/>
            <a:ext cx="75960" cy="759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43160" y="1990800"/>
            <a:ext cx="75960" cy="759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43160" y="203364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43160" y="203364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43160" y="201132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43160" y="2011320"/>
            <a:ext cx="75960" cy="77760"/>
          </a:xfrm>
          <a:custGeom>
            <a:avLst/>
            <a:gdLst/>
            <a:ahLst/>
            <a:rect l="l" t="t" r="r" b="b"/>
            <a:pathLst>
              <a:path w="41" h="42">
                <a:moveTo>
                  <a:pt x="24" y="0"/>
                </a:moveTo>
                <a:lnTo>
                  <a:pt x="41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06480" y="2022480"/>
            <a:ext cx="7776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06480" y="2022480"/>
            <a:ext cx="7776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06480" y="2044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06480" y="2044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06480" y="20224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06480" y="20224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06480" y="1990800"/>
            <a:ext cx="7776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06480" y="1990800"/>
            <a:ext cx="7776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6480" y="1990800"/>
            <a:ext cx="77760" cy="75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06480" y="1990800"/>
            <a:ext cx="77760" cy="75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19796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06480" y="19796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73400" y="1979640"/>
            <a:ext cx="759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73400" y="1979640"/>
            <a:ext cx="759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73400" y="1968480"/>
            <a:ext cx="759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73400" y="1968480"/>
            <a:ext cx="759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3400" y="200016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73400" y="200016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73400" y="203364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73400" y="203364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73400" y="201132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73400" y="201132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73400" y="205596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73400" y="2055960"/>
            <a:ext cx="759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25560" y="197964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25560" y="197964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25560" y="202248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25560" y="202248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25560" y="193680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25560" y="193680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2556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2556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25560" y="20779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25560" y="20779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25560" y="1990800"/>
            <a:ext cx="88920" cy="75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5560" y="1990800"/>
            <a:ext cx="88920" cy="75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91040" y="2044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91040" y="2044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91040" y="1936800"/>
            <a:ext cx="77760" cy="74520"/>
          </a:xfrm>
          <a:custGeom>
            <a:avLst/>
            <a:gdLst/>
            <a:ahLst/>
            <a:rect l="l" t="t" r="r" b="b"/>
            <a:pathLst>
              <a:path w="42" h="41">
                <a:moveTo>
                  <a:pt x="24" y="0"/>
                </a:moveTo>
                <a:lnTo>
                  <a:pt x="42" y="17"/>
                </a:lnTo>
                <a:lnTo>
                  <a:pt x="24" y="41"/>
                </a:lnTo>
                <a:lnTo>
                  <a:pt x="0" y="17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91040" y="1936800"/>
            <a:ext cx="77760" cy="74520"/>
          </a:xfrm>
          <a:custGeom>
            <a:avLst/>
            <a:gdLst/>
            <a:ahLst/>
            <a:rect l="l" t="t" r="r" b="b"/>
            <a:pathLst>
              <a:path w="42" h="41">
                <a:moveTo>
                  <a:pt x="24" y="0"/>
                </a:moveTo>
                <a:lnTo>
                  <a:pt x="42" y="17"/>
                </a:lnTo>
                <a:lnTo>
                  <a:pt x="24" y="41"/>
                </a:lnTo>
                <a:lnTo>
                  <a:pt x="0" y="17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91040" y="1968480"/>
            <a:ext cx="77760" cy="8748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91040" y="1968480"/>
            <a:ext cx="77760" cy="8748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91040" y="2066760"/>
            <a:ext cx="77760" cy="781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91040" y="2066760"/>
            <a:ext cx="77760" cy="781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91040" y="1990800"/>
            <a:ext cx="7776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91040" y="1990800"/>
            <a:ext cx="7776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24" y="0"/>
                </a:moveTo>
                <a:lnTo>
                  <a:pt x="42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91040" y="20336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91040" y="20336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1990800"/>
            <a:ext cx="7632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57600" y="1990800"/>
            <a:ext cx="76320" cy="871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2044800"/>
            <a:ext cx="763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2044800"/>
            <a:ext cx="763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2044800"/>
            <a:ext cx="763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2044800"/>
            <a:ext cx="763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979640"/>
            <a:ext cx="7632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7600" y="1979640"/>
            <a:ext cx="7632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2022480"/>
            <a:ext cx="763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2022480"/>
            <a:ext cx="763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022480"/>
            <a:ext cx="763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2022480"/>
            <a:ext cx="763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012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012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0120" y="20559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0120" y="20559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012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0120" y="2033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0120" y="194616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0120" y="194616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0120" y="196848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0120" y="196848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0120" y="194616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0120" y="1946160"/>
            <a:ext cx="88920" cy="763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98680" y="27655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812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3052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52560" y="2765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380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8584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8240" y="27655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1768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4008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62120" y="27655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73360" y="276552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9396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14560" y="2765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2580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47840" y="276552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0240" y="2765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8148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352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25920" y="27655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3536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57760" y="2765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79800" y="27655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89240" y="276552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3360" y="24084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3664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59040" y="240840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6848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9088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12920" y="24084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2416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4620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68600" y="24084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8040" y="240840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9864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21040" y="24084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3228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5432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2408400"/>
            <a:ext cx="64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8616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08200" y="240840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30600" y="24084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4184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6388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86280" y="2408400"/>
            <a:ext cx="63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94280" y="24084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0184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23880" y="169560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3512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752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79560" y="169560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8900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1140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33440" y="169560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68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6708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89120" y="1695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98920" y="169560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41560" y="1695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5280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4840" y="169560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7240" y="169560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0668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2908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51120" y="169560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6236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476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03560" y="169560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1695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2120" y="132732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12720" y="13273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2396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4636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68400" y="13273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820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0024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22640" y="13273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3352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5592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77960" y="13273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87760" y="132732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0836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30400" y="13273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164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6404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86080" y="13273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9552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1792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39960" y="13273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5120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7360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95640" y="1327320"/>
            <a:ext cx="63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03640" y="13273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64240" y="136692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64240" y="1371600"/>
            <a:ext cx="14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64240" y="2811600"/>
            <a:ext cx="223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64240" y="244800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64240" y="209556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64240" y="173196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664240" y="136692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664240" y="2095560"/>
            <a:ext cx="2724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664240" y="2073240"/>
            <a:ext cx="14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6118200" y="2073240"/>
            <a:ext cx="32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573960" y="2073240"/>
            <a:ext cx="14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026120" y="2073240"/>
            <a:ext cx="180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480440" y="2073240"/>
            <a:ext cx="288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935840" y="2073240"/>
            <a:ext cx="180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388360" y="2073240"/>
            <a:ext cx="14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1960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1960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19600" y="20955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19600" y="20955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1960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1960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1960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1960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19600" y="20955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19600" y="20955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1960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1960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7392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7392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7392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7392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739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739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7392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7392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2932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93000" y="20066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93000" y="20066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93000" y="2017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993000" y="2017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9300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93000" y="20732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9300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93000" y="20509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46960" y="2039760"/>
            <a:ext cx="77760" cy="781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46960" y="2039760"/>
            <a:ext cx="77760" cy="781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696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6960" y="2062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46960" y="1941480"/>
            <a:ext cx="777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18" y="0"/>
                </a:moveTo>
                <a:lnTo>
                  <a:pt x="42" y="17"/>
                </a:lnTo>
                <a:lnTo>
                  <a:pt x="18" y="41"/>
                </a:lnTo>
                <a:lnTo>
                  <a:pt x="0" y="17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46960" y="1941480"/>
            <a:ext cx="777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18" y="0"/>
                </a:moveTo>
                <a:lnTo>
                  <a:pt x="42" y="17"/>
                </a:lnTo>
                <a:lnTo>
                  <a:pt x="18" y="41"/>
                </a:lnTo>
                <a:lnTo>
                  <a:pt x="0" y="17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46960" y="1952640"/>
            <a:ext cx="777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18" y="0"/>
                </a:moveTo>
                <a:lnTo>
                  <a:pt x="42" y="23"/>
                </a:lnTo>
                <a:lnTo>
                  <a:pt x="18" y="41"/>
                </a:lnTo>
                <a:lnTo>
                  <a:pt x="0" y="23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46960" y="1952640"/>
            <a:ext cx="77760" cy="76320"/>
          </a:xfrm>
          <a:custGeom>
            <a:avLst/>
            <a:gdLst/>
            <a:ahLst/>
            <a:rect l="l" t="t" r="r" b="b"/>
            <a:pathLst>
              <a:path w="42" h="41">
                <a:moveTo>
                  <a:pt x="18" y="0"/>
                </a:moveTo>
                <a:lnTo>
                  <a:pt x="42" y="23"/>
                </a:lnTo>
                <a:lnTo>
                  <a:pt x="18" y="41"/>
                </a:lnTo>
                <a:lnTo>
                  <a:pt x="0" y="23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91560" y="220680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91560" y="220680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91560" y="212868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91560" y="212868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91560" y="203976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891560" y="203976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891560" y="19954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91560" y="19954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44080" y="2017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344080" y="201780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44080" y="21178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44080" y="21178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4" y="0"/>
                </a:moveTo>
                <a:lnTo>
                  <a:pt x="42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64240" y="2811600"/>
            <a:ext cx="6660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8504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0708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29480" y="281160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3892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5952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81920" y="2811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92800" y="281160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7600" y="2811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4848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70880" y="281160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91480" y="2811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2720" y="28116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24760" y="281160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145360" y="2811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256600" y="281160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77200" y="2811600"/>
            <a:ext cx="46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64240" y="5079960"/>
            <a:ext cx="22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64240" y="4727520"/>
            <a:ext cx="22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64240" y="402120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64240" y="366876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2880" y="5041800"/>
            <a:ext cx="22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612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5736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79400" y="503856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0180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1124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3364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55680" y="5038560"/>
            <a:ext cx="66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692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8932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136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22600" y="503856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4176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6380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7504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9708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1948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2892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5132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7336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8460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700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29040" y="5038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7040" y="5038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59080" y="503856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612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5736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9400" y="47005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80180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1124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3364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155680" y="4700520"/>
            <a:ext cx="66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6692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8932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136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22600" y="47005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4176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6380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7504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9708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1948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2892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5132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7336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8460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700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29040" y="47005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7040" y="47005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9080" y="47005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5728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6852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9056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1296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2240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4480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6684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7808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0048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2252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33760" y="3976560"/>
            <a:ext cx="74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52560" y="397656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87496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8620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0824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3064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4008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6248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4520" y="39765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9576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1780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40200" y="3976560"/>
            <a:ext cx="63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4820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70240" y="39765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4612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5736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79400" y="3624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0180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3364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55680" y="3624120"/>
            <a:ext cx="66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6692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8932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1136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622600" y="3624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176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6380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7504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9708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1948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2892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5132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7336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8460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700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29040" y="3624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7040" y="3624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59080" y="3624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7540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86280" y="507996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90868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3108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4196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64360" y="5079960"/>
            <a:ext cx="75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38496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9620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61824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740640" y="5079960"/>
            <a:ext cx="64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0080" y="507996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7068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9308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0396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636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448400" y="5079960"/>
            <a:ext cx="66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5964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82040" y="5079960"/>
            <a:ext cx="75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0264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13520" y="507996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35920" y="507996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156520" y="507996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267760" y="507996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88360" y="50799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675400" y="471960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7692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89932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21360" y="47181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3260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54640" y="47181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75240" y="471816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8648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0888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30920" y="471816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40360" y="47181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96132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83360" y="47181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9460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31664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39040" y="47181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5028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72320" y="47181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471816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90416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026560" y="471816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147160" y="47181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258040" y="47181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379000" y="47181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7540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86280" y="403236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0868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3108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4196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264360" y="403236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8496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9620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61824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740640" y="4032360"/>
            <a:ext cx="64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0080" y="40323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7068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9308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0396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2636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448400" y="403236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5964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82040" y="403236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0264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913520" y="403236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35920" y="40323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6520" y="40323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267760" y="40323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388360" y="40323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75400" y="365760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6280" y="3651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90868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31080" y="3651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4196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64360" y="3651120"/>
            <a:ext cx="75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84960" y="3651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9620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1824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40640" y="3651120"/>
            <a:ext cx="64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0080" y="3651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97068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93080" y="3651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0396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32636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48400" y="3651120"/>
            <a:ext cx="66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59640" y="3651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82040" y="3651120"/>
            <a:ext cx="759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802640" y="3651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913520" y="3651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035920" y="3651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156520" y="3651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67760" y="3651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64240" y="3657600"/>
            <a:ext cx="14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664240" y="5068800"/>
            <a:ext cx="22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64240" y="4716360"/>
            <a:ext cx="22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64240" y="4362480"/>
            <a:ext cx="223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4240" y="401004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664240" y="365760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64240" y="4362480"/>
            <a:ext cx="28130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664240" y="4340160"/>
            <a:ext cx="1440" cy="2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6373800" y="4340160"/>
            <a:ext cx="3240" cy="2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070760" y="4340160"/>
            <a:ext cx="1440" cy="2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780320" y="4340160"/>
            <a:ext cx="32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477280" y="4340160"/>
            <a:ext cx="14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19600" y="42958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19600" y="42958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329520" y="42735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329520" y="42735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9520" y="42512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29520" y="42512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329520" y="426240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329520" y="426240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29520" y="42292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329520" y="42292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9520" y="42735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329520" y="42735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37280" y="4540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37280" y="4540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037280" y="45291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037280" y="452916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37280" y="4540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37280" y="4540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037280" y="43513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37280" y="43070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37280" y="430704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037280" y="42958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37280" y="42958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37280" y="4240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37280" y="424008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37280" y="4262400"/>
            <a:ext cx="7776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37280" y="4262400"/>
            <a:ext cx="7776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37280" y="42847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037280" y="4284720"/>
            <a:ext cx="7776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46840" y="422928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46840" y="422928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746840" y="4208400"/>
            <a:ext cx="7812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746840" y="4208400"/>
            <a:ext cx="7812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46840" y="411012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46840" y="411012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46840" y="4429080"/>
            <a:ext cx="781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746840" y="4429080"/>
            <a:ext cx="78120" cy="88920"/>
          </a:xfrm>
          <a:custGeom>
            <a:avLst/>
            <a:gdLst/>
            <a:ahLst/>
            <a:rect l="l" t="t" r="r" b="b"/>
            <a:pathLst>
              <a:path w="42" h="48">
                <a:moveTo>
                  <a:pt x="18" y="0"/>
                </a:moveTo>
                <a:lnTo>
                  <a:pt x="42" y="24"/>
                </a:lnTo>
                <a:lnTo>
                  <a:pt x="18" y="48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746840" y="438480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46840" y="438480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24"/>
                </a:lnTo>
                <a:lnTo>
                  <a:pt x="18" y="42"/>
                </a:lnTo>
                <a:lnTo>
                  <a:pt x="0" y="24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46840" y="440676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46840" y="4406760"/>
            <a:ext cx="78120" cy="77760"/>
          </a:xfrm>
          <a:custGeom>
            <a:avLst/>
            <a:gdLst/>
            <a:ahLst/>
            <a:rect l="l" t="t" r="r" b="b"/>
            <a:pathLst>
              <a:path w="42" h="42">
                <a:moveTo>
                  <a:pt x="18" y="0"/>
                </a:moveTo>
                <a:lnTo>
                  <a:pt x="42" y="18"/>
                </a:lnTo>
                <a:lnTo>
                  <a:pt x="18" y="42"/>
                </a:lnTo>
                <a:lnTo>
                  <a:pt x="0" y="18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434960" y="3619440"/>
            <a:ext cx="18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34960" y="4689360"/>
            <a:ext cx="223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34960" y="4335480"/>
            <a:ext cx="223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34960" y="398304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34960" y="3630600"/>
            <a:ext cx="22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34960" y="4335480"/>
            <a:ext cx="2835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434960" y="4313160"/>
            <a:ext cx="1800" cy="2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144880" y="4313160"/>
            <a:ext cx="144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852640" y="4313160"/>
            <a:ext cx="1800" cy="2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3562200" y="4313160"/>
            <a:ext cx="180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270320" y="4313160"/>
            <a:ext cx="180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392120" y="449100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92120" y="449100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92120" y="463392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92120" y="463392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92120" y="461160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92120" y="461160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92120" y="4290840"/>
            <a:ext cx="87480" cy="78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92120" y="4290840"/>
            <a:ext cx="87480" cy="78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392120" y="462276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92120" y="462276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18"/>
                </a:lnTo>
                <a:lnTo>
                  <a:pt x="23" y="42"/>
                </a:lnTo>
                <a:lnTo>
                  <a:pt x="0" y="18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92120" y="432432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92120" y="4324320"/>
            <a:ext cx="87480" cy="77760"/>
          </a:xfrm>
          <a:custGeom>
            <a:avLst/>
            <a:gdLst/>
            <a:ahLst/>
            <a:rect l="l" t="t" r="r" b="b"/>
            <a:pathLst>
              <a:path w="47" h="42">
                <a:moveTo>
                  <a:pt x="23" y="0"/>
                </a:moveTo>
                <a:lnTo>
                  <a:pt x="47" y="24"/>
                </a:lnTo>
                <a:lnTo>
                  <a:pt x="23" y="42"/>
                </a:lnTo>
                <a:lnTo>
                  <a:pt x="0" y="24"/>
                </a:lnTo>
                <a:lnTo>
                  <a:pt x="23" y="0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00240" y="43466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100240" y="43466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00240" y="4346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100240" y="434664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00240" y="44020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00240" y="44020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00240" y="40719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100240" y="407196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00240" y="43243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00240" y="43243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116240"/>
            <a:ext cx="88920" cy="7488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00240" y="4116240"/>
            <a:ext cx="88920" cy="7488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08360" y="40942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08360" y="40942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08360" y="41911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08360" y="419112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08360" y="4160880"/>
            <a:ext cx="88920" cy="7452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08360" y="4160880"/>
            <a:ext cx="88920" cy="7452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08360" y="417996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08360" y="417996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08360" y="4202280"/>
            <a:ext cx="88920" cy="885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08360" y="4202280"/>
            <a:ext cx="88920" cy="885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08360" y="40942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08360" y="40942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18"/>
                </a:lnTo>
                <a:lnTo>
                  <a:pt x="24" y="41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08360" y="42908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808360" y="42908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08360" y="4138560"/>
            <a:ext cx="88920" cy="7452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08360" y="4138560"/>
            <a:ext cx="88920" cy="7452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08360" y="402732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08360" y="4027320"/>
            <a:ext cx="88920" cy="7812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08360" y="42688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808360" y="42688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08360" y="409428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4"/>
                </a:lnTo>
                <a:lnTo>
                  <a:pt x="24" y="47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08360" y="409428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4"/>
                </a:lnTo>
                <a:lnTo>
                  <a:pt x="24" y="47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17920" y="40384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17920" y="4038480"/>
            <a:ext cx="88920" cy="777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18"/>
                </a:lnTo>
                <a:lnTo>
                  <a:pt x="24" y="42"/>
                </a:lnTo>
                <a:lnTo>
                  <a:pt x="0" y="18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17920" y="414972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17920" y="414972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17920" y="4127400"/>
            <a:ext cx="88920" cy="7488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17920" y="4127400"/>
            <a:ext cx="88920" cy="7488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3"/>
                </a:lnTo>
                <a:lnTo>
                  <a:pt x="24" y="41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17920" y="414972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17920" y="4149720"/>
            <a:ext cx="88920" cy="8568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3"/>
                </a:lnTo>
                <a:lnTo>
                  <a:pt x="24" y="47"/>
                </a:lnTo>
                <a:lnTo>
                  <a:pt x="0" y="23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17920" y="45244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4"/>
                </a:lnTo>
                <a:lnTo>
                  <a:pt x="24" y="41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17920" y="4524480"/>
            <a:ext cx="88920" cy="759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0"/>
                </a:moveTo>
                <a:lnTo>
                  <a:pt x="48" y="24"/>
                </a:lnTo>
                <a:lnTo>
                  <a:pt x="24" y="41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17920" y="4756320"/>
            <a:ext cx="88920" cy="75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517920" y="4756320"/>
            <a:ext cx="88920" cy="75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4" y="0"/>
                </a:moveTo>
                <a:lnTo>
                  <a:pt x="48" y="24"/>
                </a:lnTo>
                <a:lnTo>
                  <a:pt x="24" y="42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226040" y="46004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226040" y="4600440"/>
            <a:ext cx="88920" cy="889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48" y="24"/>
                </a:lnTo>
                <a:lnTo>
                  <a:pt x="24" y="48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226040" y="4513320"/>
            <a:ext cx="88920" cy="8712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4"/>
                </a:lnTo>
                <a:lnTo>
                  <a:pt x="24" y="47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226040" y="4513320"/>
            <a:ext cx="88920" cy="87120"/>
          </a:xfrm>
          <a:custGeom>
            <a:avLst/>
            <a:gdLst/>
            <a:ahLst/>
            <a:rect l="l" t="t" r="r" b="b"/>
            <a:pathLst>
              <a:path w="48" h="47">
                <a:moveTo>
                  <a:pt x="24" y="0"/>
                </a:moveTo>
                <a:lnTo>
                  <a:pt x="48" y="24"/>
                </a:lnTo>
                <a:lnTo>
                  <a:pt x="24" y="47"/>
                </a:lnTo>
                <a:lnTo>
                  <a:pt x="0" y="24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40800" y="609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-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707880" y="685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-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391600" y="3648240"/>
            <a:ext cx="75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1219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23760" y="1552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2376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05040" y="26193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144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914400" y="29052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’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34080" y="29052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76840" y="2905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91240" y="2895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066680" y="51055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’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814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6672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658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800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51055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’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62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820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94840" y="5105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7800" y="29052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’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77480" y="29052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20240" y="2905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234640" y="2895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3348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42840" y="3838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942840" y="419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23760" y="49053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33480" y="4572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14440" y="240984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90680" y="2765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883120" y="281304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05520" y="281304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127920" y="2813040"/>
            <a:ext cx="64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37360" y="281304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357960" y="281304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769000" y="281304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3580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5784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80240" y="244476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8968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1028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32680" y="24447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4392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36596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488360" y="24447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9924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721640" y="24447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42240" y="244476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953480" y="24447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075520" y="24447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196120" y="244476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307360" y="244476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34240" y="24462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56280" y="24462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78680" y="2446200"/>
            <a:ext cx="64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88120" y="24462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408720" y="24462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819760" y="24462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91240" y="244800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2788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64992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72320" y="17305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8176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0236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24760" y="1730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3600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5804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480440" y="1730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59132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713720" y="173052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834320" y="1730520"/>
            <a:ext cx="66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45560" y="17305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067600" y="173052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88200" y="1730520"/>
            <a:ext cx="669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299440" y="1730520"/>
            <a:ext cx="763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925960" y="1731960"/>
            <a:ext cx="781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48360" y="17319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170760" y="1731960"/>
            <a:ext cx="64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280200" y="17319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0800" y="17319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11840" y="173196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83320" y="173340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52464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4704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769080" y="1365120"/>
            <a:ext cx="65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7852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99120" y="1365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21520" y="1365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3276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5480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477200" y="1365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588080" y="1365120"/>
            <a:ext cx="78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710480" y="1365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31080" y="1365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942320" y="136512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064360" y="1365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185320" y="1365120"/>
            <a:ext cx="66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296200" y="1365120"/>
            <a:ext cx="763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23080" y="13669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45120" y="13669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167520" y="1366920"/>
            <a:ext cx="65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76960" y="13669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97560" y="13669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808600" y="1366920"/>
            <a:ext cx="777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680080" y="1368360"/>
            <a:ext cx="777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33520" y="914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T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3520" y="3200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00"/>
                </a:solidFill>
                <a:latin typeface="Arial"/>
              </a:rPr>
              <a:t>m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447920" y="5943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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.9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83920" y="6019920"/>
            <a:ext cx="44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ithout effective correction term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16200000">
            <a:off x="-52200" y="2039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-C /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16200000">
            <a:off x="-75960" y="4055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-C /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680120" y="108576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3520" y="714240"/>
            <a:ext cx="830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57280" y="1390680"/>
            <a:ext cx="2486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9040" y="1390680"/>
            <a:ext cx="330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9680" y="160956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9680" y="180036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9680" y="201924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9680" y="222876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9680" y="30322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9680" y="325116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9680" y="34606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9680" y="36702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9960" y="387036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28560" y="4670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28560" y="4879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28560" y="50990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8560" y="53085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38280" y="55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8280" y="6257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0600" y="6657840"/>
            <a:ext cx="838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390680" y="1409760"/>
            <a:ext cx="153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7.380 (6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4.856 (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12.511 (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42960" y="3041640"/>
            <a:ext cx="1457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.96730 (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8983 (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3480 (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14691 (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95440" y="4657680"/>
            <a:ext cx="1352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13.111 (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00440" y="1409760"/>
            <a:ext cx="1200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7.9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45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.03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2.87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.68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3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0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43360" y="3041640"/>
            <a:ext cx="1085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9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8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3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5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3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00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0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895480" y="4657680"/>
            <a:ext cx="1087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93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65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36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31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36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25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20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0720" y="633420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.25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4760" y="1400040"/>
            <a:ext cx="61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800" y="3041640"/>
            <a:ext cx="40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9680" y="40798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0600" y="42829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-12600"/>
            <a:ext cx="38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verage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9680" y="243828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9680" y="2647800"/>
            <a:ext cx="330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19200" y="573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9200" y="5943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910960" y="106668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896840" y="6315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57280" y="1047600"/>
            <a:ext cx="2486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14800" y="1380960"/>
            <a:ext cx="153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5.81 (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267080" y="3013200"/>
            <a:ext cx="1457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176 (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4884 (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219560" y="4629240"/>
            <a:ext cx="1352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77040" y="1380960"/>
            <a:ext cx="115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106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5.88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5.4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8.00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3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39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9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19600" y="3013200"/>
            <a:ext cx="857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36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3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20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01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04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0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619600" y="4629240"/>
            <a:ext cx="90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73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0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562720" y="6305400"/>
            <a:ext cx="11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9676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20960" y="62866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89760" y="108252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05240" y="1387440"/>
            <a:ext cx="2276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528880" y="106380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305240" y="1044720"/>
            <a:ext cx="228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1440" y="6858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238880" y="1380960"/>
            <a:ext cx="1478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.5485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381800" y="3013200"/>
            <a:ext cx="1085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5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088040" y="1387440"/>
            <a:ext cx="1217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90720" y="106380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88040" y="1044720"/>
            <a:ext cx="1217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369200" y="6858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93920" y="6858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67080" y="533520"/>
            <a:ext cx="2286000" cy="6248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876240" y="159084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76240" y="18288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76240" y="201924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38080" y="3657600"/>
            <a:ext cx="685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63680" y="1600200"/>
            <a:ext cx="1546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68.888(5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3.415 (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4.85 (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357 (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23760" y="285768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23760" y="3057480"/>
            <a:ext cx="2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57600" y="1609560"/>
            <a:ext cx="13716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74.5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3.03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5.0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76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11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90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46205.499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244880" y="1603440"/>
            <a:ext cx="616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r>
              <a:rPr b="1" lang="en-US" sz="1400" spc="-1" strike="noStrike" baseline="42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914400" y="2638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61920" y="389556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66880" y="225756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 baseline="36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38760" y="-1260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fference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9000" y="1609560"/>
            <a:ext cx="124128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3.8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2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2.46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.22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0.138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80040" y="119700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57560" y="1501920"/>
            <a:ext cx="2485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10880" y="117792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7560" y="1158840"/>
            <a:ext cx="2485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21320" y="149868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982840" y="117468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21320" y="1155600"/>
            <a:ext cx="1752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291360" y="79704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17680" y="79704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809640"/>
            <a:ext cx="678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42840" y="466092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133640" y="4603680"/>
            <a:ext cx="243828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r>
              <a:rPr b="1" lang="en-US" sz="1400" spc="-1" strike="noStrike" baseline="42000">
                <a:solidFill>
                  <a:srgbClr val="ffffff"/>
                </a:solidFill>
                <a:latin typeface="Arial"/>
              </a:rPr>
              <a:t>-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9624.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r>
              <a:rPr b="1" lang="en-US" sz="1400" spc="-1" strike="noStrike" baseline="42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119853.1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r>
              <a:rPr b="1" lang="en-US" sz="1400" spc="-1" strike="noStrike" baseline="42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980100.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</a:t>
            </a:r>
            <a:r>
              <a:rPr b="1" lang="en-US" sz="1400" spc="-1" strike="noStrike" baseline="42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3683020.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Å                 1.346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33480" y="496584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33480" y="523224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933480" y="55468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981000" y="4591080"/>
            <a:ext cx="2467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80600" y="426708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81000" y="4286160"/>
            <a:ext cx="2467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009800" y="6248520"/>
            <a:ext cx="2438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05640" y="388620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otential of SH 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71840" y="6292800"/>
            <a:ext cx="31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a)  Fixed to the </a:t>
            </a:r>
            <a:r>
              <a:rPr b="1" i="1" lang="ja-JP" sz="16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22320" y="586440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05520" y="4267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6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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.9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Ss of ArSH : Average &amp; Difference potentials</a:t>
            </a:r>
            <a:endParaRPr b="1" lang="en-US" sz="28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195" name=""/>
          <p:cNvSpPr/>
          <p:nvPr/>
        </p:nvSpPr>
        <p:spPr>
          <a:xfrm>
            <a:off x="6015600" y="6392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91720" y="6431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044160" y="6440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96960" y="644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433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143360" y="18288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3360" y="6094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743120" y="3657600"/>
            <a:ext cx="4489560" cy="2652840"/>
          </a:xfrm>
          <a:custGeom>
            <a:avLst/>
            <a:gdLst/>
            <a:ahLst/>
            <a:rect l="l" t="t" r="r" b="b"/>
            <a:pathLst>
              <a:path w="1566" h="1043">
                <a:moveTo>
                  <a:pt x="782" y="1043"/>
                </a:moveTo>
                <a:lnTo>
                  <a:pt x="1566" y="1043"/>
                </a:lnTo>
                <a:lnTo>
                  <a:pt x="1566" y="0"/>
                </a:lnTo>
                <a:lnTo>
                  <a:pt x="0" y="0"/>
                </a:lnTo>
                <a:lnTo>
                  <a:pt x="0" y="1043"/>
                </a:lnTo>
                <a:lnTo>
                  <a:pt x="782" y="104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243240" y="6281640"/>
            <a:ext cx="1440" cy="1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732200" y="3665520"/>
            <a:ext cx="3240" cy="30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32200" y="3722760"/>
            <a:ext cx="324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32200" y="377028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32200" y="381780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732200" y="3871800"/>
            <a:ext cx="3240" cy="2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32200" y="3919680"/>
            <a:ext cx="3240" cy="2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732200" y="396720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732200" y="4022640"/>
            <a:ext cx="324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32200" y="407196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32200" y="411624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732200" y="4172040"/>
            <a:ext cx="3240" cy="21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32200" y="422100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32200" y="426708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732200" y="4325760"/>
            <a:ext cx="3240" cy="1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732200" y="437184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732200" y="4416480"/>
            <a:ext cx="3240" cy="31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32200" y="4475160"/>
            <a:ext cx="324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732200" y="4521240"/>
            <a:ext cx="3240" cy="30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732200" y="457056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732200" y="4626000"/>
            <a:ext cx="3240" cy="1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32200" y="467352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32200" y="4719600"/>
            <a:ext cx="324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32200" y="4775040"/>
            <a:ext cx="3240" cy="2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32200" y="482292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32200" y="487044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2200" y="4927680"/>
            <a:ext cx="3240" cy="1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32200" y="497196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32200" y="5019840"/>
            <a:ext cx="3240" cy="29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32200" y="5076720"/>
            <a:ext cx="3240" cy="1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32200" y="512280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32200" y="517212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732200" y="5227560"/>
            <a:ext cx="3240" cy="1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32200" y="5272200"/>
            <a:ext cx="3240" cy="31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732200" y="532116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732200" y="5376960"/>
            <a:ext cx="3240" cy="1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732200" y="542592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32200" y="547200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32200" y="5529240"/>
            <a:ext cx="324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732200" y="557676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32200" y="5621400"/>
            <a:ext cx="3240" cy="30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32200" y="5678640"/>
            <a:ext cx="3240" cy="20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732200" y="572616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732200" y="577368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32200" y="5829480"/>
            <a:ext cx="3240" cy="1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732200" y="5875200"/>
            <a:ext cx="3240" cy="30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732200" y="5923080"/>
            <a:ext cx="3240" cy="28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732200" y="5978520"/>
            <a:ext cx="3240" cy="1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32200" y="602784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32200" y="607392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32200" y="6127920"/>
            <a:ext cx="3240" cy="21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732200" y="6176880"/>
            <a:ext cx="3240" cy="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32200" y="6222960"/>
            <a:ext cx="3240" cy="27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732200" y="6281640"/>
            <a:ext cx="3240" cy="1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43120" y="6310440"/>
            <a:ext cx="4489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399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461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0415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3840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4460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4460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414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400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369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6431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399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399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353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9415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3840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3704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4324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24324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400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4369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4348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6385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7353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7353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4192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3876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70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1338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400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400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3369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323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385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353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73400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3400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83876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9370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03388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1404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3872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3872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323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430960" y="6310440"/>
            <a:ext cx="14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357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3400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308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73084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83740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93424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32520" y="6310440"/>
            <a:ext cx="324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135840" y="6310440"/>
            <a:ext cx="2880" cy="4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44600" y="6310440"/>
            <a:ext cx="32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741760" y="6310440"/>
            <a:ext cx="14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243240" y="6310440"/>
            <a:ext cx="14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735360" y="6310440"/>
            <a:ext cx="32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40080" y="6310440"/>
            <a:ext cx="32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734000" y="6310440"/>
            <a:ext cx="32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238720" y="6310440"/>
            <a:ext cx="14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730840" y="6310440"/>
            <a:ext cx="3240" cy="8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1671120" y="6310440"/>
            <a:ext cx="71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671120" y="5783400"/>
            <a:ext cx="7164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671120" y="5245200"/>
            <a:ext cx="7164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1671120" y="4719600"/>
            <a:ext cx="7164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671120" y="4184640"/>
            <a:ext cx="7164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97040" y="6289560"/>
            <a:ext cx="46080" cy="2088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6"/>
                </a:moveTo>
                <a:lnTo>
                  <a:pt x="3" y="6"/>
                </a:lnTo>
                <a:lnTo>
                  <a:pt x="3" y="6"/>
                </a:lnTo>
                <a:lnTo>
                  <a:pt x="7" y="3"/>
                </a:lnTo>
                <a:lnTo>
                  <a:pt x="7" y="3"/>
                </a:lnTo>
                <a:lnTo>
                  <a:pt x="10" y="3"/>
                </a:lnTo>
                <a:lnTo>
                  <a:pt x="10" y="0"/>
                </a:lnTo>
                <a:lnTo>
                  <a:pt x="13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643120" y="6262560"/>
            <a:ext cx="42840" cy="270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9"/>
                </a:moveTo>
                <a:lnTo>
                  <a:pt x="0" y="6"/>
                </a:lnTo>
                <a:lnTo>
                  <a:pt x="3" y="6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2" y="0"/>
                </a:lnTo>
                <a:lnTo>
                  <a:pt x="12" y="0"/>
                </a:lnTo>
                <a:lnTo>
                  <a:pt x="1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92520" y="6195960"/>
            <a:ext cx="2520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17720" y="6159600"/>
            <a:ext cx="88920" cy="3636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12"/>
                </a:moveTo>
                <a:lnTo>
                  <a:pt x="3" y="9"/>
                </a:lnTo>
                <a:lnTo>
                  <a:pt x="6" y="9"/>
                </a:lnTo>
                <a:lnTo>
                  <a:pt x="13" y="6"/>
                </a:lnTo>
                <a:lnTo>
                  <a:pt x="16" y="6"/>
                </a:lnTo>
                <a:lnTo>
                  <a:pt x="19" y="3"/>
                </a:lnTo>
                <a:lnTo>
                  <a:pt x="22" y="3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06640" y="6159600"/>
            <a:ext cx="972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916360" y="6119640"/>
            <a:ext cx="79200" cy="39960"/>
          </a:xfrm>
          <a:custGeom>
            <a:avLst/>
            <a:gdLst/>
            <a:ahLst/>
            <a:rect l="l" t="t" r="r" b="b"/>
            <a:pathLst>
              <a:path w="28" h="13">
                <a:moveTo>
                  <a:pt x="0" y="13"/>
                </a:moveTo>
                <a:lnTo>
                  <a:pt x="3" y="10"/>
                </a:lnTo>
                <a:lnTo>
                  <a:pt x="3" y="10"/>
                </a:lnTo>
                <a:lnTo>
                  <a:pt x="6" y="10"/>
                </a:lnTo>
                <a:lnTo>
                  <a:pt x="12" y="7"/>
                </a:lnTo>
                <a:lnTo>
                  <a:pt x="16" y="7"/>
                </a:lnTo>
                <a:lnTo>
                  <a:pt x="19" y="3"/>
                </a:lnTo>
                <a:lnTo>
                  <a:pt x="22" y="3"/>
                </a:lnTo>
                <a:lnTo>
                  <a:pt x="25" y="3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005280" y="6100920"/>
            <a:ext cx="71280" cy="18720"/>
          </a:xfrm>
          <a:custGeom>
            <a:avLst/>
            <a:gdLst/>
            <a:ahLst/>
            <a:rect l="l" t="t" r="r" b="b"/>
            <a:pathLst>
              <a:path w="25" h="6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76560" y="6093000"/>
            <a:ext cx="17640" cy="792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3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094200" y="6073920"/>
            <a:ext cx="85680" cy="1908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6"/>
                </a:moveTo>
                <a:lnTo>
                  <a:pt x="3" y="6"/>
                </a:lnTo>
                <a:lnTo>
                  <a:pt x="3" y="6"/>
                </a:lnTo>
                <a:lnTo>
                  <a:pt x="6" y="6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3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179880" y="605484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6"/>
                </a:moveTo>
                <a:lnTo>
                  <a:pt x="4" y="6"/>
                </a:lnTo>
                <a:lnTo>
                  <a:pt x="7" y="3"/>
                </a:lnTo>
                <a:lnTo>
                  <a:pt x="10" y="3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8800" y="6045120"/>
            <a:ext cx="54000" cy="9720"/>
          </a:xfrm>
          <a:custGeom>
            <a:avLst/>
            <a:gdLst/>
            <a:ahLst/>
            <a:rect l="l" t="t" r="r" b="b"/>
            <a:pathLst>
              <a:path w="19" h="3">
                <a:moveTo>
                  <a:pt x="0" y="3"/>
                </a:move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9" y="3"/>
                </a:lnTo>
                <a:lnTo>
                  <a:pt x="13" y="0"/>
                </a:lnTo>
                <a:lnTo>
                  <a:pt x="16" y="0"/>
                </a:lnTo>
                <a:lnTo>
                  <a:pt x="16" y="0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322800" y="6045120"/>
            <a:ext cx="34920" cy="468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57720" y="6027840"/>
            <a:ext cx="88920" cy="172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6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22" y="3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46640" y="6018120"/>
            <a:ext cx="96840" cy="9720"/>
          </a:xfrm>
          <a:custGeom>
            <a:avLst/>
            <a:gdLst/>
            <a:ahLst/>
            <a:rect l="l" t="t" r="r" b="b"/>
            <a:pathLst>
              <a:path w="34" h="3">
                <a:moveTo>
                  <a:pt x="0" y="3"/>
                </a:move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43480" y="6005520"/>
            <a:ext cx="85680" cy="1260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9" y="4"/>
                </a:lnTo>
                <a:lnTo>
                  <a:pt x="12" y="4"/>
                </a:lnTo>
                <a:lnTo>
                  <a:pt x="15" y="4"/>
                </a:lnTo>
                <a:lnTo>
                  <a:pt x="18" y="4"/>
                </a:lnTo>
                <a:lnTo>
                  <a:pt x="21" y="4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629160" y="600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18080" y="600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07000" y="5997600"/>
            <a:ext cx="88560" cy="792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3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5" y="3"/>
                </a:lnTo>
                <a:lnTo>
                  <a:pt x="18" y="3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895560" y="600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984480" y="6005520"/>
            <a:ext cx="95400" cy="4680"/>
          </a:xfrm>
          <a:custGeom>
            <a:avLst/>
            <a:gdLst/>
            <a:ahLst/>
            <a:rect l="l" t="t" r="r" b="b"/>
            <a:pathLst>
              <a:path w="33" h="0">
                <a:moveTo>
                  <a:pt x="0" y="0"/>
                </a:move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079880" y="600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68800" y="6005520"/>
            <a:ext cx="88920" cy="12600"/>
          </a:xfrm>
          <a:custGeom>
            <a:avLst/>
            <a:gdLst/>
            <a:ahLst/>
            <a:rect l="l" t="t" r="r" b="b"/>
            <a:pathLst>
              <a:path w="31" h="4">
                <a:moveTo>
                  <a:pt x="0" y="0"/>
                </a:moveTo>
                <a:lnTo>
                  <a:pt x="3" y="0"/>
                </a:lnTo>
                <a:lnTo>
                  <a:pt x="6" y="4"/>
                </a:lnTo>
                <a:lnTo>
                  <a:pt x="9" y="4"/>
                </a:lnTo>
                <a:lnTo>
                  <a:pt x="12" y="4"/>
                </a:lnTo>
                <a:lnTo>
                  <a:pt x="16" y="4"/>
                </a:lnTo>
                <a:lnTo>
                  <a:pt x="22" y="4"/>
                </a:lnTo>
                <a:lnTo>
                  <a:pt x="25" y="4"/>
                </a:lnTo>
                <a:lnTo>
                  <a:pt x="28" y="4"/>
                </a:lnTo>
                <a:lnTo>
                  <a:pt x="31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257720" y="601812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3"/>
                </a:lnTo>
                <a:lnTo>
                  <a:pt x="18" y="3"/>
                </a:lnTo>
                <a:lnTo>
                  <a:pt x="21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346640" y="6027840"/>
            <a:ext cx="85680" cy="936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3"/>
                </a:lnTo>
                <a:lnTo>
                  <a:pt x="24" y="3"/>
                </a:lnTo>
                <a:lnTo>
                  <a:pt x="27" y="3"/>
                </a:lnTo>
                <a:lnTo>
                  <a:pt x="3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32320" y="6037200"/>
            <a:ext cx="46080" cy="792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7" y="3"/>
                </a:lnTo>
                <a:lnTo>
                  <a:pt x="7" y="3"/>
                </a:lnTo>
                <a:lnTo>
                  <a:pt x="10" y="3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6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78400" y="6045120"/>
            <a:ext cx="42840" cy="9720"/>
          </a:xfrm>
          <a:custGeom>
            <a:avLst/>
            <a:gdLst/>
            <a:ahLst/>
            <a:rect l="l" t="t" r="r" b="b"/>
            <a:pathLst>
              <a:path w="15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5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21240" y="6054840"/>
            <a:ext cx="96840" cy="1908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13" y="0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5" y="3"/>
                </a:lnTo>
                <a:lnTo>
                  <a:pt x="28" y="6"/>
                </a:lnTo>
                <a:lnTo>
                  <a:pt x="34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18080" y="607392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lnTo>
                  <a:pt x="15" y="3"/>
                </a:lnTo>
                <a:lnTo>
                  <a:pt x="19" y="3"/>
                </a:lnTo>
                <a:lnTo>
                  <a:pt x="22" y="3"/>
                </a:lnTo>
                <a:lnTo>
                  <a:pt x="25" y="6"/>
                </a:lnTo>
                <a:lnTo>
                  <a:pt x="28" y="6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07000" y="6093000"/>
            <a:ext cx="27000" cy="79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34000" y="6100920"/>
            <a:ext cx="61920" cy="18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9" y="3"/>
                </a:lnTo>
                <a:lnTo>
                  <a:pt x="22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795920" y="6119640"/>
            <a:ext cx="87120" cy="30240"/>
          </a:xfrm>
          <a:custGeom>
            <a:avLst/>
            <a:gdLst/>
            <a:ahLst/>
            <a:rect l="l" t="t" r="r" b="b"/>
            <a:pathLst>
              <a:path w="30" h="1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7"/>
                </a:lnTo>
                <a:lnTo>
                  <a:pt x="24" y="7"/>
                </a:lnTo>
                <a:lnTo>
                  <a:pt x="27" y="7"/>
                </a:lnTo>
                <a:lnTo>
                  <a:pt x="30" y="1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83040" y="6149880"/>
            <a:ext cx="28800" cy="972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11840" y="6159600"/>
            <a:ext cx="60120" cy="1728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3"/>
                </a:lnTo>
                <a:lnTo>
                  <a:pt x="15" y="3"/>
                </a:lnTo>
                <a:lnTo>
                  <a:pt x="15" y="3"/>
                </a:lnTo>
                <a:lnTo>
                  <a:pt x="18" y="6"/>
                </a:lnTo>
                <a:lnTo>
                  <a:pt x="2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71960" y="6176880"/>
            <a:ext cx="71640" cy="2880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0"/>
                </a:moveTo>
                <a:lnTo>
                  <a:pt x="3" y="0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6" y="6"/>
                </a:lnTo>
                <a:lnTo>
                  <a:pt x="19" y="6"/>
                </a:lnTo>
                <a:lnTo>
                  <a:pt x="22" y="9"/>
                </a:lnTo>
                <a:lnTo>
                  <a:pt x="22" y="9"/>
                </a:lnTo>
                <a:lnTo>
                  <a:pt x="25" y="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043600" y="6205680"/>
            <a:ext cx="25200" cy="936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068800" y="6215040"/>
            <a:ext cx="88920" cy="4752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0"/>
                </a:moveTo>
                <a:lnTo>
                  <a:pt x="3" y="3"/>
                </a:lnTo>
                <a:lnTo>
                  <a:pt x="6" y="3"/>
                </a:lnTo>
                <a:lnTo>
                  <a:pt x="9" y="6"/>
                </a:lnTo>
                <a:lnTo>
                  <a:pt x="12" y="6"/>
                </a:lnTo>
                <a:lnTo>
                  <a:pt x="15" y="9"/>
                </a:lnTo>
                <a:lnTo>
                  <a:pt x="22" y="9"/>
                </a:lnTo>
                <a:lnTo>
                  <a:pt x="25" y="12"/>
                </a:lnTo>
                <a:lnTo>
                  <a:pt x="28" y="12"/>
                </a:lnTo>
                <a:lnTo>
                  <a:pt x="31" y="1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157720" y="626256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157720" y="6262560"/>
            <a:ext cx="88920" cy="47880"/>
          </a:xfrm>
          <a:custGeom>
            <a:avLst/>
            <a:gdLst/>
            <a:ahLst/>
            <a:rect l="l" t="t" r="r" b="b"/>
            <a:pathLst>
              <a:path w="31" h="15">
                <a:moveTo>
                  <a:pt x="0" y="0"/>
                </a:moveTo>
                <a:lnTo>
                  <a:pt x="3" y="0"/>
                </a:lnTo>
                <a:lnTo>
                  <a:pt x="6" y="3"/>
                </a:lnTo>
                <a:lnTo>
                  <a:pt x="9" y="3"/>
                </a:lnTo>
                <a:lnTo>
                  <a:pt x="12" y="6"/>
                </a:lnTo>
                <a:lnTo>
                  <a:pt x="15" y="9"/>
                </a:lnTo>
                <a:lnTo>
                  <a:pt x="21" y="9"/>
                </a:lnTo>
                <a:lnTo>
                  <a:pt x="24" y="12"/>
                </a:lnTo>
                <a:lnTo>
                  <a:pt x="28" y="12"/>
                </a:lnTo>
                <a:lnTo>
                  <a:pt x="31" y="1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579760" y="6272280"/>
            <a:ext cx="63360" cy="381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3" y="12"/>
                </a:lnTo>
                <a:lnTo>
                  <a:pt x="6" y="9"/>
                </a:lnTo>
                <a:lnTo>
                  <a:pt x="9" y="9"/>
                </a:lnTo>
                <a:lnTo>
                  <a:pt x="13" y="6"/>
                </a:lnTo>
                <a:lnTo>
                  <a:pt x="13" y="6"/>
                </a:lnTo>
                <a:lnTo>
                  <a:pt x="16" y="3"/>
                </a:lnTo>
                <a:lnTo>
                  <a:pt x="19" y="3"/>
                </a:lnTo>
                <a:lnTo>
                  <a:pt x="19" y="3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643120" y="6262560"/>
            <a:ext cx="2556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668680" y="6222960"/>
            <a:ext cx="63360" cy="39600"/>
          </a:xfrm>
          <a:custGeom>
            <a:avLst/>
            <a:gdLst/>
            <a:ahLst/>
            <a:rect l="l" t="t" r="r" b="b"/>
            <a:pathLst>
              <a:path w="22" h="13">
                <a:moveTo>
                  <a:pt x="0" y="13"/>
                </a:moveTo>
                <a:lnTo>
                  <a:pt x="0" y="9"/>
                </a:lnTo>
                <a:lnTo>
                  <a:pt x="3" y="9"/>
                </a:lnTo>
                <a:lnTo>
                  <a:pt x="6" y="9"/>
                </a:lnTo>
                <a:lnTo>
                  <a:pt x="9" y="6"/>
                </a:lnTo>
                <a:lnTo>
                  <a:pt x="12" y="6"/>
                </a:lnTo>
                <a:lnTo>
                  <a:pt x="12" y="3"/>
                </a:lnTo>
                <a:lnTo>
                  <a:pt x="15" y="3"/>
                </a:lnTo>
                <a:lnTo>
                  <a:pt x="18" y="0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66960" y="6176880"/>
            <a:ext cx="50760" cy="28800"/>
          </a:xfrm>
          <a:custGeom>
            <a:avLst/>
            <a:gdLst/>
            <a:ahLst/>
            <a:rect l="l" t="t" r="r" b="b"/>
            <a:pathLst>
              <a:path w="18" h="9">
                <a:moveTo>
                  <a:pt x="0" y="9"/>
                </a:moveTo>
                <a:lnTo>
                  <a:pt x="0" y="9"/>
                </a:lnTo>
                <a:lnTo>
                  <a:pt x="3" y="9"/>
                </a:lnTo>
                <a:lnTo>
                  <a:pt x="6" y="6"/>
                </a:lnTo>
                <a:lnTo>
                  <a:pt x="6" y="6"/>
                </a:lnTo>
                <a:lnTo>
                  <a:pt x="9" y="6"/>
                </a:lnTo>
                <a:lnTo>
                  <a:pt x="12" y="3"/>
                </a:lnTo>
                <a:lnTo>
                  <a:pt x="15" y="3"/>
                </a:lnTo>
                <a:lnTo>
                  <a:pt x="15" y="3"/>
                </a:lnTo>
                <a:lnTo>
                  <a:pt x="1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17720" y="6159600"/>
            <a:ext cx="73080" cy="17280"/>
          </a:xfrm>
          <a:custGeom>
            <a:avLst/>
            <a:gdLst/>
            <a:ahLst/>
            <a:rect l="l" t="t" r="r" b="b"/>
            <a:pathLst>
              <a:path w="25" h="6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90800" y="6140520"/>
            <a:ext cx="15840" cy="1908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06640" y="6110280"/>
            <a:ext cx="88920" cy="30240"/>
          </a:xfrm>
          <a:custGeom>
            <a:avLst/>
            <a:gdLst/>
            <a:ahLst/>
            <a:rect l="l" t="t" r="r" b="b"/>
            <a:pathLst>
              <a:path w="31" h="10">
                <a:moveTo>
                  <a:pt x="0" y="10"/>
                </a:moveTo>
                <a:lnTo>
                  <a:pt x="3" y="10"/>
                </a:lnTo>
                <a:lnTo>
                  <a:pt x="6" y="10"/>
                </a:lnTo>
                <a:lnTo>
                  <a:pt x="9" y="6"/>
                </a:lnTo>
                <a:lnTo>
                  <a:pt x="15" y="6"/>
                </a:lnTo>
                <a:lnTo>
                  <a:pt x="19" y="3"/>
                </a:lnTo>
                <a:lnTo>
                  <a:pt x="22" y="3"/>
                </a:lnTo>
                <a:lnTo>
                  <a:pt x="25" y="3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05280" y="6100920"/>
            <a:ext cx="33120" cy="936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3"/>
                </a:moveTo>
                <a:lnTo>
                  <a:pt x="0" y="3"/>
                </a:lnTo>
                <a:lnTo>
                  <a:pt x="3" y="3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38400" y="6083280"/>
            <a:ext cx="55800" cy="17640"/>
          </a:xfrm>
          <a:custGeom>
            <a:avLst/>
            <a:gdLst/>
            <a:ahLst/>
            <a:rect l="l" t="t" r="r" b="b"/>
            <a:pathLst>
              <a:path w="19" h="6">
                <a:moveTo>
                  <a:pt x="0" y="6"/>
                </a:moveTo>
                <a:lnTo>
                  <a:pt x="3" y="6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3" y="3"/>
                </a:lnTo>
                <a:lnTo>
                  <a:pt x="16" y="0"/>
                </a:lnTo>
                <a:lnTo>
                  <a:pt x="1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094200" y="6066000"/>
            <a:ext cx="85680" cy="1728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79880" y="6045120"/>
            <a:ext cx="79200" cy="2088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6"/>
                </a:moveTo>
                <a:lnTo>
                  <a:pt x="4" y="6"/>
                </a:lnTo>
                <a:lnTo>
                  <a:pt x="7" y="3"/>
                </a:lnTo>
                <a:lnTo>
                  <a:pt x="10" y="3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5" y="0"/>
                </a:lnTo>
                <a:lnTo>
                  <a:pt x="25" y="0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8800" y="6027840"/>
            <a:ext cx="88920" cy="172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6"/>
                </a:moveTo>
                <a:lnTo>
                  <a:pt x="3" y="6"/>
                </a:lnTo>
                <a:lnTo>
                  <a:pt x="6" y="6"/>
                </a:lnTo>
                <a:lnTo>
                  <a:pt x="9" y="3"/>
                </a:lnTo>
                <a:lnTo>
                  <a:pt x="13" y="3"/>
                </a:lnTo>
                <a:lnTo>
                  <a:pt x="16" y="3"/>
                </a:lnTo>
                <a:lnTo>
                  <a:pt x="19" y="3"/>
                </a:lnTo>
                <a:lnTo>
                  <a:pt x="25" y="3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57720" y="601812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3"/>
                </a:moveTo>
                <a:lnTo>
                  <a:pt x="3" y="3"/>
                </a:lnTo>
                <a:lnTo>
                  <a:pt x="6" y="3"/>
                </a:lnTo>
                <a:lnTo>
                  <a:pt x="12" y="3"/>
                </a:lnTo>
                <a:lnTo>
                  <a:pt x="15" y="3"/>
                </a:lnTo>
                <a:lnTo>
                  <a:pt x="18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446640" y="6005520"/>
            <a:ext cx="96840" cy="1260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4"/>
                </a:moveTo>
                <a:lnTo>
                  <a:pt x="6" y="4"/>
                </a:lnTo>
                <a:lnTo>
                  <a:pt x="9" y="4"/>
                </a:lnTo>
                <a:lnTo>
                  <a:pt x="12" y="4"/>
                </a:lnTo>
                <a:lnTo>
                  <a:pt x="15" y="4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543480" y="5997600"/>
            <a:ext cx="85680" cy="792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29160" y="599760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8080" y="599760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07000" y="5987880"/>
            <a:ext cx="63360" cy="9720"/>
          </a:xfrm>
          <a:custGeom>
            <a:avLst/>
            <a:gdLst/>
            <a:ahLst/>
            <a:rect l="l" t="t" r="r" b="b"/>
            <a:pathLst>
              <a:path w="22" h="3">
                <a:moveTo>
                  <a:pt x="0" y="3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5" y="0"/>
                </a:lnTo>
                <a:lnTo>
                  <a:pt x="18" y="0"/>
                </a:lnTo>
                <a:lnTo>
                  <a:pt x="22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870360" y="5987880"/>
            <a:ext cx="2520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5560" y="5987880"/>
            <a:ext cx="2700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922560" y="5997600"/>
            <a:ext cx="61920" cy="3240"/>
          </a:xfrm>
          <a:custGeom>
            <a:avLst/>
            <a:gdLst/>
            <a:ahLst/>
            <a:rect l="l" t="t" r="r" b="b"/>
            <a:pathLst>
              <a:path w="22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18" y="0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84480" y="5997600"/>
            <a:ext cx="95400" cy="3240"/>
          </a:xfrm>
          <a:custGeom>
            <a:avLst/>
            <a:gdLst/>
            <a:ahLst/>
            <a:rect l="l" t="t" r="r" b="b"/>
            <a:pathLst>
              <a:path w="33" h="0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079880" y="599760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168800" y="5997600"/>
            <a:ext cx="88920" cy="792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lnTo>
                  <a:pt x="12" y="3"/>
                </a:lnTo>
                <a:lnTo>
                  <a:pt x="16" y="3"/>
                </a:lnTo>
                <a:lnTo>
                  <a:pt x="22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257720" y="6005520"/>
            <a:ext cx="88920" cy="12600"/>
          </a:xfrm>
          <a:custGeom>
            <a:avLst/>
            <a:gdLst/>
            <a:ahLst/>
            <a:rect l="l" t="t" r="r" b="b"/>
            <a:pathLst>
              <a:path w="31" h="4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8" y="4"/>
                </a:lnTo>
                <a:lnTo>
                  <a:pt x="21" y="4"/>
                </a:lnTo>
                <a:lnTo>
                  <a:pt x="25" y="4"/>
                </a:lnTo>
                <a:lnTo>
                  <a:pt x="28" y="4"/>
                </a:lnTo>
                <a:lnTo>
                  <a:pt x="31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346640" y="6018120"/>
            <a:ext cx="85680" cy="972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5" y="3"/>
                </a:lnTo>
                <a:lnTo>
                  <a:pt x="18" y="3"/>
                </a:lnTo>
                <a:lnTo>
                  <a:pt x="21" y="3"/>
                </a:lnTo>
                <a:lnTo>
                  <a:pt x="24" y="3"/>
                </a:lnTo>
                <a:lnTo>
                  <a:pt x="27" y="3"/>
                </a:lnTo>
                <a:lnTo>
                  <a:pt x="3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32320" y="6027840"/>
            <a:ext cx="88920" cy="172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7" y="0"/>
                </a:lnTo>
                <a:lnTo>
                  <a:pt x="10" y="3"/>
                </a:lnTo>
                <a:lnTo>
                  <a:pt x="13" y="3"/>
                </a:lnTo>
                <a:lnTo>
                  <a:pt x="16" y="3"/>
                </a:lnTo>
                <a:lnTo>
                  <a:pt x="22" y="3"/>
                </a:lnTo>
                <a:lnTo>
                  <a:pt x="25" y="3"/>
                </a:lnTo>
                <a:lnTo>
                  <a:pt x="28" y="6"/>
                </a:lnTo>
                <a:lnTo>
                  <a:pt x="31" y="6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21240" y="6045120"/>
            <a:ext cx="17280" cy="468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538520" y="6045120"/>
            <a:ext cx="79560" cy="2088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7" y="3"/>
                </a:lnTo>
                <a:lnTo>
                  <a:pt x="10" y="3"/>
                </a:lnTo>
                <a:lnTo>
                  <a:pt x="13" y="3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8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18080" y="6066000"/>
            <a:ext cx="88920" cy="172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3"/>
                </a:lnTo>
                <a:lnTo>
                  <a:pt x="15" y="3"/>
                </a:lnTo>
                <a:lnTo>
                  <a:pt x="22" y="3"/>
                </a:lnTo>
                <a:lnTo>
                  <a:pt x="25" y="3"/>
                </a:lnTo>
                <a:lnTo>
                  <a:pt x="28" y="6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707000" y="6083280"/>
            <a:ext cx="60120" cy="1764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5" y="3"/>
                </a:lnTo>
                <a:lnTo>
                  <a:pt x="18" y="3"/>
                </a:lnTo>
                <a:lnTo>
                  <a:pt x="21" y="6"/>
                </a:lnTo>
                <a:lnTo>
                  <a:pt x="2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67120" y="6100920"/>
            <a:ext cx="28800" cy="288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95920" y="6100920"/>
            <a:ext cx="87120" cy="27000"/>
          </a:xfrm>
          <a:custGeom>
            <a:avLst/>
            <a:gdLst/>
            <a:ahLst/>
            <a:rect l="l" t="t" r="r" b="b"/>
            <a:pathLst>
              <a:path w="30" h="9">
                <a:moveTo>
                  <a:pt x="0" y="0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2" y="6"/>
                </a:lnTo>
                <a:lnTo>
                  <a:pt x="18" y="6"/>
                </a:lnTo>
                <a:lnTo>
                  <a:pt x="21" y="6"/>
                </a:lnTo>
                <a:lnTo>
                  <a:pt x="24" y="9"/>
                </a:lnTo>
                <a:lnTo>
                  <a:pt x="27" y="9"/>
                </a:lnTo>
                <a:lnTo>
                  <a:pt x="30" y="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883040" y="6127920"/>
            <a:ext cx="54000" cy="31680"/>
          </a:xfrm>
          <a:custGeom>
            <a:avLst/>
            <a:gdLst/>
            <a:ahLst/>
            <a:rect l="l" t="t" r="r" b="b"/>
            <a:pathLst>
              <a:path w="19" h="10">
                <a:moveTo>
                  <a:pt x="0" y="0"/>
                </a:moveTo>
                <a:lnTo>
                  <a:pt x="4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3" y="7"/>
                </a:lnTo>
                <a:lnTo>
                  <a:pt x="16" y="7"/>
                </a:lnTo>
                <a:lnTo>
                  <a:pt x="16" y="7"/>
                </a:lnTo>
                <a:lnTo>
                  <a:pt x="19" y="7"/>
                </a:lnTo>
                <a:lnTo>
                  <a:pt x="19" y="1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937040" y="6159600"/>
            <a:ext cx="34920" cy="792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3"/>
                </a:lnTo>
                <a:lnTo>
                  <a:pt x="12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71960" y="6167520"/>
            <a:ext cx="96840" cy="3816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0"/>
                </a:moveTo>
                <a:lnTo>
                  <a:pt x="3" y="0"/>
                </a:lnTo>
                <a:lnTo>
                  <a:pt x="9" y="3"/>
                </a:lnTo>
                <a:lnTo>
                  <a:pt x="13" y="3"/>
                </a:lnTo>
                <a:lnTo>
                  <a:pt x="16" y="6"/>
                </a:lnTo>
                <a:lnTo>
                  <a:pt x="19" y="6"/>
                </a:lnTo>
                <a:lnTo>
                  <a:pt x="22" y="9"/>
                </a:lnTo>
                <a:lnTo>
                  <a:pt x="28" y="9"/>
                </a:lnTo>
                <a:lnTo>
                  <a:pt x="31" y="9"/>
                </a:lnTo>
                <a:lnTo>
                  <a:pt x="34" y="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068800" y="6205680"/>
            <a:ext cx="32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068800" y="6205680"/>
            <a:ext cx="88920" cy="3636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0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2" y="6"/>
                </a:lnTo>
                <a:lnTo>
                  <a:pt x="15" y="6"/>
                </a:lnTo>
                <a:lnTo>
                  <a:pt x="22" y="9"/>
                </a:lnTo>
                <a:lnTo>
                  <a:pt x="25" y="9"/>
                </a:lnTo>
                <a:lnTo>
                  <a:pt x="28" y="12"/>
                </a:lnTo>
                <a:lnTo>
                  <a:pt x="31" y="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157720" y="6242040"/>
            <a:ext cx="17640" cy="2052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0"/>
                </a:move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7"/>
                </a:lnTo>
                <a:lnTo>
                  <a:pt x="6" y="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175360" y="6262560"/>
            <a:ext cx="71280" cy="36720"/>
          </a:xfrm>
          <a:custGeom>
            <a:avLst/>
            <a:gdLst/>
            <a:ahLst/>
            <a:rect l="l" t="t" r="r" b="b"/>
            <a:pathLst>
              <a:path w="25" h="12">
                <a:moveTo>
                  <a:pt x="0" y="0"/>
                </a:moveTo>
                <a:lnTo>
                  <a:pt x="3" y="0"/>
                </a:ln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5" y="6"/>
                </a:lnTo>
                <a:lnTo>
                  <a:pt x="15" y="6"/>
                </a:lnTo>
                <a:lnTo>
                  <a:pt x="18" y="9"/>
                </a:lnTo>
                <a:lnTo>
                  <a:pt x="22" y="9"/>
                </a:lnTo>
                <a:lnTo>
                  <a:pt x="25" y="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563920" y="6262560"/>
            <a:ext cx="79200" cy="4788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15"/>
                </a:moveTo>
                <a:lnTo>
                  <a:pt x="6" y="15"/>
                </a:lnTo>
                <a:lnTo>
                  <a:pt x="9" y="12"/>
                </a:lnTo>
                <a:lnTo>
                  <a:pt x="12" y="9"/>
                </a:lnTo>
                <a:lnTo>
                  <a:pt x="15" y="6"/>
                </a:lnTo>
                <a:lnTo>
                  <a:pt x="19" y="6"/>
                </a:lnTo>
                <a:lnTo>
                  <a:pt x="22" y="3"/>
                </a:lnTo>
                <a:lnTo>
                  <a:pt x="25" y="3"/>
                </a:lnTo>
                <a:lnTo>
                  <a:pt x="25" y="0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643120" y="626256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43120" y="6215040"/>
            <a:ext cx="88920" cy="4752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6"/>
                </a:moveTo>
                <a:lnTo>
                  <a:pt x="3" y="12"/>
                </a:lnTo>
                <a:lnTo>
                  <a:pt x="6" y="12"/>
                </a:lnTo>
                <a:lnTo>
                  <a:pt x="9" y="9"/>
                </a:lnTo>
                <a:lnTo>
                  <a:pt x="15" y="9"/>
                </a:lnTo>
                <a:lnTo>
                  <a:pt x="18" y="6"/>
                </a:lnTo>
                <a:lnTo>
                  <a:pt x="21" y="3"/>
                </a:lnTo>
                <a:lnTo>
                  <a:pt x="24" y="3"/>
                </a:lnTo>
                <a:lnTo>
                  <a:pt x="27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741760" y="6167520"/>
            <a:ext cx="75960" cy="38160"/>
          </a:xfrm>
          <a:custGeom>
            <a:avLst/>
            <a:gdLst/>
            <a:ahLst/>
            <a:rect l="l" t="t" r="r" b="b"/>
            <a:pathLst>
              <a:path w="27" h="12">
                <a:moveTo>
                  <a:pt x="0" y="12"/>
                </a:moveTo>
                <a:lnTo>
                  <a:pt x="3" y="12"/>
                </a:lnTo>
                <a:lnTo>
                  <a:pt x="6" y="9"/>
                </a:lnTo>
                <a:lnTo>
                  <a:pt x="9" y="9"/>
                </a:lnTo>
                <a:lnTo>
                  <a:pt x="12" y="6"/>
                </a:lnTo>
                <a:lnTo>
                  <a:pt x="15" y="6"/>
                </a:lnTo>
                <a:lnTo>
                  <a:pt x="18" y="3"/>
                </a:lnTo>
                <a:lnTo>
                  <a:pt x="21" y="3"/>
                </a:lnTo>
                <a:lnTo>
                  <a:pt x="24" y="0"/>
                </a:lnTo>
                <a:lnTo>
                  <a:pt x="27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817720" y="6159600"/>
            <a:ext cx="38160" cy="792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3"/>
                </a:moveTo>
                <a:lnTo>
                  <a:pt x="3" y="3"/>
                </a:lnTo>
                <a:lnTo>
                  <a:pt x="3" y="3"/>
                </a:lnTo>
                <a:lnTo>
                  <a:pt x="6" y="0"/>
                </a:lnTo>
                <a:lnTo>
                  <a:pt x="6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855880" y="6127920"/>
            <a:ext cx="50760" cy="3168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10"/>
                </a:moveTo>
                <a:lnTo>
                  <a:pt x="3" y="7"/>
                </a:lnTo>
                <a:lnTo>
                  <a:pt x="3" y="7"/>
                </a:lnTo>
                <a:lnTo>
                  <a:pt x="6" y="7"/>
                </a:lnTo>
                <a:lnTo>
                  <a:pt x="9" y="7"/>
                </a:lnTo>
                <a:lnTo>
                  <a:pt x="9" y="4"/>
                </a:lnTo>
                <a:lnTo>
                  <a:pt x="12" y="4"/>
                </a:lnTo>
                <a:lnTo>
                  <a:pt x="15" y="4"/>
                </a:lnTo>
                <a:lnTo>
                  <a:pt x="15" y="0"/>
                </a:lnTo>
                <a:lnTo>
                  <a:pt x="1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06640" y="6100920"/>
            <a:ext cx="88920" cy="27000"/>
          </a:xfrm>
          <a:custGeom>
            <a:avLst/>
            <a:gdLst/>
            <a:ahLst/>
            <a:rect l="l" t="t" r="r" b="b"/>
            <a:pathLst>
              <a:path w="31" h="9">
                <a:moveTo>
                  <a:pt x="0" y="9"/>
                </a:moveTo>
                <a:lnTo>
                  <a:pt x="3" y="9"/>
                </a:lnTo>
                <a:lnTo>
                  <a:pt x="9" y="6"/>
                </a:lnTo>
                <a:lnTo>
                  <a:pt x="12" y="6"/>
                </a:lnTo>
                <a:lnTo>
                  <a:pt x="15" y="3"/>
                </a:lnTo>
                <a:lnTo>
                  <a:pt x="19" y="3"/>
                </a:lnTo>
                <a:lnTo>
                  <a:pt x="22" y="3"/>
                </a:lnTo>
                <a:lnTo>
                  <a:pt x="28" y="0"/>
                </a:lnTo>
                <a:lnTo>
                  <a:pt x="31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005280" y="6100920"/>
            <a:ext cx="2880" cy="288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05280" y="6073920"/>
            <a:ext cx="88920" cy="27000"/>
          </a:xfrm>
          <a:custGeom>
            <a:avLst/>
            <a:gdLst/>
            <a:ahLst/>
            <a:rect l="l" t="t" r="r" b="b"/>
            <a:pathLst>
              <a:path w="31" h="9">
                <a:moveTo>
                  <a:pt x="0" y="9"/>
                </a:moveTo>
                <a:lnTo>
                  <a:pt x="3" y="9"/>
                </a:lnTo>
                <a:lnTo>
                  <a:pt x="3" y="6"/>
                </a:lnTo>
                <a:lnTo>
                  <a:pt x="6" y="6"/>
                </a:lnTo>
                <a:lnTo>
                  <a:pt x="12" y="6"/>
                </a:lnTo>
                <a:lnTo>
                  <a:pt x="15" y="3"/>
                </a:lnTo>
                <a:lnTo>
                  <a:pt x="18" y="3"/>
                </a:lnTo>
                <a:lnTo>
                  <a:pt x="21" y="3"/>
                </a:lnTo>
                <a:lnTo>
                  <a:pt x="25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94200" y="6054840"/>
            <a:ext cx="85680" cy="1908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6"/>
                </a:move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5" y="3"/>
                </a:lnTo>
                <a:lnTo>
                  <a:pt x="18" y="3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179880" y="6045120"/>
            <a:ext cx="28440" cy="972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68800" y="601812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6"/>
                </a:move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6" y="3"/>
                </a:lnTo>
                <a:lnTo>
                  <a:pt x="22" y="3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357720" y="6005520"/>
            <a:ext cx="88920" cy="12600"/>
          </a:xfrm>
          <a:custGeom>
            <a:avLst/>
            <a:gdLst/>
            <a:ahLst/>
            <a:rect l="l" t="t" r="r" b="b"/>
            <a:pathLst>
              <a:path w="31" h="4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12" y="4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46640" y="5997600"/>
            <a:ext cx="96840" cy="7920"/>
          </a:xfrm>
          <a:custGeom>
            <a:avLst/>
            <a:gdLst/>
            <a:ahLst/>
            <a:rect l="l" t="t" r="r" b="b"/>
            <a:pathLst>
              <a:path w="34" h="3">
                <a:moveTo>
                  <a:pt x="0" y="3"/>
                </a:moveTo>
                <a:lnTo>
                  <a:pt x="6" y="3"/>
                </a:lnTo>
                <a:lnTo>
                  <a:pt x="9" y="3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543480" y="5997600"/>
            <a:ext cx="52200" cy="32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5" y="0"/>
                </a:lnTo>
                <a:lnTo>
                  <a:pt x="1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595680" y="5987880"/>
            <a:ext cx="33480" cy="9720"/>
          </a:xfrm>
          <a:custGeom>
            <a:avLst/>
            <a:gdLst/>
            <a:ahLst/>
            <a:rect l="l" t="t" r="r" b="b"/>
            <a:pathLst>
              <a:path w="12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629160" y="598788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19" y="0"/>
                </a:lnTo>
                <a:lnTo>
                  <a:pt x="22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18080" y="597852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3"/>
                </a:moveTo>
                <a:lnTo>
                  <a:pt x="3" y="3"/>
                </a:lnTo>
                <a:lnTo>
                  <a:pt x="6" y="3"/>
                </a:lnTo>
                <a:lnTo>
                  <a:pt x="9" y="0"/>
                </a:lnTo>
                <a:lnTo>
                  <a:pt x="13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07000" y="5978520"/>
            <a:ext cx="8856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95560" y="597852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84480" y="5978520"/>
            <a:ext cx="95400" cy="9360"/>
          </a:xfrm>
          <a:custGeom>
            <a:avLst/>
            <a:gdLst/>
            <a:ahLst/>
            <a:rect l="l" t="t" r="r" b="b"/>
            <a:pathLst>
              <a:path w="33" h="3">
                <a:moveTo>
                  <a:pt x="0" y="0"/>
                </a:move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3"/>
                </a:lnTo>
                <a:lnTo>
                  <a:pt x="24" y="3"/>
                </a:lnTo>
                <a:lnTo>
                  <a:pt x="27" y="3"/>
                </a:lnTo>
                <a:lnTo>
                  <a:pt x="33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79880" y="598788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68800" y="5987880"/>
            <a:ext cx="2520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257720" y="5997600"/>
            <a:ext cx="88920" cy="7920"/>
          </a:xfrm>
          <a:custGeom>
            <a:avLst/>
            <a:gdLst/>
            <a:ahLst/>
            <a:rect l="l" t="t" r="r" b="b"/>
            <a:pathLst>
              <a:path w="31" h="3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21" y="3"/>
                </a:lnTo>
                <a:lnTo>
                  <a:pt x="25" y="3"/>
                </a:lnTo>
                <a:lnTo>
                  <a:pt x="28" y="3"/>
                </a:lnTo>
                <a:lnTo>
                  <a:pt x="31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6640" y="6005520"/>
            <a:ext cx="85680" cy="12600"/>
          </a:xfrm>
          <a:custGeom>
            <a:avLst/>
            <a:gdLst/>
            <a:ahLst/>
            <a:rect l="l" t="t" r="r" b="b"/>
            <a:pathLst>
              <a:path w="30" h="4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4"/>
                </a:lnTo>
                <a:lnTo>
                  <a:pt x="24" y="4"/>
                </a:lnTo>
                <a:lnTo>
                  <a:pt x="27" y="4"/>
                </a:lnTo>
                <a:lnTo>
                  <a:pt x="30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432320" y="601812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4" y="0"/>
                </a:lnTo>
                <a:lnTo>
                  <a:pt x="10" y="0"/>
                </a:lnTo>
                <a:lnTo>
                  <a:pt x="13" y="3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5" y="3"/>
                </a:lnTo>
                <a:lnTo>
                  <a:pt x="28" y="3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521240" y="6037200"/>
            <a:ext cx="71280" cy="7920"/>
          </a:xfrm>
          <a:custGeom>
            <a:avLst/>
            <a:gdLst/>
            <a:ahLst/>
            <a:rect l="l" t="t" r="r" b="b"/>
            <a:pathLst>
              <a:path w="25" h="3">
                <a:moveTo>
                  <a:pt x="0" y="0"/>
                </a:moveTo>
                <a:lnTo>
                  <a:pt x="3" y="0"/>
                </a:lnTo>
                <a:lnTo>
                  <a:pt x="9" y="0"/>
                </a:lnTo>
                <a:lnTo>
                  <a:pt x="9" y="0"/>
                </a:lnTo>
                <a:lnTo>
                  <a:pt x="13" y="0"/>
                </a:lnTo>
                <a:lnTo>
                  <a:pt x="16" y="3"/>
                </a:lnTo>
                <a:lnTo>
                  <a:pt x="19" y="3"/>
                </a:lnTo>
                <a:lnTo>
                  <a:pt x="22" y="3"/>
                </a:lnTo>
                <a:lnTo>
                  <a:pt x="25" y="3"/>
                </a:lnTo>
                <a:lnTo>
                  <a:pt x="25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592520" y="6045120"/>
            <a:ext cx="2556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18080" y="605484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5" y="3"/>
                </a:lnTo>
                <a:lnTo>
                  <a:pt x="19" y="3"/>
                </a:lnTo>
                <a:lnTo>
                  <a:pt x="22" y="3"/>
                </a:lnTo>
                <a:lnTo>
                  <a:pt x="28" y="3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707000" y="6073920"/>
            <a:ext cx="88920" cy="19080"/>
          </a:xfrm>
          <a:custGeom>
            <a:avLst/>
            <a:gdLst/>
            <a:ahLst/>
            <a:rect l="l" t="t" r="r" b="b"/>
            <a:pathLst>
              <a:path w="31" h="6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3"/>
                </a:lnTo>
                <a:lnTo>
                  <a:pt x="24" y="6"/>
                </a:lnTo>
                <a:lnTo>
                  <a:pt x="28" y="6"/>
                </a:lnTo>
                <a:lnTo>
                  <a:pt x="31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795920" y="6093000"/>
            <a:ext cx="17280" cy="792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13200" y="6100920"/>
            <a:ext cx="69840" cy="18720"/>
          </a:xfrm>
          <a:custGeom>
            <a:avLst/>
            <a:gdLst/>
            <a:ahLst/>
            <a:rect l="l" t="t" r="r" b="b"/>
            <a:pathLst>
              <a:path w="24" h="6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6"/>
                </a:lnTo>
                <a:lnTo>
                  <a:pt x="24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883040" y="6119640"/>
            <a:ext cx="88920" cy="39960"/>
          </a:xfrm>
          <a:custGeom>
            <a:avLst/>
            <a:gdLst/>
            <a:ahLst/>
            <a:rect l="l" t="t" r="r" b="b"/>
            <a:pathLst>
              <a:path w="31" h="13">
                <a:moveTo>
                  <a:pt x="0" y="0"/>
                </a:moveTo>
                <a:lnTo>
                  <a:pt x="4" y="0"/>
                </a:lnTo>
                <a:lnTo>
                  <a:pt x="10" y="3"/>
                </a:lnTo>
                <a:lnTo>
                  <a:pt x="13" y="3"/>
                </a:lnTo>
                <a:lnTo>
                  <a:pt x="16" y="7"/>
                </a:lnTo>
                <a:lnTo>
                  <a:pt x="19" y="7"/>
                </a:lnTo>
                <a:lnTo>
                  <a:pt x="22" y="10"/>
                </a:lnTo>
                <a:lnTo>
                  <a:pt x="25" y="10"/>
                </a:lnTo>
                <a:lnTo>
                  <a:pt x="28" y="10"/>
                </a:lnTo>
                <a:lnTo>
                  <a:pt x="31" y="1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971960" y="61596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971960" y="6159600"/>
            <a:ext cx="96840" cy="36360"/>
          </a:xfrm>
          <a:custGeom>
            <a:avLst/>
            <a:gdLst/>
            <a:ahLst/>
            <a:rect l="l" t="t" r="r" b="b"/>
            <a:pathLst>
              <a:path w="34" h="12">
                <a:moveTo>
                  <a:pt x="0" y="0"/>
                </a:move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lnTo>
                  <a:pt x="16" y="3"/>
                </a:lnTo>
                <a:lnTo>
                  <a:pt x="19" y="6"/>
                </a:lnTo>
                <a:lnTo>
                  <a:pt x="22" y="6"/>
                </a:lnTo>
                <a:lnTo>
                  <a:pt x="25" y="9"/>
                </a:lnTo>
                <a:lnTo>
                  <a:pt x="28" y="9"/>
                </a:lnTo>
                <a:lnTo>
                  <a:pt x="34" y="1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068800" y="6195960"/>
            <a:ext cx="2556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94360" y="6205680"/>
            <a:ext cx="63360" cy="270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0"/>
                </a:moveTo>
                <a:lnTo>
                  <a:pt x="3" y="0"/>
                </a:lnTo>
                <a:lnTo>
                  <a:pt x="3" y="3"/>
                </a:lnTo>
                <a:lnTo>
                  <a:pt x="6" y="3"/>
                </a:lnTo>
                <a:lnTo>
                  <a:pt x="10" y="3"/>
                </a:lnTo>
                <a:lnTo>
                  <a:pt x="13" y="6"/>
                </a:lnTo>
                <a:lnTo>
                  <a:pt x="13" y="6"/>
                </a:lnTo>
                <a:lnTo>
                  <a:pt x="16" y="6"/>
                </a:lnTo>
                <a:lnTo>
                  <a:pt x="19" y="9"/>
                </a:lnTo>
                <a:lnTo>
                  <a:pt x="22" y="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157720" y="6232680"/>
            <a:ext cx="42840" cy="2988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0"/>
                </a:moveTo>
                <a:lnTo>
                  <a:pt x="0" y="0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9" y="6"/>
                </a:lnTo>
                <a:lnTo>
                  <a:pt x="9" y="6"/>
                </a:lnTo>
                <a:lnTo>
                  <a:pt x="12" y="6"/>
                </a:lnTo>
                <a:lnTo>
                  <a:pt x="12" y="10"/>
                </a:lnTo>
                <a:lnTo>
                  <a:pt x="15" y="1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36920" y="6310440"/>
            <a:ext cx="17280" cy="7920"/>
          </a:xfrm>
          <a:custGeom>
            <a:avLst/>
            <a:gdLst/>
            <a:ahLst/>
            <a:rect l="l" t="t" r="r" b="b"/>
            <a:pathLst>
              <a:path w="6" h="3">
                <a:moveTo>
                  <a:pt x="3" y="0"/>
                </a:move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54200" y="6262560"/>
            <a:ext cx="71640" cy="47880"/>
          </a:xfrm>
          <a:custGeom>
            <a:avLst/>
            <a:gdLst/>
            <a:ahLst/>
            <a:rect l="l" t="t" r="r" b="b"/>
            <a:pathLst>
              <a:path w="25" h="15">
                <a:moveTo>
                  <a:pt x="0" y="15"/>
                </a:moveTo>
                <a:lnTo>
                  <a:pt x="0" y="15"/>
                </a:lnTo>
                <a:lnTo>
                  <a:pt x="3" y="12"/>
                </a:lnTo>
                <a:lnTo>
                  <a:pt x="6" y="9"/>
                </a:lnTo>
                <a:lnTo>
                  <a:pt x="9" y="9"/>
                </a:lnTo>
                <a:lnTo>
                  <a:pt x="12" y="6"/>
                </a:lnTo>
                <a:lnTo>
                  <a:pt x="15" y="6"/>
                </a:lnTo>
                <a:lnTo>
                  <a:pt x="18" y="3"/>
                </a:lnTo>
                <a:lnTo>
                  <a:pt x="22" y="0"/>
                </a:lnTo>
                <a:lnTo>
                  <a:pt x="2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25840" y="6249960"/>
            <a:ext cx="17280" cy="1260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4"/>
                </a:move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643120" y="6205680"/>
            <a:ext cx="77760" cy="44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0" y="15"/>
                </a:moveTo>
                <a:lnTo>
                  <a:pt x="3" y="12"/>
                </a:lnTo>
                <a:lnTo>
                  <a:pt x="6" y="12"/>
                </a:lnTo>
                <a:lnTo>
                  <a:pt x="9" y="9"/>
                </a:lnTo>
                <a:lnTo>
                  <a:pt x="12" y="9"/>
                </a:lnTo>
                <a:lnTo>
                  <a:pt x="15" y="6"/>
                </a:lnTo>
                <a:lnTo>
                  <a:pt x="18" y="6"/>
                </a:lnTo>
                <a:lnTo>
                  <a:pt x="21" y="3"/>
                </a:lnTo>
                <a:lnTo>
                  <a:pt x="24" y="3"/>
                </a:lnTo>
                <a:lnTo>
                  <a:pt x="27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732040" y="6159600"/>
            <a:ext cx="85680" cy="3636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12"/>
                </a:moveTo>
                <a:lnTo>
                  <a:pt x="3" y="12"/>
                </a:lnTo>
                <a:lnTo>
                  <a:pt x="6" y="9"/>
                </a:lnTo>
                <a:lnTo>
                  <a:pt x="9" y="9"/>
                </a:lnTo>
                <a:lnTo>
                  <a:pt x="12" y="6"/>
                </a:lnTo>
                <a:lnTo>
                  <a:pt x="18" y="6"/>
                </a:lnTo>
                <a:lnTo>
                  <a:pt x="21" y="3"/>
                </a:lnTo>
                <a:lnTo>
                  <a:pt x="24" y="3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817720" y="6159600"/>
            <a:ext cx="972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27440" y="6119640"/>
            <a:ext cx="79200" cy="39960"/>
          </a:xfrm>
          <a:custGeom>
            <a:avLst/>
            <a:gdLst/>
            <a:ahLst/>
            <a:rect l="l" t="t" r="r" b="b"/>
            <a:pathLst>
              <a:path w="28" h="13">
                <a:moveTo>
                  <a:pt x="0" y="13"/>
                </a:moveTo>
                <a:lnTo>
                  <a:pt x="3" y="10"/>
                </a:lnTo>
                <a:lnTo>
                  <a:pt x="7" y="10"/>
                </a:lnTo>
                <a:lnTo>
                  <a:pt x="10" y="7"/>
                </a:lnTo>
                <a:lnTo>
                  <a:pt x="13" y="7"/>
                </a:lnTo>
                <a:lnTo>
                  <a:pt x="16" y="7"/>
                </a:lnTo>
                <a:lnTo>
                  <a:pt x="19" y="3"/>
                </a:lnTo>
                <a:lnTo>
                  <a:pt x="22" y="3"/>
                </a:lnTo>
                <a:lnTo>
                  <a:pt x="25" y="0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06640" y="6100920"/>
            <a:ext cx="63720" cy="18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2" y="3"/>
                </a:lnTo>
                <a:lnTo>
                  <a:pt x="15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0360" y="6093000"/>
            <a:ext cx="25200" cy="792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005280" y="6066000"/>
            <a:ext cx="88920" cy="27000"/>
          </a:xfrm>
          <a:custGeom>
            <a:avLst/>
            <a:gdLst/>
            <a:ahLst/>
            <a:rect l="l" t="t" r="r" b="b"/>
            <a:pathLst>
              <a:path w="31" h="9">
                <a:moveTo>
                  <a:pt x="0" y="9"/>
                </a:moveTo>
                <a:lnTo>
                  <a:pt x="0" y="6"/>
                </a:lnTo>
                <a:lnTo>
                  <a:pt x="6" y="6"/>
                </a:lnTo>
                <a:lnTo>
                  <a:pt x="9" y="6"/>
                </a:lnTo>
                <a:lnTo>
                  <a:pt x="12" y="3"/>
                </a:lnTo>
                <a:lnTo>
                  <a:pt x="15" y="3"/>
                </a:lnTo>
                <a:lnTo>
                  <a:pt x="18" y="3"/>
                </a:lnTo>
                <a:lnTo>
                  <a:pt x="21" y="0"/>
                </a:lnTo>
                <a:lnTo>
                  <a:pt x="28" y="0"/>
                </a:lnTo>
                <a:lnTo>
                  <a:pt x="3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2475000" y="5923080"/>
            <a:ext cx="2893320" cy="386640"/>
            <a:chOff x="2475000" y="5923080"/>
            <a:chExt cx="2893320" cy="386640"/>
          </a:xfrm>
        </p:grpSpPr>
        <p:sp>
          <p:nvSpPr>
            <p:cNvPr id="1450" name=""/>
            <p:cNvSpPr/>
            <p:nvPr/>
          </p:nvSpPr>
          <p:spPr>
            <a:xfrm>
              <a:off x="3093840" y="6045480"/>
              <a:ext cx="59760" cy="180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153600" y="603648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179880" y="601776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268800" y="6005880"/>
              <a:ext cx="88200" cy="115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4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7000" y="599616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46280" y="599616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472200" y="5987160"/>
              <a:ext cx="71280" cy="90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543480" y="597816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29160" y="5968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18440" y="59688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7360" y="596880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95560" y="59688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84840" y="596880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78800" y="5968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168080" y="59781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57000" y="5987160"/>
              <a:ext cx="6012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17480" y="5996160"/>
              <a:ext cx="28440" cy="32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345920" y="5996160"/>
              <a:ext cx="85680" cy="97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31600" y="600588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520880" y="6017760"/>
              <a:ext cx="97200" cy="187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18080" y="6036480"/>
              <a:ext cx="3348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51920" y="6045480"/>
              <a:ext cx="5436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06640" y="60548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95560" y="6082560"/>
              <a:ext cx="5112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47040" y="6100560"/>
              <a:ext cx="34200" cy="97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81240" y="6110640"/>
              <a:ext cx="88920" cy="306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70160" y="614124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96440" y="6159240"/>
              <a:ext cx="71280" cy="18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67720" y="6177960"/>
              <a:ext cx="54360" cy="27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122440" y="6205320"/>
              <a:ext cx="34200" cy="18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156640" y="6224040"/>
              <a:ext cx="59760" cy="396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216400" y="6264000"/>
              <a:ext cx="28440" cy="90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245200" y="6273000"/>
              <a:ext cx="60120" cy="36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2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529360" y="630072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55280" y="6264000"/>
              <a:ext cx="51120" cy="36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06760" y="6233040"/>
              <a:ext cx="36720" cy="306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643840" y="6205320"/>
              <a:ext cx="51840" cy="27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695680" y="6187320"/>
              <a:ext cx="3672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732760" y="6159240"/>
              <a:ext cx="68760" cy="277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01520" y="6141240"/>
              <a:ext cx="1656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18440" y="6110640"/>
              <a:ext cx="88920" cy="306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907360" y="6100560"/>
              <a:ext cx="25920" cy="97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933640" y="6073560"/>
              <a:ext cx="63000" cy="270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04920" y="60454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093840" y="60454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102480" y="6027480"/>
              <a:ext cx="77040" cy="18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79880" y="60058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5" y="4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68800" y="5996160"/>
              <a:ext cx="8820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357000" y="599616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74640" y="5978160"/>
              <a:ext cx="71280" cy="180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446280" y="59688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543480" y="596880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62916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18440" y="59598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07360" y="595980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895560" y="59598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984840" y="595980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7880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168080" y="59688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57000" y="5968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45920" y="5978160"/>
              <a:ext cx="68040" cy="180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14320" y="599616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31600" y="599616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520880" y="600588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6" y="0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34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18080" y="6027480"/>
              <a:ext cx="79560" cy="180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98000" y="60454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706640" y="60454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795560" y="6073560"/>
              <a:ext cx="85680" cy="270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881240" y="6100560"/>
              <a:ext cx="11520" cy="32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93120" y="6100560"/>
              <a:ext cx="77040" cy="277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7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70160" y="6128640"/>
              <a:ext cx="63000" cy="306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3160" y="615924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067720" y="6168240"/>
              <a:ext cx="79560" cy="367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147640" y="6205320"/>
              <a:ext cx="9000" cy="9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156640" y="6215040"/>
              <a:ext cx="88200" cy="486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21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3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45200" y="626400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45200" y="6264000"/>
              <a:ext cx="8640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21" y="12"/>
                  </a:lnTo>
                  <a:lnTo>
                    <a:pt x="24" y="15"/>
                  </a:lnTo>
                  <a:lnTo>
                    <a:pt x="3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1720" y="6282720"/>
              <a:ext cx="43200" cy="270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55280" y="6264000"/>
              <a:ext cx="2520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89120" y="6224040"/>
              <a:ext cx="54360" cy="396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43840" y="6205320"/>
              <a:ext cx="2592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669760" y="6177960"/>
              <a:ext cx="63000" cy="270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32760" y="6159240"/>
              <a:ext cx="42840" cy="18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775600" y="6128640"/>
              <a:ext cx="42840" cy="306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818440" y="6100560"/>
              <a:ext cx="80280" cy="2772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99080" y="609156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07360" y="60638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04920" y="6045480"/>
              <a:ext cx="5112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56400" y="6036480"/>
              <a:ext cx="37440" cy="90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93840" y="601776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79880" y="59961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268800" y="5996160"/>
              <a:ext cx="2520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4000" y="597816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57000" y="5968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46280" y="59598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543480" y="5950080"/>
              <a:ext cx="85680" cy="97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629160" y="59500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718440" y="59500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07360" y="595008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95560" y="59500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984840" y="5950080"/>
              <a:ext cx="93960" cy="32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078800" y="59500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168080" y="595008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5700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45920" y="59688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431600" y="597816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94600" y="599616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20880" y="599616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4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18080" y="601776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06640" y="6036480"/>
              <a:ext cx="4284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49480" y="6045480"/>
              <a:ext cx="4608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795560" y="6054840"/>
              <a:ext cx="85680" cy="277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81240" y="6082560"/>
              <a:ext cx="4608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927320" y="6100560"/>
              <a:ext cx="42840" cy="18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970160" y="6119640"/>
              <a:ext cx="88920" cy="3960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059440" y="61592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067720" y="615924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56640" y="619632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73560" y="620532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2" y="12"/>
                  </a:lnTo>
                  <a:lnTo>
                    <a:pt x="2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245200" y="6242400"/>
              <a:ext cx="17280" cy="21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7"/>
                  </a:lnTo>
                  <a:lnTo>
                    <a:pt x="6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262840" y="6264000"/>
              <a:ext cx="68760" cy="367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31600" y="6300720"/>
              <a:ext cx="19440" cy="90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492280" y="627300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3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55280" y="62640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63920" y="6215040"/>
              <a:ext cx="79560" cy="486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6"/>
                  </a:moveTo>
                  <a:lnTo>
                    <a:pt x="3" y="12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643840" y="6205320"/>
              <a:ext cx="8280" cy="9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652120" y="6159240"/>
              <a:ext cx="8028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5"/>
                  </a:moveTo>
                  <a:lnTo>
                    <a:pt x="0" y="15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32760" y="61592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741040" y="6119640"/>
              <a:ext cx="77040" cy="396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3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818440" y="6100560"/>
              <a:ext cx="46080" cy="18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864520" y="6082560"/>
              <a:ext cx="42840" cy="180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907360" y="604548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lnTo>
                    <a:pt x="3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31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004920" y="60454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013560" y="6027480"/>
              <a:ext cx="80280" cy="180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093840" y="5996160"/>
              <a:ext cx="85680" cy="3132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10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179880" y="5996160"/>
              <a:ext cx="45360" cy="32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25240" y="5987160"/>
              <a:ext cx="4320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68800" y="596880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35700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46280" y="5950080"/>
              <a:ext cx="97200" cy="97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43480" y="594108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629160" y="5941080"/>
              <a:ext cx="46080" cy="32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75600" y="5941080"/>
              <a:ext cx="42840" cy="32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18440" y="59320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807360" y="593208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95560" y="59320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84840" y="593208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78800" y="5941080"/>
              <a:ext cx="29160" cy="32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8320" y="5941080"/>
              <a:ext cx="59760" cy="32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168080" y="59410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257000" y="595008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45920" y="59598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431600" y="596880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520880" y="5987160"/>
              <a:ext cx="5364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574520" y="5996160"/>
              <a:ext cx="43200" cy="32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18080" y="599616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6640" y="601776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95560" y="6045480"/>
              <a:ext cx="252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95560" y="6045480"/>
              <a:ext cx="85680" cy="277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81240" y="6073560"/>
              <a:ext cx="80280" cy="270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61880" y="61005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70160" y="6100560"/>
              <a:ext cx="97200" cy="403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13"/>
                  </a:lnTo>
                  <a:lnTo>
                    <a:pt x="34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67720" y="6141240"/>
              <a:ext cx="1656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84640" y="6159240"/>
              <a:ext cx="72000" cy="277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56640" y="6187320"/>
              <a:ext cx="42840" cy="180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99480" y="6205320"/>
              <a:ext cx="45360" cy="27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6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245200" y="6233040"/>
              <a:ext cx="42840" cy="306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88040" y="6264000"/>
              <a:ext cx="4320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31600" y="6291720"/>
              <a:ext cx="3672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75000" y="626400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46280" y="6251400"/>
              <a:ext cx="9000" cy="12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555280" y="620532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0" y="15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26920" y="619632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643840" y="6159240"/>
              <a:ext cx="68760" cy="367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12600" y="6150240"/>
              <a:ext cx="19800" cy="90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732760" y="6100560"/>
              <a:ext cx="85680" cy="493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6"/>
                  </a:moveTo>
                  <a:lnTo>
                    <a:pt x="3" y="13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18440" y="61005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27080" y="6063840"/>
              <a:ext cx="80280" cy="367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07360" y="604548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70360" y="603648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04920" y="6005880"/>
              <a:ext cx="88920" cy="306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0" y="10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5" y="4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93840" y="5996160"/>
              <a:ext cx="68040" cy="972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162240" y="598716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79880" y="596880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6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268800" y="595980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357000" y="594108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46280" y="5941080"/>
              <a:ext cx="51120" cy="32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97400" y="5932080"/>
              <a:ext cx="4608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543480" y="593208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29160" y="59230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18440" y="59230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7360" y="592308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95560" y="59230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84840" y="592308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078800" y="59230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168080" y="59320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257000" y="593208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282920" y="5941080"/>
              <a:ext cx="63000" cy="32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45920" y="594108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3160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2405160" y="5856120"/>
            <a:ext cx="3040920" cy="461520"/>
            <a:chOff x="2405160" y="5856120"/>
            <a:chExt cx="3040920" cy="461520"/>
          </a:xfrm>
        </p:grpSpPr>
        <p:sp>
          <p:nvSpPr>
            <p:cNvPr id="1651" name=""/>
            <p:cNvSpPr/>
            <p:nvPr/>
          </p:nvSpPr>
          <p:spPr>
            <a:xfrm>
              <a:off x="4520880" y="5969160"/>
              <a:ext cx="97200" cy="180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18080" y="598716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35000" y="5996160"/>
              <a:ext cx="71280" cy="93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06640" y="600588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8" y="7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795560" y="6036120"/>
              <a:ext cx="51120" cy="90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47040" y="604512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81600" y="605412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70520" y="609120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96440" y="6100200"/>
              <a:ext cx="71280" cy="277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068080" y="6127920"/>
              <a:ext cx="54360" cy="302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9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122800" y="615816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157000" y="6167520"/>
              <a:ext cx="68040" cy="367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25400" y="6204240"/>
              <a:ext cx="19800" cy="93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245560" y="6213960"/>
              <a:ext cx="68760" cy="4824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4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314320" y="626220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31960" y="6271200"/>
              <a:ext cx="53640" cy="36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9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448000" y="6308280"/>
              <a:ext cx="900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457000" y="626220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520000" y="6240960"/>
              <a:ext cx="34200" cy="212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554560" y="6204240"/>
              <a:ext cx="4284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597400" y="6176880"/>
              <a:ext cx="45360" cy="270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42760" y="6158160"/>
              <a:ext cx="42840" cy="18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685960" y="6127920"/>
              <a:ext cx="46080" cy="302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6" y="7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32040" y="6100200"/>
              <a:ext cx="60120" cy="27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92520" y="6082200"/>
              <a:ext cx="2520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817720" y="605412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906640" y="604512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23560" y="6017400"/>
              <a:ext cx="72000" cy="277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9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04200" y="5996160"/>
              <a:ext cx="8892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093480" y="59961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01760" y="5969160"/>
              <a:ext cx="77040" cy="270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79160" y="5959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268080" y="594108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356640" y="594108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374280" y="5932080"/>
              <a:ext cx="71280" cy="90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445560" y="592308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43120" y="5913360"/>
              <a:ext cx="85680" cy="936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28800" y="59133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18080" y="5904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807000" y="59043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895560" y="59043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984480" y="590436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78800" y="59133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67720" y="591336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257000" y="59230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45920" y="5932080"/>
              <a:ext cx="5976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405680" y="594108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431600" y="594108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520880" y="59598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31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18080" y="5969160"/>
              <a:ext cx="79920" cy="270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98360" y="598716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6640" y="5996160"/>
              <a:ext cx="8892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8" y="7"/>
                  </a:lnTo>
                  <a:lnTo>
                    <a:pt x="3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795560" y="6017400"/>
              <a:ext cx="85680" cy="277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9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81600" y="6045120"/>
              <a:ext cx="1152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3120" y="6045120"/>
              <a:ext cx="77040" cy="277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7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70520" y="6073200"/>
              <a:ext cx="63000" cy="270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2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33520" y="6100200"/>
              <a:ext cx="34200" cy="93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68080" y="6109920"/>
              <a:ext cx="79920" cy="482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48000" y="615816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157000" y="6158160"/>
              <a:ext cx="8820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21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3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245560" y="620424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245560" y="6204240"/>
              <a:ext cx="86400" cy="579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0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31960" y="626220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331960" y="626220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6" y="9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439360" y="6290280"/>
              <a:ext cx="1728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457000" y="626220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499840" y="6222960"/>
              <a:ext cx="54360" cy="392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554560" y="6204240"/>
              <a:ext cx="1656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571480" y="616752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42760" y="615816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60400" y="6109920"/>
              <a:ext cx="71280" cy="482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6"/>
                  </a:moveTo>
                  <a:lnTo>
                    <a:pt x="3" y="13"/>
                  </a:lnTo>
                  <a:lnTo>
                    <a:pt x="6" y="13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32040" y="6100200"/>
              <a:ext cx="25920" cy="93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757960" y="6073200"/>
              <a:ext cx="59760" cy="27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817720" y="604512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880720" y="603612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906640" y="600588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3" y="10"/>
                  </a:lnTo>
                  <a:lnTo>
                    <a:pt x="6" y="7"/>
                  </a:lnTo>
                  <a:lnTo>
                    <a:pt x="9" y="7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004200" y="5996160"/>
              <a:ext cx="42840" cy="93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47040" y="5978160"/>
              <a:ext cx="4608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093480" y="595980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179160" y="594108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6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68080" y="594108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285000" y="5923080"/>
              <a:ext cx="71280" cy="180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356640" y="591336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445560" y="590436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543120" y="59043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28800" y="5895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18080" y="58953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807000" y="589536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895560" y="58953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984480" y="589536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78800" y="5895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67720" y="59043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57000" y="5904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45920" y="591336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431600" y="5932080"/>
              <a:ext cx="71280" cy="90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03240" y="594108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520880" y="5941080"/>
              <a:ext cx="97200" cy="187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18080" y="595980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706640" y="5978160"/>
              <a:ext cx="5184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58480" y="5996160"/>
              <a:ext cx="36720" cy="32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795560" y="5996160"/>
              <a:ext cx="85680" cy="3096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81600" y="6027120"/>
              <a:ext cx="54360" cy="18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935960" y="604512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970520" y="6063480"/>
              <a:ext cx="97200" cy="367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068080" y="610020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8080" y="6100200"/>
              <a:ext cx="88920" cy="3996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57000" y="6140160"/>
              <a:ext cx="2520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82560" y="615816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245560" y="618624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71480" y="6204240"/>
              <a:ext cx="60120" cy="36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2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331960" y="6240960"/>
              <a:ext cx="28440" cy="21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7"/>
                  </a:lnTo>
                  <a:lnTo>
                    <a:pt x="10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360400" y="6262200"/>
              <a:ext cx="59760" cy="457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0160" y="630828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422440" y="6280920"/>
              <a:ext cx="3420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457000" y="6262200"/>
              <a:ext cx="2520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482200" y="6204240"/>
              <a:ext cx="72000" cy="5796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9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45560" y="620424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54560" y="615816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34480" y="614916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42760" y="6100200"/>
              <a:ext cx="88920" cy="489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16"/>
                  </a:moveTo>
                  <a:lnTo>
                    <a:pt x="3" y="13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32040" y="610020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32040" y="6054120"/>
              <a:ext cx="8568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3" y="12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817720" y="6045120"/>
              <a:ext cx="28440" cy="90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46160" y="6017400"/>
              <a:ext cx="60120" cy="27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906640" y="5996160"/>
              <a:ext cx="8892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3" y="7"/>
                  </a:lnTo>
                  <a:lnTo>
                    <a:pt x="9" y="7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995920" y="598716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004200" y="5959800"/>
              <a:ext cx="8892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093480" y="594108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9160" y="5941080"/>
              <a:ext cx="19800" cy="32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199320" y="5923080"/>
              <a:ext cx="68760" cy="180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68080" y="591336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356640" y="5904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445560" y="589536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543120" y="5883120"/>
              <a:ext cx="77040" cy="1224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0" y="4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620520" y="58831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628800" y="58831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718080" y="587412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807000" y="587412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895560" y="58741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84480" y="587412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078800" y="5883120"/>
              <a:ext cx="72000" cy="324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50800" y="588312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167720" y="5883120"/>
              <a:ext cx="8892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257000" y="58953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345920" y="590436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431600" y="591336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520880" y="5923080"/>
              <a:ext cx="71280" cy="180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592160" y="594108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618080" y="594108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06640" y="5959800"/>
              <a:ext cx="8892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95560" y="598716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812480" y="5996160"/>
              <a:ext cx="68760" cy="2124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881600" y="601740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970520" y="604512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79160" y="604512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8080" y="608220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02640" y="6100200"/>
              <a:ext cx="54360" cy="18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57000" y="6118920"/>
              <a:ext cx="51120" cy="392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8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08480" y="6158160"/>
              <a:ext cx="36720" cy="90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45560" y="6167520"/>
              <a:ext cx="51840" cy="36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297400" y="6204240"/>
              <a:ext cx="34200" cy="18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331960" y="6222960"/>
              <a:ext cx="45360" cy="3924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377320" y="626220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20160" y="629028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05160" y="6262200"/>
              <a:ext cx="5184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457000" y="626220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457000" y="6204240"/>
              <a:ext cx="71280" cy="5796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9"/>
                  </a:moveTo>
                  <a:lnTo>
                    <a:pt x="3" y="15"/>
                  </a:lnTo>
                  <a:lnTo>
                    <a:pt x="6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28640" y="618624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54560" y="6158160"/>
              <a:ext cx="51120" cy="27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605680" y="6127920"/>
              <a:ext cx="36720" cy="302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42760" y="6100200"/>
              <a:ext cx="51840" cy="27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94960" y="6082200"/>
              <a:ext cx="3672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32040" y="6045120"/>
              <a:ext cx="68760" cy="367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800800" y="603612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817720" y="600588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906640" y="5996160"/>
              <a:ext cx="34200" cy="93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941200" y="5969160"/>
              <a:ext cx="54360" cy="27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004200" y="595044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093480" y="5941080"/>
              <a:ext cx="3348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126960" y="5923080"/>
              <a:ext cx="5184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79160" y="591336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68080" y="589536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56640" y="5883120"/>
              <a:ext cx="80280" cy="12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4"/>
                  </a:moveTo>
                  <a:lnTo>
                    <a:pt x="3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437280" y="58831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445560" y="587412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543120" y="586512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628800" y="5865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718080" y="5865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07000" y="585612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95560" y="5865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84480" y="586512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078800" y="586512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167720" y="58741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257000" y="5874120"/>
              <a:ext cx="79920" cy="90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336920" y="588312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345920" y="5883120"/>
              <a:ext cx="85680" cy="1224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31600" y="589536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4" y="0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520880" y="5913360"/>
              <a:ext cx="97200" cy="187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18080" y="5932080"/>
              <a:ext cx="5364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672080" y="594108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1" name=""/>
          <p:cNvGrpSpPr/>
          <p:nvPr/>
        </p:nvGrpSpPr>
        <p:grpSpPr>
          <a:xfrm>
            <a:off x="2316240" y="5800680"/>
            <a:ext cx="3218760" cy="516960"/>
            <a:chOff x="2316240" y="5800680"/>
            <a:chExt cx="3218760" cy="516960"/>
          </a:xfrm>
        </p:grpSpPr>
        <p:sp>
          <p:nvSpPr>
            <p:cNvPr id="1852" name=""/>
            <p:cNvSpPr/>
            <p:nvPr/>
          </p:nvSpPr>
          <p:spPr>
            <a:xfrm>
              <a:off x="4706280" y="595044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795560" y="5969160"/>
              <a:ext cx="68760" cy="270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4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864320" y="599616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81240" y="5996160"/>
              <a:ext cx="88920" cy="3096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8" y="10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70160" y="6027120"/>
              <a:ext cx="4536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15880" y="6045480"/>
              <a:ext cx="5184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67720" y="606348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39360" y="6100200"/>
              <a:ext cx="17280" cy="9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57000" y="6109920"/>
              <a:ext cx="88200" cy="482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10"/>
                  </a:lnTo>
                  <a:lnTo>
                    <a:pt x="24" y="10"/>
                  </a:lnTo>
                  <a:lnTo>
                    <a:pt x="28" y="13"/>
                  </a:lnTo>
                  <a:lnTo>
                    <a:pt x="3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45200" y="615852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45200" y="6158520"/>
              <a:ext cx="77040" cy="457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5"/>
                  </a:lnTo>
                  <a:lnTo>
                    <a:pt x="27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22600" y="6204240"/>
              <a:ext cx="900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331600" y="6213960"/>
              <a:ext cx="71280" cy="482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9"/>
                  </a:lnTo>
                  <a:lnTo>
                    <a:pt x="19" y="12"/>
                  </a:lnTo>
                  <a:lnTo>
                    <a:pt x="22" y="12"/>
                  </a:lnTo>
                  <a:lnTo>
                    <a:pt x="25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403240" y="62622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420160" y="6271560"/>
              <a:ext cx="54360" cy="36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376000" y="626220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5"/>
                  </a:moveTo>
                  <a:lnTo>
                    <a:pt x="3" y="15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439000" y="6240960"/>
              <a:ext cx="1728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456640" y="6204240"/>
              <a:ext cx="4284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499480" y="6167520"/>
              <a:ext cx="54360" cy="36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2"/>
                  </a:moveTo>
                  <a:lnTo>
                    <a:pt x="4" y="12"/>
                  </a:lnTo>
                  <a:lnTo>
                    <a:pt x="4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553840" y="615852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579400" y="6109920"/>
              <a:ext cx="63000" cy="482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0" y="13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642400" y="6100200"/>
              <a:ext cx="17280" cy="9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660040" y="606348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731320" y="604548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5880" y="6017400"/>
              <a:ext cx="51120" cy="27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817360" y="5996160"/>
              <a:ext cx="71280" cy="2124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888640" y="598716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906280" y="5960160"/>
              <a:ext cx="8892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3840" y="5941440"/>
              <a:ext cx="5112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55320" y="5932440"/>
              <a:ext cx="37440" cy="90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92760" y="591336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178800" y="589536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267720" y="5883120"/>
              <a:ext cx="45360" cy="1224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313440" y="5874120"/>
              <a:ext cx="4284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56280" y="586512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45200" y="585612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542760" y="585612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28440" y="58464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717720" y="58464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806640" y="58464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95200" y="58464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984120" y="5846400"/>
              <a:ext cx="93960" cy="32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78440" y="58464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67360" y="5856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56640" y="585612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45560" y="586512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431240" y="5883120"/>
              <a:ext cx="36720" cy="32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468320" y="5883120"/>
              <a:ext cx="51840" cy="122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8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20520" y="5895360"/>
              <a:ext cx="97200" cy="180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618080" y="591336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06280" y="593244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40840" y="5941440"/>
              <a:ext cx="5436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795560" y="5950440"/>
              <a:ext cx="85680" cy="277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9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881240" y="5978160"/>
              <a:ext cx="3744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919040" y="5996160"/>
              <a:ext cx="51120" cy="936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970160" y="6005880"/>
              <a:ext cx="88920" cy="3924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3" y="4"/>
                  </a:lnTo>
                  <a:lnTo>
                    <a:pt x="9" y="4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8" y="13"/>
                  </a:lnTo>
                  <a:lnTo>
                    <a:pt x="3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059440" y="60454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067720" y="6045480"/>
              <a:ext cx="8892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0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25" y="12"/>
                  </a:lnTo>
                  <a:lnTo>
                    <a:pt x="28" y="12"/>
                  </a:lnTo>
                  <a:lnTo>
                    <a:pt x="3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157000" y="60912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173920" y="6100200"/>
              <a:ext cx="71280" cy="39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5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245200" y="614016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271480" y="6158520"/>
              <a:ext cx="60120" cy="36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2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31600" y="6195240"/>
              <a:ext cx="28440" cy="90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0400" y="6204240"/>
              <a:ext cx="59760" cy="457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420160" y="6249960"/>
              <a:ext cx="8280" cy="12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28800" y="626220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3" y="9"/>
                  </a:lnTo>
                  <a:lnTo>
                    <a:pt x="16" y="12"/>
                  </a:lnTo>
                  <a:lnTo>
                    <a:pt x="19" y="15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359080" y="62992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367360" y="6262200"/>
              <a:ext cx="45360" cy="36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3" y="12"/>
                  </a:lnTo>
                  <a:lnTo>
                    <a:pt x="3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413080" y="6222960"/>
              <a:ext cx="43200" cy="39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3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456640" y="6204240"/>
              <a:ext cx="1656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473200" y="615852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544840" y="6149160"/>
              <a:ext cx="900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553840" y="6100200"/>
              <a:ext cx="79920" cy="489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6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634120" y="60912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42400" y="6045480"/>
              <a:ext cx="77040" cy="457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719800" y="6045480"/>
              <a:ext cx="1152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731320" y="5996160"/>
              <a:ext cx="85680" cy="489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6"/>
                  </a:moveTo>
                  <a:lnTo>
                    <a:pt x="3" y="13"/>
                  </a:lnTo>
                  <a:lnTo>
                    <a:pt x="6" y="13"/>
                  </a:lnTo>
                  <a:lnTo>
                    <a:pt x="9" y="10"/>
                  </a:lnTo>
                  <a:lnTo>
                    <a:pt x="12" y="10"/>
                  </a:lnTo>
                  <a:lnTo>
                    <a:pt x="15" y="7"/>
                  </a:lnTo>
                  <a:lnTo>
                    <a:pt x="21" y="7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817360" y="5996160"/>
              <a:ext cx="28440" cy="32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845800" y="5969160"/>
              <a:ext cx="60120" cy="27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906280" y="59414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995560" y="594144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003840" y="591336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092760" y="589536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178800" y="5883120"/>
              <a:ext cx="28440" cy="122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07240" y="5874120"/>
              <a:ext cx="6012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67720" y="585612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56280" y="58464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45200" y="58374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760" y="58374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628440" y="5837400"/>
              <a:ext cx="71280" cy="324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00080" y="582840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17720" y="58284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806640" y="582840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95200" y="58284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84120" y="5828400"/>
              <a:ext cx="77040" cy="90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61520" y="58284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78440" y="58374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167360" y="58374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256640" y="58464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345560" y="585612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431240" y="586512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20520" y="5874120"/>
              <a:ext cx="5364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574520" y="5883120"/>
              <a:ext cx="43200" cy="12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18080" y="589536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706280" y="591336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795560" y="593244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812480" y="5941440"/>
              <a:ext cx="68760" cy="187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881240" y="5960160"/>
              <a:ext cx="88920" cy="36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4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970160" y="598716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970160" y="5996160"/>
              <a:ext cx="97200" cy="3096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8" y="10"/>
                  </a:lnTo>
                  <a:lnTo>
                    <a:pt x="34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067720" y="602712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2280" y="6045480"/>
              <a:ext cx="54360" cy="277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157000" y="6073200"/>
              <a:ext cx="51120" cy="270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1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208120" y="6100200"/>
              <a:ext cx="36720" cy="18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245200" y="6118920"/>
              <a:ext cx="60120" cy="392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05680" y="6158520"/>
              <a:ext cx="2592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0" y="6177240"/>
              <a:ext cx="53640" cy="27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9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85600" y="6204240"/>
              <a:ext cx="34200" cy="277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20160" y="6231960"/>
              <a:ext cx="34200" cy="302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54720" y="6262200"/>
              <a:ext cx="54360" cy="457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9" y="15"/>
                  </a:lnTo>
                  <a:lnTo>
                    <a:pt x="1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09080" y="630828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41440" y="6280920"/>
              <a:ext cx="2592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67360" y="6262200"/>
              <a:ext cx="28440" cy="18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96160" y="6204240"/>
              <a:ext cx="60120" cy="579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9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456640" y="619524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456640" y="615852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519640" y="6127920"/>
              <a:ext cx="34200" cy="302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553840" y="610020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597040" y="6073200"/>
              <a:ext cx="45360" cy="270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642400" y="604548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685240" y="6027120"/>
              <a:ext cx="4608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731320" y="5996160"/>
              <a:ext cx="60120" cy="3096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10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791800" y="5978160"/>
              <a:ext cx="2520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817360" y="59504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906280" y="594144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932200" y="591336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3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003840" y="589536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092760" y="5883120"/>
              <a:ext cx="25200" cy="122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18320" y="5874120"/>
              <a:ext cx="6012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178800" y="585612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67720" y="583740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56280" y="58374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45200" y="582840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45200" y="58194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42760" y="581940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28440" y="580968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717720" y="58096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06640" y="580968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5200" y="58096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984120" y="5809680"/>
              <a:ext cx="93960" cy="936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078440" y="58194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67360" y="58194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256640" y="5828400"/>
              <a:ext cx="71280" cy="90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327920" y="583740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45560" y="58374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431240" y="58464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520520" y="5856120"/>
              <a:ext cx="97200" cy="180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18080" y="5874120"/>
              <a:ext cx="5364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672080" y="5883120"/>
              <a:ext cx="34200" cy="122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706280" y="589536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795560" y="5913360"/>
              <a:ext cx="77040" cy="277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7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872960" y="59414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881240" y="59414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970160" y="5969160"/>
              <a:ext cx="54360" cy="27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024880" y="5996160"/>
              <a:ext cx="42840" cy="93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067720" y="6005880"/>
              <a:ext cx="79920" cy="392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5" y="13"/>
                  </a:lnTo>
                  <a:lnTo>
                    <a:pt x="28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47640" y="6045480"/>
              <a:ext cx="900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57000" y="6054480"/>
              <a:ext cx="8820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21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3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45200" y="610020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245200" y="6100200"/>
              <a:ext cx="86400" cy="489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7" y="16"/>
                  </a:lnTo>
                  <a:lnTo>
                    <a:pt x="30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31600" y="614916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31600" y="615852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6"/>
                  </a:lnTo>
                  <a:lnTo>
                    <a:pt x="16" y="9"/>
                  </a:lnTo>
                  <a:lnTo>
                    <a:pt x="19" y="9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411880" y="620424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420160" y="6213960"/>
              <a:ext cx="63000" cy="482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2"/>
                  </a:lnTo>
                  <a:lnTo>
                    <a:pt x="22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83160" y="6262200"/>
              <a:ext cx="25920" cy="27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9"/>
                  </a:lnTo>
                  <a:lnTo>
                    <a:pt x="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509080" y="629028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16240" y="626220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67360" y="626220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367360" y="6204240"/>
              <a:ext cx="63000" cy="57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30360" y="6177240"/>
              <a:ext cx="2592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456640" y="6158520"/>
              <a:ext cx="34200" cy="18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490840" y="6109920"/>
              <a:ext cx="63000" cy="4824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3" y="13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553840" y="610020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562480" y="605448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5"/>
                  </a:moveTo>
                  <a:lnTo>
                    <a:pt x="3" y="12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642400" y="60454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50680" y="5996160"/>
              <a:ext cx="80280" cy="489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6"/>
                  </a:moveTo>
                  <a:lnTo>
                    <a:pt x="3" y="16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31320" y="599616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748240" y="5960160"/>
              <a:ext cx="68760" cy="360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17360" y="5941440"/>
              <a:ext cx="54360" cy="18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871720" y="592308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906280" y="589536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003840" y="5883120"/>
              <a:ext cx="34200" cy="122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4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038400" y="5874120"/>
              <a:ext cx="5436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092760" y="585612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178800" y="583740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267720" y="5837400"/>
              <a:ext cx="2520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293280" y="581940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356280" y="580968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445200" y="580068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542760" y="580068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2254320" y="5726160"/>
            <a:ext cx="3361680" cy="591480"/>
            <a:chOff x="2254320" y="5726160"/>
            <a:chExt cx="3361680" cy="591480"/>
          </a:xfrm>
        </p:grpSpPr>
        <p:sp>
          <p:nvSpPr>
            <p:cNvPr id="2053" name=""/>
            <p:cNvSpPr/>
            <p:nvPr/>
          </p:nvSpPr>
          <p:spPr>
            <a:xfrm>
              <a:off x="3629520" y="5793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18800" y="5793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807720" y="579312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896280" y="5793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85200" y="579312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79520" y="5793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168440" y="5802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257720" y="581112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346640" y="5820840"/>
              <a:ext cx="85680" cy="86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32320" y="5829840"/>
              <a:ext cx="45360" cy="86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478040" y="5838840"/>
              <a:ext cx="43200" cy="32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521600" y="5838840"/>
              <a:ext cx="97200" cy="1836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619160" y="5857200"/>
              <a:ext cx="8820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707360" y="5875200"/>
              <a:ext cx="42840" cy="86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50200" y="5884200"/>
              <a:ext cx="46080" cy="1224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6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796640" y="5896800"/>
              <a:ext cx="85680" cy="273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9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82320" y="5924520"/>
              <a:ext cx="54360" cy="1764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37040" y="5942520"/>
              <a:ext cx="34200" cy="86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71240" y="5951520"/>
              <a:ext cx="97200" cy="3636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31" y="12"/>
                  </a:lnTo>
                  <a:lnTo>
                    <a:pt x="3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068800" y="598788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077440" y="5996880"/>
              <a:ext cx="80280" cy="309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8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58080" y="6028200"/>
              <a:ext cx="33480" cy="176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191920" y="6046200"/>
              <a:ext cx="54360" cy="273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246280" y="6073920"/>
              <a:ext cx="34200" cy="266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280840" y="6100560"/>
              <a:ext cx="51840" cy="27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5" y="9"/>
                  </a:lnTo>
                  <a:lnTo>
                    <a:pt x="1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332680" y="6128280"/>
              <a:ext cx="36720" cy="302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3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369760" y="6158880"/>
              <a:ext cx="51120" cy="36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21240" y="6195600"/>
              <a:ext cx="1728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438880" y="6204600"/>
              <a:ext cx="63000" cy="57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6" y="12"/>
                  </a:lnTo>
                  <a:lnTo>
                    <a:pt x="19" y="15"/>
                  </a:lnTo>
                  <a:lnTo>
                    <a:pt x="22" y="15"/>
                  </a:lnTo>
                  <a:lnTo>
                    <a:pt x="2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501880" y="626256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510160" y="6271560"/>
              <a:ext cx="51120" cy="36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15" y="12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299680" y="6262560"/>
              <a:ext cx="42840" cy="45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3" y="15"/>
                  </a:lnTo>
                  <a:lnTo>
                    <a:pt x="3" y="12"/>
                  </a:lnTo>
                  <a:lnTo>
                    <a:pt x="6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342520" y="6231960"/>
              <a:ext cx="25920" cy="30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368440" y="6204600"/>
              <a:ext cx="36720" cy="27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405520" y="6158880"/>
              <a:ext cx="51840" cy="453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0" y="15"/>
                  </a:lnTo>
                  <a:lnTo>
                    <a:pt x="3" y="12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457720" y="614988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466000" y="6100560"/>
              <a:ext cx="63000" cy="57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529000" y="6082920"/>
              <a:ext cx="25920" cy="17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555280" y="6046200"/>
              <a:ext cx="51120" cy="36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6" y="9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06400" y="6028200"/>
              <a:ext cx="36720" cy="176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643480" y="5996880"/>
              <a:ext cx="60120" cy="3096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10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703960" y="5978880"/>
              <a:ext cx="28440" cy="17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732760" y="5942520"/>
              <a:ext cx="85680" cy="3636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12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818440" y="594252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818440" y="5905800"/>
              <a:ext cx="88920" cy="363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07360" y="5884200"/>
              <a:ext cx="63000" cy="2124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3" y="7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970360" y="5875200"/>
              <a:ext cx="25920" cy="86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04920" y="5847840"/>
              <a:ext cx="88920" cy="273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93840" y="5838840"/>
              <a:ext cx="77040" cy="86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171240" y="582984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179880" y="582084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268800" y="5802120"/>
              <a:ext cx="8820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357360" y="5793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46280" y="5784120"/>
              <a:ext cx="97200" cy="864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543840" y="5784120"/>
              <a:ext cx="51120" cy="252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595320" y="5784120"/>
              <a:ext cx="34200" cy="252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29520" y="5775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718800" y="5775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07720" y="577512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96280" y="5775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985200" y="577512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079520" y="5775120"/>
              <a:ext cx="80280" cy="864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60160" y="578412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168440" y="5784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57720" y="57931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346640" y="5793120"/>
              <a:ext cx="85680" cy="86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32320" y="5802120"/>
              <a:ext cx="8892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4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521600" y="5820840"/>
              <a:ext cx="8820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609800" y="583884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19160" y="5838840"/>
              <a:ext cx="8820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8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707360" y="5857200"/>
              <a:ext cx="8892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796640" y="5875200"/>
              <a:ext cx="34200" cy="86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830840" y="5884200"/>
              <a:ext cx="51120" cy="2124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8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882320" y="5905800"/>
              <a:ext cx="88920" cy="273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971240" y="5933520"/>
              <a:ext cx="25920" cy="86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997520" y="5942520"/>
              <a:ext cx="71280" cy="2736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068800" y="5969880"/>
              <a:ext cx="54360" cy="266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6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123520" y="5996880"/>
              <a:ext cx="34200" cy="93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158080" y="6006600"/>
              <a:ext cx="68040" cy="392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1" y="13"/>
                  </a:lnTo>
                  <a:lnTo>
                    <a:pt x="24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26120" y="6046200"/>
              <a:ext cx="19800" cy="86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246280" y="6055200"/>
              <a:ext cx="77040" cy="453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7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3680" y="6100560"/>
              <a:ext cx="900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332680" y="6110280"/>
              <a:ext cx="71280" cy="4824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04320" y="6158880"/>
              <a:ext cx="1656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421240" y="6167880"/>
              <a:ext cx="46080" cy="36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467320" y="6204600"/>
              <a:ext cx="42840" cy="36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5" y="12"/>
                  </a:lnTo>
                  <a:lnTo>
                    <a:pt x="1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510160" y="6240960"/>
              <a:ext cx="1656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7"/>
                  </a:lnTo>
                  <a:lnTo>
                    <a:pt x="6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527080" y="6262560"/>
              <a:ext cx="63000" cy="453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12"/>
                  </a:lnTo>
                  <a:lnTo>
                    <a:pt x="19" y="15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270880" y="6308280"/>
              <a:ext cx="11520" cy="93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82760" y="6262560"/>
              <a:ext cx="42840" cy="45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3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325600" y="6213960"/>
              <a:ext cx="42840" cy="482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368440" y="620460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377080" y="6158880"/>
              <a:ext cx="54360" cy="453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5"/>
                  </a:moveTo>
                  <a:lnTo>
                    <a:pt x="0" y="15"/>
                  </a:lnTo>
                  <a:lnTo>
                    <a:pt x="3" y="12"/>
                  </a:lnTo>
                  <a:lnTo>
                    <a:pt x="7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431440" y="6128280"/>
              <a:ext cx="25920" cy="30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457720" y="6100560"/>
              <a:ext cx="34200" cy="27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491920" y="6064200"/>
              <a:ext cx="63000" cy="36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555280" y="6046200"/>
              <a:ext cx="16560" cy="17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71840" y="6006600"/>
              <a:ext cx="71280" cy="3924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3"/>
                  </a:moveTo>
                  <a:lnTo>
                    <a:pt x="3" y="13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643480" y="5996880"/>
              <a:ext cx="17280" cy="9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661120" y="5951520"/>
              <a:ext cx="71280" cy="453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3" y="12"/>
                  </a:lnTo>
                  <a:lnTo>
                    <a:pt x="3" y="12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732760" y="5942520"/>
              <a:ext cx="34200" cy="86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66960" y="5914800"/>
              <a:ext cx="51120" cy="27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18440" y="5884200"/>
              <a:ext cx="71280" cy="302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10"/>
                  </a:moveTo>
                  <a:lnTo>
                    <a:pt x="3" y="10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889720" y="5875200"/>
              <a:ext cx="1728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907360" y="5847840"/>
              <a:ext cx="88920" cy="273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6" y="9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04920" y="5838840"/>
              <a:ext cx="59760" cy="86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064680" y="5829840"/>
              <a:ext cx="29160" cy="86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93840" y="5811120"/>
              <a:ext cx="85680" cy="18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179880" y="5793120"/>
              <a:ext cx="8892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4" y="6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268800" y="5784120"/>
              <a:ext cx="8820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357360" y="5784120"/>
              <a:ext cx="324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57360" y="57751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46280" y="5762520"/>
              <a:ext cx="97200" cy="12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4"/>
                  </a:moveTo>
                  <a:lnTo>
                    <a:pt x="6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543840" y="5753520"/>
              <a:ext cx="85680" cy="86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629520" y="57535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718800" y="57535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807720" y="574380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96280" y="57535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5200" y="575352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9520" y="57535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168440" y="575352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257720" y="5762520"/>
              <a:ext cx="8892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346640" y="5775120"/>
              <a:ext cx="59760" cy="86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406400" y="5784120"/>
              <a:ext cx="2592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432320" y="5784120"/>
              <a:ext cx="8892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521600" y="5802120"/>
              <a:ext cx="97200" cy="864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619160" y="5811120"/>
              <a:ext cx="8820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707360" y="582984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716000" y="5838840"/>
              <a:ext cx="80280" cy="864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796640" y="5847840"/>
              <a:ext cx="85680" cy="273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82320" y="5875200"/>
              <a:ext cx="28440" cy="86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910760" y="5884200"/>
              <a:ext cx="60120" cy="2124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971240" y="5905800"/>
              <a:ext cx="88920" cy="363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060520" y="59425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068800" y="5942520"/>
              <a:ext cx="88920" cy="363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0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58080" y="5978880"/>
              <a:ext cx="16560" cy="17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75000" y="5996880"/>
              <a:ext cx="71280" cy="3096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10"/>
                  </a:lnTo>
                  <a:lnTo>
                    <a:pt x="25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246280" y="6028200"/>
              <a:ext cx="25920" cy="17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272200" y="6046200"/>
              <a:ext cx="60120" cy="36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2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332680" y="6082920"/>
              <a:ext cx="28440" cy="17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6"/>
                  </a:lnTo>
                  <a:lnTo>
                    <a:pt x="1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61480" y="6100560"/>
              <a:ext cx="59760" cy="489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421240" y="6149880"/>
              <a:ext cx="8280" cy="86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429520" y="6158880"/>
              <a:ext cx="72000" cy="453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501880" y="620460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510160" y="6213960"/>
              <a:ext cx="51120" cy="48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8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561640" y="6262560"/>
              <a:ext cx="46080" cy="45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6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607720" y="630828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254320" y="6281280"/>
              <a:ext cx="28440" cy="266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282760" y="6262560"/>
              <a:ext cx="16560" cy="18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299680" y="6204600"/>
              <a:ext cx="42840" cy="579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9"/>
                  </a:moveTo>
                  <a:lnTo>
                    <a:pt x="3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42520" y="6186600"/>
              <a:ext cx="25920" cy="17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68440" y="6158880"/>
              <a:ext cx="36720" cy="27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405520" y="6100560"/>
              <a:ext cx="51840" cy="57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9"/>
                  </a:moveTo>
                  <a:lnTo>
                    <a:pt x="3" y="13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457720" y="61005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66000" y="6046200"/>
              <a:ext cx="71280" cy="543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3" y="15"/>
                  </a:lnTo>
                  <a:lnTo>
                    <a:pt x="9" y="9"/>
                  </a:lnTo>
                  <a:lnTo>
                    <a:pt x="19" y="6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537640" y="6037200"/>
              <a:ext cx="1728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555280" y="5996880"/>
              <a:ext cx="63000" cy="399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5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618280" y="5978880"/>
              <a:ext cx="25200" cy="17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643480" y="5942520"/>
              <a:ext cx="68760" cy="36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2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712600" y="5933520"/>
              <a:ext cx="19800" cy="86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32760" y="5884200"/>
              <a:ext cx="85680" cy="489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6"/>
                  </a:moveTo>
                  <a:lnTo>
                    <a:pt x="6" y="13"/>
                  </a:lnTo>
                  <a:lnTo>
                    <a:pt x="15" y="7"/>
                  </a:lnTo>
                  <a:lnTo>
                    <a:pt x="24" y="4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18440" y="58842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826720" y="5857200"/>
              <a:ext cx="80280" cy="2664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9"/>
                  </a:moveTo>
                  <a:lnTo>
                    <a:pt x="7" y="6"/>
                  </a:lnTo>
                  <a:lnTo>
                    <a:pt x="13" y="6"/>
                  </a:lnTo>
                  <a:lnTo>
                    <a:pt x="22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907360" y="5838840"/>
              <a:ext cx="71280" cy="183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6" y="3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979000" y="5829840"/>
              <a:ext cx="1728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4920" y="5802120"/>
              <a:ext cx="88920" cy="2736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21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093840" y="5784120"/>
              <a:ext cx="85680" cy="17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9" y="6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179880" y="5784120"/>
              <a:ext cx="19800" cy="252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0040" y="5775120"/>
              <a:ext cx="68760" cy="86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lnTo>
                    <a:pt x="6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268800" y="5753520"/>
              <a:ext cx="8820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357360" y="57438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446280" y="5734800"/>
              <a:ext cx="97200" cy="864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543840" y="57348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629520" y="572616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718800" y="57261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807720" y="5726160"/>
              <a:ext cx="2520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833280" y="5726160"/>
              <a:ext cx="63000" cy="252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96280" y="5726160"/>
              <a:ext cx="1728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913920" y="5726160"/>
              <a:ext cx="71280" cy="252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0" y="0"/>
                  </a:moveTo>
                  <a:lnTo>
                    <a:pt x="3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985200" y="5726160"/>
              <a:ext cx="93960" cy="864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079520" y="57348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8440" y="5734800"/>
              <a:ext cx="88920" cy="864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257720" y="57438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346640" y="5753520"/>
              <a:ext cx="85680" cy="86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432320" y="5762520"/>
              <a:ext cx="8892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521600" y="5775120"/>
              <a:ext cx="45360" cy="86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66960" y="5784120"/>
              <a:ext cx="51840" cy="86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19160" y="5793120"/>
              <a:ext cx="88200" cy="1764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707360" y="5811120"/>
              <a:ext cx="8892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796640" y="5829840"/>
              <a:ext cx="1656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813560" y="5838840"/>
              <a:ext cx="68760" cy="18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82320" y="5857200"/>
              <a:ext cx="88920" cy="266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971240" y="58842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979880" y="588420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6" y="4"/>
                  </a:lnTo>
                  <a:lnTo>
                    <a:pt x="16" y="7"/>
                  </a:lnTo>
                  <a:lnTo>
                    <a:pt x="22" y="7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68800" y="5914800"/>
              <a:ext cx="42840" cy="273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5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111640" y="5942520"/>
              <a:ext cx="46080" cy="18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58080" y="5961240"/>
              <a:ext cx="68040" cy="356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226120" y="5996880"/>
              <a:ext cx="19800" cy="93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46280" y="6006600"/>
              <a:ext cx="68760" cy="392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6" y="4"/>
                  </a:lnTo>
                  <a:lnTo>
                    <a:pt x="12" y="7"/>
                  </a:lnTo>
                  <a:lnTo>
                    <a:pt x="18" y="10"/>
                  </a:lnTo>
                  <a:lnTo>
                    <a:pt x="24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315400" y="6046200"/>
              <a:ext cx="17280" cy="86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2155680" y="5638680"/>
            <a:ext cx="3565080" cy="671040"/>
            <a:chOff x="2155680" y="5638680"/>
            <a:chExt cx="3565080" cy="671040"/>
          </a:xfrm>
        </p:grpSpPr>
        <p:sp>
          <p:nvSpPr>
            <p:cNvPr id="2254" name=""/>
            <p:cNvSpPr/>
            <p:nvPr/>
          </p:nvSpPr>
          <p:spPr>
            <a:xfrm>
              <a:off x="5331600" y="605520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7" y="3"/>
                  </a:lnTo>
                  <a:lnTo>
                    <a:pt x="13" y="6"/>
                  </a:lnTo>
                  <a:lnTo>
                    <a:pt x="16" y="12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394600" y="6101280"/>
              <a:ext cx="2520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20160" y="6120000"/>
              <a:ext cx="46080" cy="3960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6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66240" y="6159600"/>
              <a:ext cx="4284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509080" y="619668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526000" y="6205680"/>
              <a:ext cx="63000" cy="58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6" y="3"/>
                  </a:lnTo>
                  <a:lnTo>
                    <a:pt x="9" y="9"/>
                  </a:lnTo>
                  <a:lnTo>
                    <a:pt x="15" y="12"/>
                  </a:lnTo>
                  <a:lnTo>
                    <a:pt x="2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589000" y="6264000"/>
              <a:ext cx="1728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06640" y="6282720"/>
              <a:ext cx="3420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1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26960" y="626400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6" y="12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269800" y="6251400"/>
              <a:ext cx="11520" cy="12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281680" y="620568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316240" y="615960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6" y="12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367360" y="615060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367360" y="6101280"/>
              <a:ext cx="63000" cy="4932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6" y="13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30360" y="6073920"/>
              <a:ext cx="2592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456640" y="6046200"/>
              <a:ext cx="34200" cy="277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490840" y="6006600"/>
              <a:ext cx="63000" cy="396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7" y="10"/>
                  </a:lnTo>
                  <a:lnTo>
                    <a:pt x="10" y="7"/>
                  </a:lnTo>
                  <a:lnTo>
                    <a:pt x="16" y="4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53840" y="5996880"/>
              <a:ext cx="8280" cy="9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570760" y="595080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3" y="9"/>
                  </a:lnTo>
                  <a:lnTo>
                    <a:pt x="12" y="6"/>
                  </a:lnTo>
                  <a:lnTo>
                    <a:pt x="19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42400" y="59418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50680" y="5905080"/>
              <a:ext cx="80280" cy="367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6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31320" y="5883480"/>
              <a:ext cx="25920" cy="21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757600" y="5856120"/>
              <a:ext cx="59760" cy="27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817360" y="5837400"/>
              <a:ext cx="71280" cy="18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888640" y="582840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06280" y="58006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003840" y="5782680"/>
              <a:ext cx="71280" cy="180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075480" y="577332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92760" y="5752080"/>
              <a:ext cx="85680" cy="212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6" y="7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178800" y="574200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267720" y="572400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356280" y="5724000"/>
              <a:ext cx="2592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382200" y="5715000"/>
              <a:ext cx="63000" cy="90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445200" y="57060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542760" y="570600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628440" y="57060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717720" y="569628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806640" y="569628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895200" y="56962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984120" y="5696280"/>
              <a:ext cx="93960" cy="972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9" y="0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078440" y="57060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167360" y="57060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56280" y="57150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345560" y="5724000"/>
              <a:ext cx="2520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370760" y="5724000"/>
              <a:ext cx="6012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31240" y="57330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520520" y="5742000"/>
              <a:ext cx="97200" cy="187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17720" y="5761080"/>
              <a:ext cx="8820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9" y="0"/>
                  </a:lnTo>
                  <a:lnTo>
                    <a:pt x="15" y="4"/>
                  </a:lnTo>
                  <a:lnTo>
                    <a:pt x="25" y="4"/>
                  </a:lnTo>
                  <a:lnTo>
                    <a:pt x="3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706280" y="5782680"/>
              <a:ext cx="324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706280" y="578268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795200" y="5800680"/>
              <a:ext cx="85680" cy="277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9" y="3"/>
                  </a:lnTo>
                  <a:lnTo>
                    <a:pt x="18" y="3"/>
                  </a:lnTo>
                  <a:lnTo>
                    <a:pt x="24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81240" y="5828400"/>
              <a:ext cx="28440" cy="90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09680" y="5837400"/>
              <a:ext cx="60120" cy="18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970160" y="5856120"/>
              <a:ext cx="8892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59440" y="588348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067720" y="5883480"/>
              <a:ext cx="88920" cy="493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6" y="4"/>
                  </a:lnTo>
                  <a:lnTo>
                    <a:pt x="15" y="7"/>
                  </a:lnTo>
                  <a:lnTo>
                    <a:pt x="22" y="13"/>
                  </a:lnTo>
                  <a:lnTo>
                    <a:pt x="3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156640" y="59328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173560" y="594180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245200" y="597888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79760" y="5996880"/>
              <a:ext cx="51840" cy="309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18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31600" y="6028200"/>
              <a:ext cx="28440" cy="18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7" y="6"/>
                  </a:lnTo>
                  <a:lnTo>
                    <a:pt x="1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360400" y="6046200"/>
              <a:ext cx="59760" cy="457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18" y="12"/>
                  </a:lnTo>
                  <a:lnTo>
                    <a:pt x="2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420160" y="609228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437440" y="6101280"/>
              <a:ext cx="63000" cy="58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3" y="3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500800" y="61596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509080" y="615960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6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560560" y="6205680"/>
              <a:ext cx="46080" cy="36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3" y="3"/>
                  </a:lnTo>
                  <a:lnTo>
                    <a:pt x="10" y="9"/>
                  </a:lnTo>
                  <a:lnTo>
                    <a:pt x="13" y="12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606640" y="6242400"/>
              <a:ext cx="8280" cy="21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614920" y="626400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209320" y="626400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243880" y="6215400"/>
              <a:ext cx="37440" cy="48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281680" y="6205680"/>
              <a:ext cx="8280" cy="9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289960" y="615960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3" y="12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32800" y="6120000"/>
              <a:ext cx="34200" cy="396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3" y="7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67360" y="6101280"/>
              <a:ext cx="28440" cy="18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396160" y="6046200"/>
              <a:ext cx="51120" cy="54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3" y="12"/>
                  </a:lnTo>
                  <a:lnTo>
                    <a:pt x="9" y="9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7280" y="6037200"/>
              <a:ext cx="900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456640" y="5996880"/>
              <a:ext cx="63000" cy="403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6" y="10"/>
                  </a:lnTo>
                  <a:lnTo>
                    <a:pt x="12" y="7"/>
                  </a:lnTo>
                  <a:lnTo>
                    <a:pt x="15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19640" y="5969520"/>
              <a:ext cx="3420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53840" y="594180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597040" y="5914080"/>
              <a:ext cx="45360" cy="27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3" y="6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642400" y="5883480"/>
              <a:ext cx="51840" cy="30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lnTo>
                    <a:pt x="3" y="7"/>
                  </a:lnTo>
                  <a:lnTo>
                    <a:pt x="9" y="7"/>
                  </a:lnTo>
                  <a:lnTo>
                    <a:pt x="15" y="4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694240" y="5865480"/>
              <a:ext cx="3672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731320" y="5837400"/>
              <a:ext cx="77040" cy="277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808720" y="58284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17360" y="58006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906280" y="5782680"/>
              <a:ext cx="54360" cy="18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61000" y="577332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03840" y="5742000"/>
              <a:ext cx="88920" cy="3096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6" y="6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092760" y="572400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9" y="6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78800" y="5724000"/>
              <a:ext cx="108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189600" y="5715000"/>
              <a:ext cx="77760" cy="90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3"/>
                  </a:moveTo>
                  <a:lnTo>
                    <a:pt x="3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267720" y="569628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356280" y="5687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445200" y="568728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42760" y="567828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28440" y="56782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17720" y="56782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806640" y="566928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95200" y="56782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84120" y="567828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078440" y="56782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67360" y="5678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256280" y="5687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345560" y="5696280"/>
              <a:ext cx="85680" cy="97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31240" y="57060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20520" y="5715000"/>
              <a:ext cx="5364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6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574160" y="5724000"/>
              <a:ext cx="4320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617720" y="573300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22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706280" y="5752080"/>
              <a:ext cx="8892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795200" y="577332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821480" y="5782680"/>
              <a:ext cx="59760" cy="180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5" y="3"/>
                  </a:lnTo>
                  <a:lnTo>
                    <a:pt x="2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881240" y="58006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70160" y="582840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96080" y="5837400"/>
              <a:ext cx="71280" cy="18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4" y="0"/>
                  </a:lnTo>
                  <a:lnTo>
                    <a:pt x="10" y="3"/>
                  </a:lnTo>
                  <a:lnTo>
                    <a:pt x="16" y="3"/>
                  </a:lnTo>
                  <a:lnTo>
                    <a:pt x="2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067720" y="5856120"/>
              <a:ext cx="63000" cy="270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5" y="6"/>
                  </a:lnTo>
                  <a:lnTo>
                    <a:pt x="2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30720" y="5883480"/>
              <a:ext cx="25920" cy="122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56640" y="589608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21" y="12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36560" y="59418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245200" y="5941800"/>
              <a:ext cx="77040" cy="5472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0"/>
                  </a:moveTo>
                  <a:lnTo>
                    <a:pt x="6" y="3"/>
                  </a:lnTo>
                  <a:lnTo>
                    <a:pt x="15" y="9"/>
                  </a:lnTo>
                  <a:lnTo>
                    <a:pt x="21" y="12"/>
                  </a:lnTo>
                  <a:lnTo>
                    <a:pt x="27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322600" y="599688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331600" y="5996880"/>
              <a:ext cx="71280" cy="493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3"/>
                  </a:lnTo>
                  <a:lnTo>
                    <a:pt x="13" y="7"/>
                  </a:lnTo>
                  <a:lnTo>
                    <a:pt x="19" y="13"/>
                  </a:lnTo>
                  <a:lnTo>
                    <a:pt x="25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03240" y="60462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20160" y="6055200"/>
              <a:ext cx="54360" cy="457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6" y="12"/>
                  </a:lnTo>
                  <a:lnTo>
                    <a:pt x="1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74520" y="6101280"/>
              <a:ext cx="34200" cy="277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09080" y="6129000"/>
              <a:ext cx="25920" cy="306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6" y="7"/>
                  </a:lnTo>
                  <a:lnTo>
                    <a:pt x="9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535000" y="615960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6" y="12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598000" y="6205680"/>
              <a:ext cx="8280" cy="9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606640" y="6215400"/>
              <a:ext cx="34200" cy="48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641200" y="626400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6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184120" y="630072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192400" y="6264000"/>
              <a:ext cx="25920" cy="36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218680" y="6205680"/>
              <a:ext cx="42840" cy="583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9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261520" y="6178320"/>
              <a:ext cx="19800" cy="270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281680" y="6159600"/>
              <a:ext cx="2520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06880" y="6101280"/>
              <a:ext cx="42840" cy="583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9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349720" y="6083280"/>
              <a:ext cx="1728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367360" y="6046200"/>
              <a:ext cx="45360" cy="36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413080" y="6006600"/>
              <a:ext cx="43200" cy="39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56640" y="5996880"/>
              <a:ext cx="16560" cy="97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473200" y="5941800"/>
              <a:ext cx="71280" cy="547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6" y="12"/>
                  </a:lnTo>
                  <a:lnTo>
                    <a:pt x="13" y="9"/>
                  </a:lnTo>
                  <a:lnTo>
                    <a:pt x="19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544840" y="594180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553840" y="5883480"/>
              <a:ext cx="79920" cy="583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9"/>
                  </a:moveTo>
                  <a:lnTo>
                    <a:pt x="6" y="13"/>
                  </a:lnTo>
                  <a:lnTo>
                    <a:pt x="12" y="10"/>
                  </a:lnTo>
                  <a:lnTo>
                    <a:pt x="22" y="4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33760" y="588348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642400" y="5837400"/>
              <a:ext cx="8892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lnTo>
                    <a:pt x="6" y="9"/>
                  </a:lnTo>
                  <a:lnTo>
                    <a:pt x="15" y="6"/>
                  </a:lnTo>
                  <a:lnTo>
                    <a:pt x="24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31320" y="583740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731320" y="5791680"/>
              <a:ext cx="8568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9" y="12"/>
                  </a:lnTo>
                  <a:lnTo>
                    <a:pt x="15" y="9"/>
                  </a:lnTo>
                  <a:lnTo>
                    <a:pt x="24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817360" y="5782680"/>
              <a:ext cx="4608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6" y="3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863440" y="5761080"/>
              <a:ext cx="42840" cy="212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906280" y="573300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9" y="6"/>
                  </a:lnTo>
                  <a:lnTo>
                    <a:pt x="15" y="6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003840" y="572400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038400" y="5715000"/>
              <a:ext cx="5436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092760" y="569628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78800" y="567828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7" y="3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267720" y="5678280"/>
              <a:ext cx="63000" cy="252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330720" y="566928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356280" y="565920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45200" y="56502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542760" y="56502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628440" y="563868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4"/>
                  </a:moveTo>
                  <a:lnTo>
                    <a:pt x="7" y="4"/>
                  </a:lnTo>
                  <a:lnTo>
                    <a:pt x="16" y="4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717720" y="5638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806640" y="563868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895200" y="5638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984120" y="5638680"/>
              <a:ext cx="93960" cy="11520"/>
            </a:xfrm>
            <a:custGeom>
              <a:avLst/>
              <a:gdLst/>
              <a:ahLst/>
              <a:rect l="l" t="t" r="r" b="b"/>
              <a:pathLst>
                <a:path w="33" h="4">
                  <a:moveTo>
                    <a:pt x="0" y="0"/>
                  </a:moveTo>
                  <a:lnTo>
                    <a:pt x="9" y="0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3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78440" y="56502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167360" y="56502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256280" y="5659200"/>
              <a:ext cx="88920" cy="97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345560" y="5669280"/>
              <a:ext cx="68040" cy="90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13600" y="5678280"/>
              <a:ext cx="1728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31240" y="5678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20520" y="568728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9" y="0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617720" y="5696280"/>
              <a:ext cx="8820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5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706280" y="571500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732200" y="572400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5" y="3"/>
                  </a:lnTo>
                  <a:lnTo>
                    <a:pt x="2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795200" y="574200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881240" y="5761080"/>
              <a:ext cx="54360" cy="212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7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9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935600" y="578268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970160" y="5791680"/>
              <a:ext cx="97200" cy="367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0"/>
                  </a:moveTo>
                  <a:lnTo>
                    <a:pt x="9" y="3"/>
                  </a:lnTo>
                  <a:lnTo>
                    <a:pt x="19" y="6"/>
                  </a:lnTo>
                  <a:lnTo>
                    <a:pt x="25" y="9"/>
                  </a:lnTo>
                  <a:lnTo>
                    <a:pt x="34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067720" y="58284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076000" y="5837400"/>
              <a:ext cx="80280" cy="2772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22" y="6"/>
                  </a:lnTo>
                  <a:lnTo>
                    <a:pt x="2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156640" y="5865480"/>
              <a:ext cx="42840" cy="180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199840" y="5883480"/>
              <a:ext cx="45360" cy="30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13" y="7"/>
                  </a:lnTo>
                  <a:lnTo>
                    <a:pt x="16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245200" y="5914080"/>
              <a:ext cx="51840" cy="27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297040" y="5941800"/>
              <a:ext cx="34200" cy="18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31600" y="5960520"/>
              <a:ext cx="45360" cy="360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3" y="3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376960" y="5996880"/>
              <a:ext cx="42840" cy="30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20160" y="602820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54360" y="6046200"/>
              <a:ext cx="54360" cy="457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4" y="3"/>
                  </a:lnTo>
                  <a:lnTo>
                    <a:pt x="10" y="9"/>
                  </a:lnTo>
                  <a:lnTo>
                    <a:pt x="16" y="12"/>
                  </a:lnTo>
                  <a:lnTo>
                    <a:pt x="1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509080" y="60922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17720" y="6101280"/>
              <a:ext cx="63000" cy="5832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5" y="13"/>
                  </a:lnTo>
                  <a:lnTo>
                    <a:pt x="2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580720" y="6159600"/>
              <a:ext cx="2592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606640" y="6178320"/>
              <a:ext cx="2592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32560" y="6205680"/>
              <a:ext cx="42840" cy="583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2" y="12"/>
                  </a:lnTo>
                  <a:lnTo>
                    <a:pt x="15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675400" y="6264000"/>
              <a:ext cx="19800" cy="18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695560" y="6282720"/>
              <a:ext cx="2520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155680" y="6264000"/>
              <a:ext cx="36720" cy="45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4" y="12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192400" y="626400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192400" y="6205680"/>
              <a:ext cx="34200" cy="583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5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226960" y="615960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269800" y="6141600"/>
              <a:ext cx="11520" cy="18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095560" y="5529240"/>
            <a:ext cx="3723480" cy="788400"/>
            <a:chOff x="2095560" y="5529240"/>
            <a:chExt cx="3723480" cy="788400"/>
          </a:xfrm>
        </p:grpSpPr>
        <p:sp>
          <p:nvSpPr>
            <p:cNvPr id="2455" name=""/>
            <p:cNvSpPr/>
            <p:nvPr/>
          </p:nvSpPr>
          <p:spPr>
            <a:xfrm>
              <a:off x="2282040" y="6100200"/>
              <a:ext cx="34200" cy="39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316600" y="6045480"/>
              <a:ext cx="51120" cy="54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6" y="12"/>
                  </a:lnTo>
                  <a:lnTo>
                    <a:pt x="9" y="9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367720" y="6045480"/>
              <a:ext cx="252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367720" y="5996160"/>
              <a:ext cx="54360" cy="489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6"/>
                  </a:moveTo>
                  <a:lnTo>
                    <a:pt x="6" y="13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422440" y="5960160"/>
              <a:ext cx="34200" cy="36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457000" y="5941440"/>
              <a:ext cx="34200" cy="18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491200" y="589572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5"/>
                  </a:move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554200" y="5883120"/>
              <a:ext cx="16560" cy="12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571120" y="584640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19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642760" y="583740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660400" y="5800680"/>
              <a:ext cx="71280" cy="367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731680" y="578268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766240" y="5761440"/>
              <a:ext cx="51120" cy="2124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lnTo>
                    <a:pt x="6" y="4"/>
                  </a:lnTo>
                  <a:lnTo>
                    <a:pt x="9" y="4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817720" y="572436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lnTo>
                    <a:pt x="10" y="9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906640" y="572436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906640" y="56966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9"/>
                  </a:lnTo>
                  <a:lnTo>
                    <a:pt x="15" y="6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004200" y="567864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093480" y="5678640"/>
              <a:ext cx="165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110400" y="5659920"/>
              <a:ext cx="68760" cy="18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179160" y="5639400"/>
              <a:ext cx="88920" cy="205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7" y="7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268080" y="562968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356640" y="56206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445560" y="5620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534840" y="56206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543120" y="561168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6" y="3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29160" y="5611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18080" y="5611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807000" y="561168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895560" y="561168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984480" y="561168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078800" y="56116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168080" y="56206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176360" y="5620680"/>
              <a:ext cx="80280" cy="252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257000" y="56206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346280" y="5629680"/>
              <a:ext cx="85680" cy="936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431960" y="563940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10" y="0"/>
                  </a:lnTo>
                  <a:lnTo>
                    <a:pt x="16" y="4"/>
                  </a:lnTo>
                  <a:lnTo>
                    <a:pt x="25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20880" y="5650920"/>
              <a:ext cx="97200" cy="1836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18440" y="566964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44000" y="5678640"/>
              <a:ext cx="63000" cy="90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707000" y="5687640"/>
              <a:ext cx="8892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795920" y="5706360"/>
              <a:ext cx="77040" cy="18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27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73320" y="572436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81960" y="572436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7" y="3"/>
                  </a:lnTo>
                  <a:lnTo>
                    <a:pt x="16" y="6"/>
                  </a:lnTo>
                  <a:lnTo>
                    <a:pt x="25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970880" y="5752080"/>
              <a:ext cx="63000" cy="302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6" y="3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2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033880" y="578268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068440" y="579168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2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157360" y="58284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166000" y="5837400"/>
              <a:ext cx="79920" cy="367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21" y="9"/>
                  </a:lnTo>
                  <a:lnTo>
                    <a:pt x="2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45920" y="587412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71840" y="5883120"/>
              <a:ext cx="60120" cy="399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10"/>
                  </a:lnTo>
                  <a:lnTo>
                    <a:pt x="21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332320" y="5923440"/>
              <a:ext cx="28440" cy="18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361120" y="5941440"/>
              <a:ext cx="59760" cy="457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20880" y="598716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38160" y="5996160"/>
              <a:ext cx="63000" cy="489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3" y="3"/>
                  </a:lnTo>
                  <a:lnTo>
                    <a:pt x="10" y="7"/>
                  </a:lnTo>
                  <a:lnTo>
                    <a:pt x="16" y="13"/>
                  </a:lnTo>
                  <a:lnTo>
                    <a:pt x="22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501520" y="60454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509800" y="605448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5" y="12"/>
                  </a:lnTo>
                  <a:lnTo>
                    <a:pt x="1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561280" y="6100200"/>
              <a:ext cx="46080" cy="399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3" y="3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6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07360" y="614052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15640" y="615852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2" y="12"/>
                  </a:lnTo>
                  <a:lnTo>
                    <a:pt x="1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667120" y="6204240"/>
              <a:ext cx="29160" cy="36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10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696280" y="6240960"/>
              <a:ext cx="1656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713200" y="626256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12"/>
                  </a:lnTo>
                  <a:lnTo>
                    <a:pt x="1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129760" y="6262560"/>
              <a:ext cx="2592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155680" y="6213960"/>
              <a:ext cx="36720" cy="48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6"/>
                  </a:moveTo>
                  <a:lnTo>
                    <a:pt x="4" y="9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192760" y="6204240"/>
              <a:ext cx="2520" cy="9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192760" y="615852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235960" y="610020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3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270160" y="6091200"/>
              <a:ext cx="11520" cy="90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82040" y="604548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324880" y="5996160"/>
              <a:ext cx="42840" cy="48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3" y="13"/>
                  </a:lnTo>
                  <a:lnTo>
                    <a:pt x="9" y="7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367720" y="59961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376360" y="5941440"/>
              <a:ext cx="63000" cy="547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8"/>
                  </a:moveTo>
                  <a:lnTo>
                    <a:pt x="3" y="12"/>
                  </a:lnTo>
                  <a:lnTo>
                    <a:pt x="10" y="9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439360" y="5923440"/>
              <a:ext cx="1728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457000" y="5883120"/>
              <a:ext cx="42840" cy="399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3"/>
                  </a:moveTo>
                  <a:lnTo>
                    <a:pt x="3" y="10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499840" y="5856120"/>
              <a:ext cx="54360" cy="27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7" y="6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554200" y="5837400"/>
              <a:ext cx="25200" cy="18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579760" y="580068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6" y="9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642760" y="578268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677320" y="5752080"/>
              <a:ext cx="54360" cy="302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3" y="7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731680" y="5724360"/>
              <a:ext cx="60120" cy="27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9"/>
                  </a:moveTo>
                  <a:lnTo>
                    <a:pt x="6" y="6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792160" y="571536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817720" y="56876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906640" y="5678640"/>
              <a:ext cx="4284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949480" y="5659920"/>
              <a:ext cx="46080" cy="18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004200" y="5639400"/>
              <a:ext cx="88920" cy="205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lnTo>
                    <a:pt x="6" y="4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093480" y="5620680"/>
              <a:ext cx="85680" cy="18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179160" y="562068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179160" y="560268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7" y="6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268080" y="559296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56640" y="5583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445560" y="55839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43120" y="557496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629160" y="55749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718080" y="55749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7000" y="557496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895560" y="55749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984480" y="557496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078800" y="5574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168080" y="55839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257000" y="5583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346280" y="5592960"/>
              <a:ext cx="85680" cy="936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431960" y="56026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520880" y="5611680"/>
              <a:ext cx="36720" cy="90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557960" y="5620680"/>
              <a:ext cx="6012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18440" y="5629680"/>
              <a:ext cx="88200" cy="212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31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07000" y="5650920"/>
              <a:ext cx="8892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95920" y="566964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821840" y="5678640"/>
              <a:ext cx="59760" cy="90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881960" y="56876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10" y="3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70880" y="5715360"/>
              <a:ext cx="36720" cy="90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07960" y="5724360"/>
              <a:ext cx="60120" cy="180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068440" y="5742720"/>
              <a:ext cx="71280" cy="39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9" y="10"/>
                  </a:lnTo>
                  <a:lnTo>
                    <a:pt x="25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140080" y="578268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157360" y="5791680"/>
              <a:ext cx="8820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45920" y="5828400"/>
              <a:ext cx="324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245920" y="5837400"/>
              <a:ext cx="8640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9" y="3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32320" y="58831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340960" y="5883120"/>
              <a:ext cx="79920" cy="57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0"/>
                  </a:moveTo>
                  <a:lnTo>
                    <a:pt x="7" y="4"/>
                  </a:lnTo>
                  <a:lnTo>
                    <a:pt x="13" y="10"/>
                  </a:lnTo>
                  <a:lnTo>
                    <a:pt x="22" y="13"/>
                  </a:lnTo>
                  <a:lnTo>
                    <a:pt x="28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420880" y="594144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420880" y="5941440"/>
              <a:ext cx="71280" cy="547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19" y="12"/>
                  </a:lnTo>
                  <a:lnTo>
                    <a:pt x="25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492160" y="5996160"/>
              <a:ext cx="17280" cy="9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509800" y="6005880"/>
              <a:ext cx="42840" cy="39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3" y="4"/>
                  </a:lnTo>
                  <a:lnTo>
                    <a:pt x="9" y="7"/>
                  </a:lnTo>
                  <a:lnTo>
                    <a:pt x="12" y="10"/>
                  </a:lnTo>
                  <a:lnTo>
                    <a:pt x="15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552640" y="6045480"/>
              <a:ext cx="54360" cy="457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2"/>
                  </a:lnTo>
                  <a:lnTo>
                    <a:pt x="1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07360" y="609120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07360" y="6100200"/>
              <a:ext cx="51120" cy="57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2" y="13"/>
                  </a:lnTo>
                  <a:lnTo>
                    <a:pt x="18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58840" y="6158520"/>
              <a:ext cx="37440" cy="36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3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696280" y="619524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704920" y="6204240"/>
              <a:ext cx="42840" cy="579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9" y="12"/>
                  </a:lnTo>
                  <a:lnTo>
                    <a:pt x="15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747760" y="626256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9" y="12"/>
                  </a:lnTo>
                  <a:lnTo>
                    <a:pt x="1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095560" y="630828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3840" y="6262560"/>
              <a:ext cx="2592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29760" y="6204240"/>
              <a:ext cx="2592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9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55680" y="6158520"/>
              <a:ext cx="36720" cy="45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4" y="12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92760" y="615852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92760" y="6100200"/>
              <a:ext cx="42840" cy="579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9"/>
                  </a:moveTo>
                  <a:lnTo>
                    <a:pt x="3" y="13"/>
                  </a:lnTo>
                  <a:lnTo>
                    <a:pt x="6" y="9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235960" y="6045480"/>
              <a:ext cx="46080" cy="547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282040" y="604548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282040" y="5996160"/>
              <a:ext cx="42840" cy="48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3" y="10"/>
                  </a:lnTo>
                  <a:lnTo>
                    <a:pt x="6" y="7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324880" y="5941440"/>
              <a:ext cx="42840" cy="547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8"/>
                  </a:moveTo>
                  <a:lnTo>
                    <a:pt x="3" y="12"/>
                  </a:lnTo>
                  <a:lnTo>
                    <a:pt x="9" y="9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367720" y="59414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376360" y="5883120"/>
              <a:ext cx="63000" cy="57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lnTo>
                    <a:pt x="7" y="16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439360" y="5865120"/>
              <a:ext cx="1728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457000" y="5837400"/>
              <a:ext cx="53640" cy="277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510640" y="5800680"/>
              <a:ext cx="43200" cy="36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554200" y="5782680"/>
              <a:ext cx="3348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588040" y="5752080"/>
              <a:ext cx="54360" cy="302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3" y="7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42760" y="5724360"/>
              <a:ext cx="42840" cy="277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685600" y="5706360"/>
              <a:ext cx="4608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731680" y="5678640"/>
              <a:ext cx="77040" cy="277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809080" y="566964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817720" y="563940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6" y="7"/>
                  </a:lnTo>
                  <a:lnTo>
                    <a:pt x="16" y="4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06640" y="5620680"/>
              <a:ext cx="63000" cy="18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969640" y="561168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004200" y="5592960"/>
              <a:ext cx="8892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093480" y="557496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79160" y="5565960"/>
              <a:ext cx="63000" cy="90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7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242160" y="5565960"/>
              <a:ext cx="2592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268080" y="5547240"/>
              <a:ext cx="8820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356640" y="554724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445560" y="553824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543120" y="553824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29160" y="552924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718080" y="552924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07000" y="552924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895560" y="552924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984480" y="552924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9" y="3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078800" y="553824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168080" y="553824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257000" y="554724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346280" y="5556240"/>
              <a:ext cx="85680" cy="936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431960" y="5565960"/>
              <a:ext cx="45360" cy="252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477320" y="5565960"/>
              <a:ext cx="4320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20880" y="557496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618440" y="5583960"/>
              <a:ext cx="88200" cy="18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707000" y="5602680"/>
              <a:ext cx="80280" cy="180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787640" y="56206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795920" y="5620680"/>
              <a:ext cx="85680" cy="18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81960" y="563940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10" y="4"/>
                  </a:lnTo>
                  <a:lnTo>
                    <a:pt x="19" y="7"/>
                  </a:lnTo>
                  <a:lnTo>
                    <a:pt x="25" y="10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970880" y="566964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979160" y="567864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3" y="3"/>
                  </a:lnTo>
                  <a:lnTo>
                    <a:pt x="22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68440" y="5696640"/>
              <a:ext cx="54360" cy="277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5" y="9"/>
                  </a:lnTo>
                  <a:lnTo>
                    <a:pt x="1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123160" y="572436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157360" y="5733360"/>
              <a:ext cx="79920" cy="489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0"/>
                  </a:moveTo>
                  <a:lnTo>
                    <a:pt x="6" y="6"/>
                  </a:lnTo>
                  <a:lnTo>
                    <a:pt x="15" y="9"/>
                  </a:lnTo>
                  <a:lnTo>
                    <a:pt x="21" y="13"/>
                  </a:lnTo>
                  <a:lnTo>
                    <a:pt x="28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237280" y="578268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245920" y="5782680"/>
              <a:ext cx="8640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6" y="3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332320" y="582840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332320" y="583740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7" y="3"/>
                  </a:lnTo>
                  <a:lnTo>
                    <a:pt x="16" y="6"/>
                  </a:lnTo>
                  <a:lnTo>
                    <a:pt x="22" y="12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412240" y="5883120"/>
              <a:ext cx="8280" cy="12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420880" y="589572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9" y="9"/>
                  </a:lnTo>
                  <a:lnTo>
                    <a:pt x="2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492160" y="5941440"/>
              <a:ext cx="17280" cy="18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509800" y="5960160"/>
              <a:ext cx="42840" cy="36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552640" y="5996160"/>
              <a:ext cx="54360" cy="489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3" y="3"/>
                  </a:lnTo>
                  <a:lnTo>
                    <a:pt x="10" y="7"/>
                  </a:lnTo>
                  <a:lnTo>
                    <a:pt x="13" y="13"/>
                  </a:lnTo>
                  <a:lnTo>
                    <a:pt x="19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607360" y="604548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607360" y="6045480"/>
              <a:ext cx="51120" cy="54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3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8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58840" y="6100200"/>
              <a:ext cx="37440" cy="39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3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696280" y="614052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704920" y="615852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12"/>
                  </a:lnTo>
                  <a:lnTo>
                    <a:pt x="1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747760" y="620424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9" y="15"/>
                  </a:lnTo>
                  <a:lnTo>
                    <a:pt x="1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782320" y="6262560"/>
              <a:ext cx="252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782320" y="6262560"/>
              <a:ext cx="36720" cy="45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10" y="12"/>
                  </a:lnTo>
                  <a:lnTo>
                    <a:pt x="13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1989000" y="5349960"/>
            <a:ext cx="3907800" cy="959760"/>
            <a:chOff x="1989000" y="5349960"/>
            <a:chExt cx="3907800" cy="959760"/>
          </a:xfrm>
        </p:grpSpPr>
        <p:sp>
          <p:nvSpPr>
            <p:cNvPr id="2656" name=""/>
            <p:cNvSpPr/>
            <p:nvPr/>
          </p:nvSpPr>
          <p:spPr>
            <a:xfrm>
              <a:off x="2060280" y="626400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094840" y="6242760"/>
              <a:ext cx="8280" cy="21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6206040"/>
              <a:ext cx="17280" cy="36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20760" y="6159960"/>
              <a:ext cx="2520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3" y="12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46320" y="6101640"/>
              <a:ext cx="46080" cy="57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9"/>
                  </a:moveTo>
                  <a:lnTo>
                    <a:pt x="7" y="13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92400" y="609264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92400" y="604692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226960" y="5997600"/>
              <a:ext cx="42840" cy="48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lnTo>
                    <a:pt x="3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269800" y="5979600"/>
              <a:ext cx="11520" cy="18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281320" y="5942880"/>
              <a:ext cx="34200" cy="36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315880" y="5884560"/>
              <a:ext cx="51120" cy="57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9"/>
                  </a:moveTo>
                  <a:lnTo>
                    <a:pt x="6" y="13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367360" y="588456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367360" y="583884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5"/>
                  </a:moveTo>
                  <a:lnTo>
                    <a:pt x="6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30360" y="5811120"/>
              <a:ext cx="25920" cy="27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56280" y="5784120"/>
              <a:ext cx="42840" cy="270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99120" y="5743800"/>
              <a:ext cx="54360" cy="39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4" y="10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53840" y="5725800"/>
              <a:ext cx="2520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579400" y="568908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642400" y="568008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676960" y="5652360"/>
              <a:ext cx="54360" cy="277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9"/>
                  </a:moveTo>
                  <a:lnTo>
                    <a:pt x="3" y="6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731320" y="5621760"/>
              <a:ext cx="68760" cy="302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6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800440" y="561276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17360" y="55850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906280" y="5567040"/>
              <a:ext cx="63000" cy="180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969280" y="5557320"/>
              <a:ext cx="25920" cy="93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003840" y="553932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6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093120" y="5517720"/>
              <a:ext cx="85680" cy="212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6" y="7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178800" y="5517720"/>
              <a:ext cx="71280" cy="324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250440" y="550872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268080" y="549972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56280" y="54900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445560" y="549000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543120" y="54810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628800" y="5481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718080" y="5481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807000" y="54810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895560" y="5481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84480" y="548100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078800" y="5490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168080" y="549000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257000" y="54997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346280" y="549972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3"/>
                  </a:lnTo>
                  <a:lnTo>
                    <a:pt x="18" y="3"/>
                  </a:lnTo>
                  <a:lnTo>
                    <a:pt x="24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431960" y="5508720"/>
              <a:ext cx="19800" cy="90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452120" y="5517720"/>
              <a:ext cx="68760" cy="3240"/>
            </a:xfrm>
            <a:custGeom>
              <a:avLst/>
              <a:gdLst/>
              <a:ahLst/>
              <a:rect l="l" t="t" r="r" b="b"/>
              <a:pathLst>
                <a:path w="24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20880" y="5517720"/>
              <a:ext cx="97200" cy="2124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9" y="4"/>
                  </a:lnTo>
                  <a:lnTo>
                    <a:pt x="16" y="4"/>
                  </a:lnTo>
                  <a:lnTo>
                    <a:pt x="25" y="4"/>
                  </a:lnTo>
                  <a:lnTo>
                    <a:pt x="34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618440" y="553932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707000" y="5548320"/>
              <a:ext cx="80280" cy="18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787640" y="556704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796280" y="5567040"/>
              <a:ext cx="85680" cy="270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81960" y="559404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70880" y="562176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79520" y="562176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6" y="0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68440" y="565236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22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31800" y="568008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157720" y="5689080"/>
              <a:ext cx="8820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246280" y="5725800"/>
              <a:ext cx="324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246280" y="5725800"/>
              <a:ext cx="86400" cy="489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0"/>
                  </a:moveTo>
                  <a:lnTo>
                    <a:pt x="6" y="3"/>
                  </a:lnTo>
                  <a:lnTo>
                    <a:pt x="15" y="9"/>
                  </a:lnTo>
                  <a:lnTo>
                    <a:pt x="24" y="12"/>
                  </a:lnTo>
                  <a:lnTo>
                    <a:pt x="30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332680" y="577512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340960" y="5784120"/>
              <a:ext cx="7992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7" y="3"/>
                  </a:lnTo>
                  <a:lnTo>
                    <a:pt x="16" y="9"/>
                  </a:lnTo>
                  <a:lnTo>
                    <a:pt x="22" y="12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420880" y="5829840"/>
              <a:ext cx="324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20880" y="583884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9" y="12"/>
                  </a:lnTo>
                  <a:lnTo>
                    <a:pt x="2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92520" y="5884560"/>
              <a:ext cx="1728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510160" y="5906160"/>
              <a:ext cx="51120" cy="36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561640" y="5942880"/>
              <a:ext cx="46080" cy="36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  <a:lnTo>
                    <a:pt x="13" y="9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07720" y="597960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616000" y="5997600"/>
              <a:ext cx="51120" cy="489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3" y="3"/>
                  </a:lnTo>
                  <a:lnTo>
                    <a:pt x="9" y="7"/>
                  </a:lnTo>
                  <a:lnTo>
                    <a:pt x="12" y="13"/>
                  </a:lnTo>
                  <a:lnTo>
                    <a:pt x="18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67480" y="6046920"/>
              <a:ext cx="29160" cy="36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10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96640" y="6083640"/>
              <a:ext cx="1656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713560" y="610164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13"/>
                  </a:lnTo>
                  <a:lnTo>
                    <a:pt x="1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748120" y="6159960"/>
              <a:ext cx="34200" cy="36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782680" y="619668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782680" y="6206040"/>
              <a:ext cx="45360" cy="57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10" y="12"/>
                  </a:lnTo>
                  <a:lnTo>
                    <a:pt x="16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828040" y="6264000"/>
              <a:ext cx="2592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0" y="3"/>
                  </a:lnTo>
                  <a:lnTo>
                    <a:pt x="3" y="9"/>
                  </a:lnTo>
                  <a:lnTo>
                    <a:pt x="6" y="12"/>
                  </a:lnTo>
                  <a:lnTo>
                    <a:pt x="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031840" y="6264000"/>
              <a:ext cx="19800" cy="45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3" y="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052000" y="6206040"/>
              <a:ext cx="2592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9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77920" y="6168960"/>
              <a:ext cx="25200" cy="36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103120" y="6159960"/>
              <a:ext cx="324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103120" y="610164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3"/>
                  </a:lnTo>
                  <a:lnTo>
                    <a:pt x="6" y="9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137680" y="6046920"/>
              <a:ext cx="36720" cy="54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174760" y="6019200"/>
              <a:ext cx="17280" cy="27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192400" y="5997600"/>
              <a:ext cx="1656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209320" y="5942880"/>
              <a:ext cx="34200" cy="54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243880" y="5906160"/>
              <a:ext cx="37440" cy="36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281320" y="5884560"/>
              <a:ext cx="16560" cy="21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298240" y="5838840"/>
              <a:ext cx="5112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3" y="12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349720" y="5811120"/>
              <a:ext cx="17280" cy="27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367360" y="5784120"/>
              <a:ext cx="36720" cy="270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404440" y="5734800"/>
              <a:ext cx="51840" cy="489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6"/>
                  </a:moveTo>
                  <a:lnTo>
                    <a:pt x="6" y="13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456280" y="5725800"/>
              <a:ext cx="1656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473200" y="5680080"/>
              <a:ext cx="8028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5"/>
                  </a:moveTo>
                  <a:lnTo>
                    <a:pt x="6" y="12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544840" y="5671080"/>
              <a:ext cx="900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553840" y="5621760"/>
              <a:ext cx="88200" cy="489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16"/>
                  </a:moveTo>
                  <a:lnTo>
                    <a:pt x="6" y="13"/>
                  </a:lnTo>
                  <a:lnTo>
                    <a:pt x="15" y="10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642400" y="5621760"/>
              <a:ext cx="324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642400" y="5576040"/>
              <a:ext cx="8892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lnTo>
                    <a:pt x="6" y="12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1320" y="556704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65880" y="5548320"/>
              <a:ext cx="5112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817360" y="5517720"/>
              <a:ext cx="88920" cy="302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lnTo>
                    <a:pt x="10" y="7"/>
                  </a:lnTo>
                  <a:lnTo>
                    <a:pt x="19" y="4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906280" y="551772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923200" y="5490000"/>
              <a:ext cx="72000" cy="277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9"/>
                  </a:moveTo>
                  <a:lnTo>
                    <a:pt x="3" y="6"/>
                  </a:lnTo>
                  <a:lnTo>
                    <a:pt x="9" y="3"/>
                  </a:lnTo>
                  <a:lnTo>
                    <a:pt x="19" y="3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003840" y="547200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093120" y="54630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9" y="3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178800" y="546300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178800" y="54540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3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268080" y="544428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356280" y="5435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445560" y="542592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543120" y="542592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628800" y="54259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718080" y="54259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807000" y="542592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895560" y="542592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84480" y="5425920"/>
              <a:ext cx="93960" cy="90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078800" y="54352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68080" y="54352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257000" y="543528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346280" y="5444280"/>
              <a:ext cx="85680" cy="936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431960" y="5454000"/>
              <a:ext cx="63000" cy="90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494960" y="5463000"/>
              <a:ext cx="25920" cy="252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20880" y="546300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18440" y="5472000"/>
              <a:ext cx="8820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07000" y="549000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96280" y="5508720"/>
              <a:ext cx="2592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822200" y="5517720"/>
              <a:ext cx="59760" cy="1224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881960" y="5530320"/>
              <a:ext cx="8892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10" y="3"/>
                  </a:lnTo>
                  <a:lnTo>
                    <a:pt x="16" y="3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970880" y="5557320"/>
              <a:ext cx="45360" cy="93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016600" y="5567040"/>
              <a:ext cx="51840" cy="180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068440" y="558504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5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157720" y="5621760"/>
              <a:ext cx="828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66000" y="5621760"/>
              <a:ext cx="79920" cy="392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21" y="10"/>
                  </a:lnTo>
                  <a:lnTo>
                    <a:pt x="28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246280" y="5661360"/>
              <a:ext cx="2592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272200" y="5680080"/>
              <a:ext cx="60120" cy="27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2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332680" y="5707800"/>
              <a:ext cx="36720" cy="18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6"/>
                  </a:lnTo>
                  <a:lnTo>
                    <a:pt x="1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369760" y="5725800"/>
              <a:ext cx="51120" cy="36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5" y="9"/>
                  </a:lnTo>
                  <a:lnTo>
                    <a:pt x="18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420880" y="5762520"/>
              <a:ext cx="25920" cy="21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47160" y="578412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7" y="3"/>
                  </a:lnTo>
                  <a:lnTo>
                    <a:pt x="13" y="9"/>
                  </a:lnTo>
                  <a:lnTo>
                    <a:pt x="19" y="12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510160" y="582984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518440" y="583884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5" y="12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581800" y="5884560"/>
              <a:ext cx="25920" cy="21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6" y="7"/>
                  </a:lnTo>
                  <a:lnTo>
                    <a:pt x="9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07720" y="5906160"/>
              <a:ext cx="25920" cy="36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9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633640" y="5942880"/>
              <a:ext cx="51120" cy="54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6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8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685120" y="5997600"/>
              <a:ext cx="11520" cy="93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696640" y="6007320"/>
              <a:ext cx="33480" cy="392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3" y="4"/>
                  </a:lnTo>
                  <a:lnTo>
                    <a:pt x="6" y="7"/>
                  </a:lnTo>
                  <a:lnTo>
                    <a:pt x="9" y="10"/>
                  </a:lnTo>
                  <a:lnTo>
                    <a:pt x="12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730480" y="6046920"/>
              <a:ext cx="34200" cy="54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9" y="15"/>
                  </a:lnTo>
                  <a:lnTo>
                    <a:pt x="12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765040" y="6101640"/>
              <a:ext cx="17280" cy="18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782680" y="6120360"/>
              <a:ext cx="16560" cy="392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6" y="10"/>
                  </a:lnTo>
                  <a:lnTo>
                    <a:pt x="6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799600" y="6159960"/>
              <a:ext cx="37440" cy="45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4" y="3"/>
                  </a:lnTo>
                  <a:lnTo>
                    <a:pt x="7" y="6"/>
                  </a:lnTo>
                  <a:lnTo>
                    <a:pt x="10" y="12"/>
                  </a:lnTo>
                  <a:lnTo>
                    <a:pt x="13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837400" y="6206040"/>
              <a:ext cx="2520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9" y="15"/>
                  </a:lnTo>
                  <a:lnTo>
                    <a:pt x="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862600" y="6264000"/>
              <a:ext cx="900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871600" y="6273000"/>
              <a:ext cx="25200" cy="36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6" y="9"/>
                  </a:lnTo>
                  <a:lnTo>
                    <a:pt x="9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989000" y="6264000"/>
              <a:ext cx="2520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014200" y="626400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014200" y="6206040"/>
              <a:ext cx="17280" cy="5796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9"/>
                  </a:moveTo>
                  <a:lnTo>
                    <a:pt x="0" y="15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031840" y="6159960"/>
              <a:ext cx="19800" cy="45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0" y="12"/>
                  </a:lnTo>
                  <a:lnTo>
                    <a:pt x="3" y="6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052000" y="610164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3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086200" y="6064920"/>
              <a:ext cx="16560" cy="36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103120" y="604692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111760" y="5997600"/>
              <a:ext cx="25920" cy="489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3" y="13"/>
                  </a:lnTo>
                  <a:lnTo>
                    <a:pt x="3" y="10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137680" y="5942880"/>
              <a:ext cx="36720" cy="54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174760" y="5924880"/>
              <a:ext cx="1728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192400" y="5884560"/>
              <a:ext cx="25920" cy="39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3"/>
                  </a:moveTo>
                  <a:lnTo>
                    <a:pt x="0" y="10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218320" y="583884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252880" y="5811120"/>
              <a:ext cx="28440" cy="277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281320" y="5784120"/>
              <a:ext cx="25200" cy="27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306880" y="5725800"/>
              <a:ext cx="51840" cy="57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9"/>
                  </a:moveTo>
                  <a:lnTo>
                    <a:pt x="3" y="12"/>
                  </a:lnTo>
                  <a:lnTo>
                    <a:pt x="9" y="9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358720" y="57168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367360" y="5680080"/>
              <a:ext cx="54360" cy="36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2"/>
                  </a:moveTo>
                  <a:lnTo>
                    <a:pt x="3" y="9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422080" y="5640480"/>
              <a:ext cx="34200" cy="392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3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456280" y="5621760"/>
              <a:ext cx="34200" cy="18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490840" y="558504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7" y="9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53840" y="5567040"/>
              <a:ext cx="2520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579400" y="553932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3" y="6"/>
                  </a:lnTo>
                  <a:lnTo>
                    <a:pt x="9" y="3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642400" y="5517720"/>
              <a:ext cx="42840" cy="2124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7"/>
                  </a:moveTo>
                  <a:lnTo>
                    <a:pt x="3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685240" y="5490000"/>
              <a:ext cx="46080" cy="27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1320" y="5463000"/>
              <a:ext cx="85680" cy="270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9"/>
                  </a:moveTo>
                  <a:lnTo>
                    <a:pt x="9" y="6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17360" y="5463000"/>
              <a:ext cx="324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817360" y="54352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906280" y="541692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003840" y="5407200"/>
              <a:ext cx="25920" cy="93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029760" y="5395680"/>
              <a:ext cx="63000" cy="1152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0" y="4"/>
                  </a:moveTo>
                  <a:lnTo>
                    <a:pt x="3" y="4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093120" y="537696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178800" y="5367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268080" y="536796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56280" y="5358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3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445560" y="5358960"/>
              <a:ext cx="97200" cy="252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543120" y="535896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628800" y="5358960"/>
              <a:ext cx="80280" cy="252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709440" y="534996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718080" y="5349960"/>
              <a:ext cx="4536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763440" y="5349960"/>
              <a:ext cx="4356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807000" y="535896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895560" y="53589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984480" y="535896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078800" y="53589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168080" y="5358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257000" y="53679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346280" y="53769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1960" y="537696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20880" y="5386680"/>
              <a:ext cx="97200" cy="90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8440" y="5395680"/>
              <a:ext cx="33480" cy="115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0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52280" y="5407200"/>
              <a:ext cx="54360" cy="936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1884240" y="5113440"/>
            <a:ext cx="4109400" cy="1196280"/>
            <a:chOff x="1884240" y="5113440"/>
            <a:chExt cx="4109400" cy="1196280"/>
          </a:xfrm>
        </p:grpSpPr>
        <p:sp>
          <p:nvSpPr>
            <p:cNvPr id="2857" name=""/>
            <p:cNvSpPr/>
            <p:nvPr/>
          </p:nvSpPr>
          <p:spPr>
            <a:xfrm>
              <a:off x="4707000" y="541656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795920" y="543456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81600" y="5453280"/>
              <a:ext cx="4608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928040" y="5462280"/>
              <a:ext cx="4284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970880" y="5471280"/>
              <a:ext cx="97200" cy="2772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0" y="0"/>
                  </a:moveTo>
                  <a:lnTo>
                    <a:pt x="9" y="3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4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068440" y="5499360"/>
              <a:ext cx="34200" cy="18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102640" y="5517360"/>
              <a:ext cx="54360" cy="212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3" y="4"/>
                  </a:lnTo>
                  <a:lnTo>
                    <a:pt x="19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157360" y="5538600"/>
              <a:ext cx="79920" cy="2772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21" y="6"/>
                  </a:lnTo>
                  <a:lnTo>
                    <a:pt x="2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237280" y="55666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245920" y="5575680"/>
              <a:ext cx="86400" cy="457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4" y="12"/>
                  </a:lnTo>
                  <a:lnTo>
                    <a:pt x="3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332320" y="562140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332320" y="5621400"/>
              <a:ext cx="88200" cy="489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10" y="3"/>
                  </a:lnTo>
                  <a:lnTo>
                    <a:pt x="16" y="10"/>
                  </a:lnTo>
                  <a:lnTo>
                    <a:pt x="25" y="13"/>
                  </a:lnTo>
                  <a:lnTo>
                    <a:pt x="3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20520" y="5670720"/>
              <a:ext cx="324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20520" y="5679720"/>
              <a:ext cx="80280" cy="45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22" y="12"/>
                  </a:lnTo>
                  <a:lnTo>
                    <a:pt x="2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501160" y="572544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509800" y="5734440"/>
              <a:ext cx="51120" cy="489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5" y="13"/>
                  </a:lnTo>
                  <a:lnTo>
                    <a:pt x="18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560920" y="5783760"/>
              <a:ext cx="46080" cy="36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3" y="3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607000" y="5820480"/>
              <a:ext cx="1656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623920" y="5838480"/>
              <a:ext cx="51840" cy="45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3" y="3"/>
                  </a:lnTo>
                  <a:lnTo>
                    <a:pt x="9" y="6"/>
                  </a:lnTo>
                  <a:lnTo>
                    <a:pt x="12" y="12"/>
                  </a:lnTo>
                  <a:lnTo>
                    <a:pt x="18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676120" y="5884560"/>
              <a:ext cx="19800" cy="30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696280" y="5914800"/>
              <a:ext cx="25200" cy="27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21480" y="5942880"/>
              <a:ext cx="34200" cy="54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9" y="12"/>
                  </a:lnTo>
                  <a:lnTo>
                    <a:pt x="12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56040" y="5997600"/>
              <a:ext cx="25920" cy="30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7"/>
                  </a:lnTo>
                  <a:lnTo>
                    <a:pt x="9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81960" y="6028920"/>
              <a:ext cx="16560" cy="18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8880" y="6046920"/>
              <a:ext cx="37440" cy="54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0" y="3"/>
                  </a:lnTo>
                  <a:lnTo>
                    <a:pt x="4" y="9"/>
                  </a:lnTo>
                  <a:lnTo>
                    <a:pt x="7" y="12"/>
                  </a:lnTo>
                  <a:lnTo>
                    <a:pt x="13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836680" y="6101640"/>
              <a:ext cx="2520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3"/>
                  </a:lnTo>
                  <a:lnTo>
                    <a:pt x="3" y="9"/>
                  </a:lnTo>
                  <a:lnTo>
                    <a:pt x="6" y="13"/>
                  </a:lnTo>
                  <a:lnTo>
                    <a:pt x="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861880" y="6159960"/>
              <a:ext cx="9000" cy="18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870880" y="6178680"/>
              <a:ext cx="16560" cy="27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887800" y="6205680"/>
              <a:ext cx="28440" cy="579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6" y="12"/>
                  </a:lnTo>
                  <a:lnTo>
                    <a:pt x="10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916600" y="6264000"/>
              <a:ext cx="25920" cy="457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6" y="12"/>
                  </a:lnTo>
                  <a:lnTo>
                    <a:pt x="9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947240" y="6264000"/>
              <a:ext cx="8280" cy="45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5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55520" y="6205680"/>
              <a:ext cx="2592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9"/>
                  </a:moveTo>
                  <a:lnTo>
                    <a:pt x="3" y="12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81440" y="6159960"/>
              <a:ext cx="1656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0" y="12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998360" y="6120360"/>
              <a:ext cx="16560" cy="392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7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015280" y="6101640"/>
              <a:ext cx="3240" cy="18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015280" y="6046920"/>
              <a:ext cx="25920" cy="54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3" y="15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041200" y="5997600"/>
              <a:ext cx="28440" cy="48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13"/>
                  </a:lnTo>
                  <a:lnTo>
                    <a:pt x="4" y="7"/>
                  </a:lnTo>
                  <a:lnTo>
                    <a:pt x="7" y="3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2070000" y="5942880"/>
              <a:ext cx="25920" cy="54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0" y="12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095920" y="592452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104560" y="5884560"/>
              <a:ext cx="17280" cy="399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121840" y="5838480"/>
              <a:ext cx="34200" cy="45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5"/>
                  </a:moveTo>
                  <a:lnTo>
                    <a:pt x="3" y="12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156400" y="5783760"/>
              <a:ext cx="36720" cy="54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4" y="12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193480" y="578376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193480" y="5725440"/>
              <a:ext cx="42840" cy="5796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9"/>
                  </a:moveTo>
                  <a:lnTo>
                    <a:pt x="3" y="16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236320" y="5679720"/>
              <a:ext cx="46080" cy="457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3" y="12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282400" y="567072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2282400" y="5621400"/>
              <a:ext cx="51120" cy="57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9"/>
                  </a:moveTo>
                  <a:lnTo>
                    <a:pt x="3" y="13"/>
                  </a:lnTo>
                  <a:lnTo>
                    <a:pt x="9" y="10"/>
                  </a:lnTo>
                  <a:lnTo>
                    <a:pt x="12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333880" y="5584680"/>
              <a:ext cx="34200" cy="36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3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368440" y="5566680"/>
              <a:ext cx="28440" cy="18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396880" y="5517360"/>
              <a:ext cx="60120" cy="489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6" y="13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457360" y="55173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465640" y="5462280"/>
              <a:ext cx="79920" cy="5472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18"/>
                  </a:moveTo>
                  <a:lnTo>
                    <a:pt x="6" y="12"/>
                  </a:lnTo>
                  <a:lnTo>
                    <a:pt x="16" y="9"/>
                  </a:lnTo>
                  <a:lnTo>
                    <a:pt x="22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545920" y="5462280"/>
              <a:ext cx="9000" cy="252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554920" y="5416560"/>
              <a:ext cx="8820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15"/>
                  </a:moveTo>
                  <a:lnTo>
                    <a:pt x="6" y="12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643120" y="540684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651760" y="5376240"/>
              <a:ext cx="80280" cy="302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1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21" y="3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732400" y="5358240"/>
              <a:ext cx="60120" cy="180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6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792880" y="534924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818080" y="532152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6" y="6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907000" y="5302800"/>
              <a:ext cx="88920" cy="187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9" y="3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004560" y="53028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013200" y="5293800"/>
              <a:ext cx="80280" cy="90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0" y="3"/>
                  </a:moveTo>
                  <a:lnTo>
                    <a:pt x="6" y="3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093840" y="5272200"/>
              <a:ext cx="85680" cy="212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6" y="4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179520" y="52722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268440" y="5263200"/>
              <a:ext cx="8820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57000" y="52632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445920" y="526320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543480" y="525420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629160" y="525420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718440" y="52542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807360" y="52632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895920" y="52632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984840" y="5263200"/>
              <a:ext cx="93960" cy="32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079160" y="52632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168080" y="52722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257000" y="5272200"/>
              <a:ext cx="8892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346280" y="528480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31960" y="52848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520880" y="5293800"/>
              <a:ext cx="71280" cy="90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592520" y="530280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618440" y="5302800"/>
              <a:ext cx="8820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22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707000" y="5312520"/>
              <a:ext cx="88920" cy="180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795920" y="5330520"/>
              <a:ext cx="85680" cy="187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1600" y="5349240"/>
              <a:ext cx="46080" cy="90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928040" y="5358240"/>
              <a:ext cx="42840" cy="90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70880" y="5367240"/>
              <a:ext cx="97200" cy="187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068440" y="5385960"/>
              <a:ext cx="42840" cy="205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7"/>
                  </a:lnTo>
                  <a:lnTo>
                    <a:pt x="15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111280" y="5406840"/>
              <a:ext cx="46080" cy="18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4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6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157360" y="5425560"/>
              <a:ext cx="8820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245920" y="545328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254200" y="5462280"/>
              <a:ext cx="77760" cy="367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21" y="9"/>
                  </a:lnTo>
                  <a:lnTo>
                    <a:pt x="27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332320" y="5499360"/>
              <a:ext cx="28440" cy="18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360760" y="5517360"/>
              <a:ext cx="59760" cy="3024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2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420520" y="5547960"/>
              <a:ext cx="25920" cy="18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446440" y="5566680"/>
              <a:ext cx="63000" cy="457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7" y="3"/>
                  </a:lnTo>
                  <a:lnTo>
                    <a:pt x="13" y="9"/>
                  </a:lnTo>
                  <a:lnTo>
                    <a:pt x="19" y="12"/>
                  </a:lnTo>
                  <a:lnTo>
                    <a:pt x="22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509800" y="561240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526720" y="5621400"/>
              <a:ext cx="63000" cy="579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3" y="3"/>
                  </a:lnTo>
                  <a:lnTo>
                    <a:pt x="9" y="10"/>
                  </a:lnTo>
                  <a:lnTo>
                    <a:pt x="15" y="13"/>
                  </a:lnTo>
                  <a:lnTo>
                    <a:pt x="22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589720" y="5679720"/>
              <a:ext cx="17280" cy="90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607000" y="5688720"/>
              <a:ext cx="34200" cy="36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9" y="9"/>
                  </a:lnTo>
                  <a:lnTo>
                    <a:pt x="12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641560" y="5725440"/>
              <a:ext cx="54360" cy="57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6" y="6"/>
                  </a:lnTo>
                  <a:lnTo>
                    <a:pt x="9" y="9"/>
                  </a:lnTo>
                  <a:lnTo>
                    <a:pt x="15" y="16"/>
                  </a:lnTo>
                  <a:lnTo>
                    <a:pt x="1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696280" y="578376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696280" y="5783760"/>
              <a:ext cx="42840" cy="547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5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739120" y="5838480"/>
              <a:ext cx="42840" cy="45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3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781960" y="5884560"/>
              <a:ext cx="2520" cy="12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781960" y="5896800"/>
              <a:ext cx="36720" cy="45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10" y="9"/>
                  </a:lnTo>
                  <a:lnTo>
                    <a:pt x="13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819040" y="5942880"/>
              <a:ext cx="34200" cy="54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3" y="3"/>
                  </a:lnTo>
                  <a:lnTo>
                    <a:pt x="6" y="9"/>
                  </a:lnTo>
                  <a:lnTo>
                    <a:pt x="9" y="12"/>
                  </a:lnTo>
                  <a:lnTo>
                    <a:pt x="12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853600" y="5997600"/>
              <a:ext cx="17280" cy="399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6" y="10"/>
                  </a:lnTo>
                  <a:lnTo>
                    <a:pt x="6" y="1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870880" y="6037920"/>
              <a:ext cx="8280" cy="90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879520" y="6046920"/>
              <a:ext cx="25200" cy="54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3"/>
                  </a:lnTo>
                  <a:lnTo>
                    <a:pt x="3" y="9"/>
                  </a:lnTo>
                  <a:lnTo>
                    <a:pt x="6" y="12"/>
                  </a:lnTo>
                  <a:lnTo>
                    <a:pt x="9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904720" y="6101640"/>
              <a:ext cx="29160" cy="5796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4" y="3"/>
                  </a:lnTo>
                  <a:lnTo>
                    <a:pt x="7" y="9"/>
                  </a:lnTo>
                  <a:lnTo>
                    <a:pt x="7" y="13"/>
                  </a:lnTo>
                  <a:lnTo>
                    <a:pt x="10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34240" y="6159960"/>
              <a:ext cx="1656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3" y="3"/>
                  </a:lnTo>
                  <a:lnTo>
                    <a:pt x="3" y="9"/>
                  </a:lnTo>
                  <a:lnTo>
                    <a:pt x="6" y="12"/>
                  </a:lnTo>
                  <a:lnTo>
                    <a:pt x="6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951160" y="6205680"/>
              <a:ext cx="8280" cy="2772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959440" y="6233400"/>
              <a:ext cx="17280" cy="302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977080" y="6264000"/>
              <a:ext cx="1656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12"/>
                  </a:lnTo>
                  <a:lnTo>
                    <a:pt x="6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884240" y="6264000"/>
              <a:ext cx="8280" cy="45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892520" y="6205680"/>
              <a:ext cx="16560" cy="5796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9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1909440" y="6159960"/>
              <a:ext cx="9000" cy="45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5"/>
                  </a:moveTo>
                  <a:lnTo>
                    <a:pt x="0" y="12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18440" y="615996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918440" y="6101640"/>
              <a:ext cx="19440" cy="5796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lnTo>
                    <a:pt x="3" y="13"/>
                  </a:lnTo>
                  <a:lnTo>
                    <a:pt x="3" y="9"/>
                  </a:lnTo>
                  <a:lnTo>
                    <a:pt x="3" y="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937880" y="6046920"/>
              <a:ext cx="17280" cy="547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955520" y="5997600"/>
              <a:ext cx="8280" cy="489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0" y="16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964160" y="5942880"/>
              <a:ext cx="25920" cy="54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3" y="12"/>
                  </a:lnTo>
                  <a:lnTo>
                    <a:pt x="3" y="9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990080" y="5884560"/>
              <a:ext cx="16560" cy="5796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9"/>
                  </a:moveTo>
                  <a:lnTo>
                    <a:pt x="0" y="13"/>
                  </a:lnTo>
                  <a:lnTo>
                    <a:pt x="3" y="10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07000" y="58845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15280" y="5838480"/>
              <a:ext cx="17280" cy="45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0" y="12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32920" y="5783760"/>
              <a:ext cx="19800" cy="547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18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53080" y="572544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87640" y="5697720"/>
              <a:ext cx="16560" cy="27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104560" y="5679720"/>
              <a:ext cx="8280" cy="18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112840" y="5621400"/>
              <a:ext cx="34200" cy="579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9"/>
                  </a:moveTo>
                  <a:lnTo>
                    <a:pt x="3" y="13"/>
                  </a:lnTo>
                  <a:lnTo>
                    <a:pt x="6" y="10"/>
                  </a:lnTo>
                  <a:lnTo>
                    <a:pt x="9" y="3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147400" y="5566680"/>
              <a:ext cx="37440" cy="54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lnTo>
                    <a:pt x="3" y="12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184840" y="5556960"/>
              <a:ext cx="828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193480" y="5517360"/>
              <a:ext cx="34200" cy="392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3" y="10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228040" y="5462280"/>
              <a:ext cx="54360" cy="547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8"/>
                  </a:moveTo>
                  <a:lnTo>
                    <a:pt x="3" y="12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282400" y="545328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282400" y="5406840"/>
              <a:ext cx="51120" cy="464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3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333880" y="5376240"/>
              <a:ext cx="34200" cy="302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368440" y="5358240"/>
              <a:ext cx="28440" cy="18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396880" y="5312520"/>
              <a:ext cx="60120" cy="457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5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457360" y="5302800"/>
              <a:ext cx="16560" cy="93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474280" y="5254200"/>
              <a:ext cx="80280" cy="482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6"/>
                  </a:moveTo>
                  <a:lnTo>
                    <a:pt x="6" y="13"/>
                  </a:lnTo>
                  <a:lnTo>
                    <a:pt x="13" y="10"/>
                  </a:lnTo>
                  <a:lnTo>
                    <a:pt x="22" y="6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554920" y="5245200"/>
              <a:ext cx="25200" cy="90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580120" y="5217480"/>
              <a:ext cx="63000" cy="277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lnTo>
                    <a:pt x="3" y="9"/>
                  </a:lnTo>
                  <a:lnTo>
                    <a:pt x="9" y="6"/>
                  </a:lnTo>
                  <a:lnTo>
                    <a:pt x="16" y="3"/>
                  </a:lnTo>
                  <a:lnTo>
                    <a:pt x="2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643120" y="5199480"/>
              <a:ext cx="68760" cy="180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6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712240" y="5189760"/>
              <a:ext cx="19800" cy="93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732400" y="5162400"/>
              <a:ext cx="85680" cy="270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9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21" y="3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818080" y="5150160"/>
              <a:ext cx="8892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4"/>
                  </a:moveTo>
                  <a:lnTo>
                    <a:pt x="10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907000" y="5141160"/>
              <a:ext cx="54360" cy="90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961720" y="5132160"/>
              <a:ext cx="34200" cy="90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004560" y="512244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093840" y="512244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179520" y="511344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7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268440" y="5113440"/>
              <a:ext cx="8820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357000" y="511344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3445920" y="5113440"/>
              <a:ext cx="97200" cy="252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543480" y="5113440"/>
              <a:ext cx="85680" cy="90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629160" y="5122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718440" y="5122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807360" y="512244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895920" y="5122440"/>
              <a:ext cx="88920" cy="936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24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984840" y="5132160"/>
              <a:ext cx="93960" cy="252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079160" y="5132160"/>
              <a:ext cx="88920" cy="252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168080" y="51321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257000" y="5141160"/>
              <a:ext cx="71280" cy="252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328640" y="5141160"/>
              <a:ext cx="1728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346280" y="5141160"/>
              <a:ext cx="85680" cy="252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31960" y="514116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520880" y="5150160"/>
              <a:ext cx="97200" cy="252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18440" y="5150160"/>
              <a:ext cx="88200" cy="12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0" y="0"/>
                  </a:moveTo>
                  <a:lnTo>
                    <a:pt x="6" y="4"/>
                  </a:lnTo>
                  <a:lnTo>
                    <a:pt x="15" y="4"/>
                  </a:lnTo>
                  <a:lnTo>
                    <a:pt x="22" y="4"/>
                  </a:lnTo>
                  <a:lnTo>
                    <a:pt x="31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07000" y="5162400"/>
              <a:ext cx="88920" cy="90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31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95920" y="5171400"/>
              <a:ext cx="85680" cy="180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9" y="3"/>
                  </a:lnTo>
                  <a:lnTo>
                    <a:pt x="15" y="3"/>
                  </a:lnTo>
                  <a:lnTo>
                    <a:pt x="24" y="3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881600" y="5189760"/>
              <a:ext cx="46080" cy="93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928040" y="5199480"/>
              <a:ext cx="42840" cy="252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970880" y="5199480"/>
              <a:ext cx="97200" cy="180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9" y="3"/>
                  </a:lnTo>
                  <a:lnTo>
                    <a:pt x="16" y="3"/>
                  </a:lnTo>
                  <a:lnTo>
                    <a:pt x="25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068440" y="5217480"/>
              <a:ext cx="88920" cy="2772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6" y="3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157360" y="5245200"/>
              <a:ext cx="252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157360" y="5245200"/>
              <a:ext cx="88200" cy="270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245920" y="5272200"/>
              <a:ext cx="60120" cy="3024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0"/>
                  </a:moveTo>
                  <a:lnTo>
                    <a:pt x="6" y="4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306040" y="5302800"/>
              <a:ext cx="25920" cy="936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332320" y="5312520"/>
              <a:ext cx="88200" cy="457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7" y="3"/>
                  </a:lnTo>
                  <a:lnTo>
                    <a:pt x="16" y="6"/>
                  </a:lnTo>
                  <a:lnTo>
                    <a:pt x="22" y="9"/>
                  </a:lnTo>
                  <a:lnTo>
                    <a:pt x="31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420520" y="5358240"/>
              <a:ext cx="3240" cy="25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420520" y="5358240"/>
              <a:ext cx="88920" cy="482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6" y="3"/>
                  </a:lnTo>
                  <a:lnTo>
                    <a:pt x="16" y="9"/>
                  </a:lnTo>
                  <a:lnTo>
                    <a:pt x="22" y="12"/>
                  </a:lnTo>
                  <a:lnTo>
                    <a:pt x="31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509800" y="5406840"/>
              <a:ext cx="2520" cy="9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509800" y="5416560"/>
              <a:ext cx="71280" cy="457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6" y="3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5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581080" y="5462280"/>
              <a:ext cx="25920" cy="180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607000" y="5480280"/>
              <a:ext cx="34200" cy="36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641560" y="5517360"/>
              <a:ext cx="54360" cy="489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13"/>
                  </a:lnTo>
                  <a:lnTo>
                    <a:pt x="19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696280" y="5566680"/>
              <a:ext cx="252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696280" y="5566680"/>
              <a:ext cx="51120" cy="547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3" y="3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8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747400" y="5621400"/>
              <a:ext cx="34200" cy="48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3" y="3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781960" y="5670720"/>
              <a:ext cx="2520" cy="90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781960" y="5679720"/>
              <a:ext cx="45360" cy="457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3" y="3"/>
                  </a:lnTo>
                  <a:lnTo>
                    <a:pt x="6" y="6"/>
                  </a:lnTo>
                  <a:lnTo>
                    <a:pt x="10" y="12"/>
                  </a:lnTo>
                  <a:lnTo>
                    <a:pt x="16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827320" y="5725440"/>
              <a:ext cx="2592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9" y="16"/>
                  </a:lnTo>
                  <a:lnTo>
                    <a:pt x="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53600" y="5783760"/>
              <a:ext cx="17280" cy="27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6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870880" y="5810760"/>
              <a:ext cx="16560" cy="27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887800" y="5838480"/>
              <a:ext cx="28440" cy="457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6" y="12"/>
                  </a:lnTo>
                  <a:lnTo>
                    <a:pt x="1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916600" y="5884560"/>
              <a:ext cx="25920" cy="579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3" y="7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42520" y="5942880"/>
              <a:ext cx="16560" cy="547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3" y="3"/>
                  </a:lnTo>
                  <a:lnTo>
                    <a:pt x="3" y="9"/>
                  </a:lnTo>
                  <a:lnTo>
                    <a:pt x="6" y="12"/>
                  </a:lnTo>
                  <a:lnTo>
                    <a:pt x="6" y="18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959440" y="599760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959440" y="5997600"/>
              <a:ext cx="25920" cy="489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6" y="13"/>
                  </a:lnTo>
                  <a:lnTo>
                    <a:pt x="9" y="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4872600" y="51624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568040" y="529416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805200" y="5919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543360" y="1600200"/>
            <a:ext cx="2022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A’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/2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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18880" y="4586400"/>
            <a:ext cx="19069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A’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/2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=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rot="16200000">
            <a:off x="76680" y="1904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rot="16200000">
            <a:off x="100800" y="4623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3583440" y="655308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254320" y="3381480"/>
            <a:ext cx="144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254320" y="3440160"/>
            <a:ext cx="1440" cy="33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254320" y="3367080"/>
            <a:ext cx="14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2749680" y="3381480"/>
            <a:ext cx="2880" cy="23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749680" y="3438360"/>
            <a:ext cx="288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49680" y="3367080"/>
            <a:ext cx="288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3251160" y="3381480"/>
            <a:ext cx="3240" cy="23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251160" y="343836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251160" y="336708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743280" y="3381480"/>
            <a:ext cx="3240" cy="23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743280" y="343836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3743280" y="336708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4248000" y="3381480"/>
            <a:ext cx="3240" cy="23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4248000" y="343836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4248000" y="3367080"/>
            <a:ext cx="32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4741920" y="3438360"/>
            <a:ext cx="144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5246640" y="3381480"/>
            <a:ext cx="1800" cy="23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246640" y="3438360"/>
            <a:ext cx="1800" cy="33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738760" y="3440160"/>
            <a:ext cx="3240" cy="33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751040" y="3402000"/>
            <a:ext cx="448956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84932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9540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0527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1463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2525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2525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35116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24480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25448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26510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274968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274968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284652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29494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0463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14496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25116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25116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3480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4448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55140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364968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7432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7432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84192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94668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04496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41418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2480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42480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3448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44434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45464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464328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47419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47419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84812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94496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504180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1404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24664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524664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53402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5438880" y="3411360"/>
            <a:ext cx="14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55436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564192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84532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5942160" y="3411360"/>
            <a:ext cx="288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6040440" y="3411360"/>
            <a:ext cx="324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46640" y="3411360"/>
            <a:ext cx="1800" cy="4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252520" y="3411360"/>
            <a:ext cx="32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749680" y="3411360"/>
            <a:ext cx="14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251160" y="3411360"/>
            <a:ext cx="180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3743280" y="3411360"/>
            <a:ext cx="32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248000" y="3411360"/>
            <a:ext cx="32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4741920" y="3411360"/>
            <a:ext cx="32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5246640" y="3411360"/>
            <a:ext cx="180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5738760" y="3411360"/>
            <a:ext cx="3240" cy="9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1679040" y="3259080"/>
            <a:ext cx="7164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1679040" y="2620800"/>
            <a:ext cx="716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1679040" y="1973160"/>
            <a:ext cx="7164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1679040" y="1336680"/>
            <a:ext cx="7164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1679040" y="685800"/>
            <a:ext cx="7164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6154560" y="3043080"/>
            <a:ext cx="86040" cy="180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7" y="0"/>
                </a:lnTo>
                <a:lnTo>
                  <a:pt x="24" y="0"/>
                </a:lnTo>
                <a:lnTo>
                  <a:pt x="18" y="0"/>
                </a:lnTo>
                <a:lnTo>
                  <a:pt x="15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9" name=""/>
          <p:cNvGrpSpPr/>
          <p:nvPr/>
        </p:nvGrpSpPr>
        <p:grpSpPr>
          <a:xfrm>
            <a:off x="1752480" y="1901880"/>
            <a:ext cx="4487400" cy="1269360"/>
            <a:chOff x="1752480" y="1901880"/>
            <a:chExt cx="4487400" cy="1269360"/>
          </a:xfrm>
        </p:grpSpPr>
        <p:sp>
          <p:nvSpPr>
            <p:cNvPr id="3150" name=""/>
            <p:cNvSpPr/>
            <p:nvPr/>
          </p:nvSpPr>
          <p:spPr>
            <a:xfrm>
              <a:off x="6057000" y="303048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968440" y="30078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950800" y="3007800"/>
              <a:ext cx="1728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879520" y="2975040"/>
              <a:ext cx="71280" cy="32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9"/>
                  </a:moveTo>
                  <a:lnTo>
                    <a:pt x="22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810400" y="2937960"/>
              <a:ext cx="68760" cy="3672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10"/>
                  </a:moveTo>
                  <a:lnTo>
                    <a:pt x="21" y="10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790240" y="2926440"/>
              <a:ext cx="1980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729760" y="2882520"/>
              <a:ext cx="60120" cy="435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12"/>
                  </a:moveTo>
                  <a:lnTo>
                    <a:pt x="18" y="12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2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721480" y="2815560"/>
              <a:ext cx="8280" cy="669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721480" y="2745000"/>
              <a:ext cx="60120" cy="702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9"/>
                  </a:moveTo>
                  <a:lnTo>
                    <a:pt x="3" y="16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781960" y="274500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790240" y="271224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879520" y="268956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968440" y="2689560"/>
              <a:ext cx="4284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011280" y="267876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057000" y="26679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54200" y="26679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54200" y="312264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057000" y="31118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968440" y="31006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879520" y="3074760"/>
              <a:ext cx="8892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853240" y="307476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790240" y="305208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704560" y="3019320"/>
              <a:ext cx="85680" cy="32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7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666760" y="3007800"/>
              <a:ext cx="37440" cy="11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615640" y="2975040"/>
              <a:ext cx="51120" cy="32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8" y="9"/>
                  </a:moveTo>
                  <a:lnTo>
                    <a:pt x="15" y="9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526360" y="293796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5" y="10"/>
                  </a:lnTo>
                  <a:lnTo>
                    <a:pt x="22" y="10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518080" y="29379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429160" y="2882520"/>
              <a:ext cx="88920" cy="5508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31" y="15"/>
                  </a:moveTo>
                  <a:lnTo>
                    <a:pt x="28" y="12"/>
                  </a:lnTo>
                  <a:lnTo>
                    <a:pt x="25" y="12"/>
                  </a:lnTo>
                  <a:lnTo>
                    <a:pt x="22" y="9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429160" y="288252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369040" y="2815560"/>
              <a:ext cx="59760" cy="66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8"/>
                  </a:moveTo>
                  <a:lnTo>
                    <a:pt x="18" y="15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6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351760" y="2745000"/>
              <a:ext cx="17280" cy="7020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19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351760" y="2689560"/>
              <a:ext cx="43200" cy="550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3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395320" y="2667960"/>
              <a:ext cx="33480" cy="21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429160" y="2619000"/>
              <a:ext cx="88920" cy="4860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13"/>
                  </a:moveTo>
                  <a:lnTo>
                    <a:pt x="3" y="10"/>
                  </a:lnTo>
                  <a:lnTo>
                    <a:pt x="6" y="10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518080" y="2619000"/>
              <a:ext cx="1728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5720" y="2597400"/>
              <a:ext cx="79920" cy="216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615640" y="257544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704560" y="256392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790240" y="255276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3"/>
                  </a:moveTo>
                  <a:lnTo>
                    <a:pt x="3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844960" y="2552760"/>
              <a:ext cx="34200" cy="39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879520" y="25419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968440" y="25419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057000" y="25311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154200" y="25311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752480" y="204948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841400" y="2049480"/>
              <a:ext cx="85680" cy="1476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927080" y="20646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024640" y="20754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112840" y="209808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139120" y="210888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202120" y="212004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91040" y="2142360"/>
              <a:ext cx="59760" cy="216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350800" y="216432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376720" y="217512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466000" y="221220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529000" y="223488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563560" y="224568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651760" y="2279160"/>
              <a:ext cx="51840" cy="216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703960" y="2301120"/>
              <a:ext cx="36720" cy="10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40680" y="231192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826720" y="2345760"/>
              <a:ext cx="54360" cy="1476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9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881080" y="2360880"/>
              <a:ext cx="34200" cy="21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915640" y="23824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004560" y="2405160"/>
              <a:ext cx="51120" cy="216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056040" y="2427120"/>
              <a:ext cx="4608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102120" y="243792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190680" y="2471400"/>
              <a:ext cx="3420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225240" y="2494080"/>
              <a:ext cx="51840" cy="140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8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277080" y="2508480"/>
              <a:ext cx="8820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9"/>
                  </a:lnTo>
                  <a:lnTo>
                    <a:pt x="31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365280" y="2552760"/>
              <a:ext cx="1728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382920" y="2552760"/>
              <a:ext cx="71280" cy="442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9"/>
                  </a:lnTo>
                  <a:lnTo>
                    <a:pt x="19" y="9"/>
                  </a:lnTo>
                  <a:lnTo>
                    <a:pt x="22" y="12"/>
                  </a:lnTo>
                  <a:lnTo>
                    <a:pt x="25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454560" y="2597400"/>
              <a:ext cx="34200" cy="21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488760" y="2619000"/>
              <a:ext cx="54360" cy="70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13"/>
                  </a:lnTo>
                  <a:lnTo>
                    <a:pt x="19" y="16"/>
                  </a:lnTo>
                  <a:lnTo>
                    <a:pt x="19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543480" y="2689560"/>
              <a:ext cx="8280" cy="5508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480480" y="2745000"/>
              <a:ext cx="63000" cy="702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0"/>
                  </a:moveTo>
                  <a:lnTo>
                    <a:pt x="22" y="3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454560" y="28155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365280" y="28263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0"/>
                  </a:moveTo>
                  <a:lnTo>
                    <a:pt x="28" y="0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5360" y="2859840"/>
              <a:ext cx="7992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277080" y="28825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190680" y="288252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153600" y="2882520"/>
              <a:ext cx="36720" cy="32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3102120" y="2871000"/>
              <a:ext cx="51120" cy="1152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004560" y="284904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31" y="6"/>
                  </a:lnTo>
                  <a:lnTo>
                    <a:pt x="28" y="6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15640" y="282636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881080" y="281556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826720" y="2789640"/>
              <a:ext cx="54360" cy="25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7"/>
                  </a:moveTo>
                  <a:lnTo>
                    <a:pt x="19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40680" y="2756880"/>
              <a:ext cx="85680" cy="32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7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720880" y="2745000"/>
              <a:ext cx="1980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7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651760" y="2712240"/>
              <a:ext cx="68760" cy="324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9"/>
                  </a:moveTo>
                  <a:lnTo>
                    <a:pt x="21" y="9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580480" y="2689560"/>
              <a:ext cx="71280" cy="223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22" y="6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563560" y="2678760"/>
              <a:ext cx="1656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66000" y="2630880"/>
              <a:ext cx="97200" cy="47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34" y="13"/>
                  </a:moveTo>
                  <a:lnTo>
                    <a:pt x="31" y="10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440080" y="2619000"/>
              <a:ext cx="25920" cy="11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376720" y="2586600"/>
              <a:ext cx="63000" cy="324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2" y="9"/>
                  </a:moveTo>
                  <a:lnTo>
                    <a:pt x="19" y="9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291040" y="2563920"/>
              <a:ext cx="8568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7" y="6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270880" y="2552760"/>
              <a:ext cx="198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202120" y="2531160"/>
              <a:ext cx="6876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1" y="6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112840" y="25084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041560" y="2494080"/>
              <a:ext cx="71280" cy="14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25" y="4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024640" y="2482200"/>
              <a:ext cx="16560" cy="11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927080" y="24714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31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841400" y="24606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752480" y="24498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154200" y="316728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057000" y="316728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968440" y="315612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879520" y="313344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879520" y="3133440"/>
              <a:ext cx="2520" cy="39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790240" y="311184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704560" y="3085560"/>
              <a:ext cx="85680" cy="259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lnTo>
                    <a:pt x="27" y="7"/>
                  </a:lnTo>
                  <a:lnTo>
                    <a:pt x="24" y="7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641560" y="307476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9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615640" y="30639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518080" y="303048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31" y="6"/>
                  </a:lnTo>
                  <a:lnTo>
                    <a:pt x="28" y="6"/>
                  </a:lnTo>
                  <a:lnTo>
                    <a:pt x="22" y="6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55080" y="300780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429160" y="299664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340600" y="2963880"/>
              <a:ext cx="8820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8" y="9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288760" y="2937960"/>
              <a:ext cx="51840" cy="259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5" y="7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254200" y="2915280"/>
              <a:ext cx="3420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165640" y="2882520"/>
              <a:ext cx="8820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8" y="9"/>
                  </a:lnTo>
                  <a:lnTo>
                    <a:pt x="25" y="9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148360" y="2882520"/>
              <a:ext cx="1728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76720" y="2838240"/>
              <a:ext cx="71280" cy="442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12"/>
                  </a:moveTo>
                  <a:lnTo>
                    <a:pt x="22" y="9"/>
                  </a:lnTo>
                  <a:lnTo>
                    <a:pt x="19" y="9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025240" y="2815560"/>
              <a:ext cx="51120" cy="223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5" y="6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979160" y="2778480"/>
              <a:ext cx="46080" cy="367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3" y="10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928040" y="2745000"/>
              <a:ext cx="51120" cy="334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8" y="9"/>
                  </a:moveTo>
                  <a:lnTo>
                    <a:pt x="18" y="9"/>
                  </a:lnTo>
                  <a:lnTo>
                    <a:pt x="15" y="9"/>
                  </a:lnTo>
                  <a:lnTo>
                    <a:pt x="12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893480" y="2689560"/>
              <a:ext cx="34200" cy="550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9" y="15"/>
                  </a:lnTo>
                  <a:lnTo>
                    <a:pt x="9" y="12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881600" y="2689560"/>
              <a:ext cx="11520" cy="396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881600" y="2667960"/>
              <a:ext cx="11520" cy="216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893480" y="2619000"/>
              <a:ext cx="34200" cy="486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928040" y="2586600"/>
              <a:ext cx="51120" cy="32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979160" y="25527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9"/>
                  </a:moveTo>
                  <a:lnTo>
                    <a:pt x="3" y="9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068440" y="255276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76720" y="25311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65640" y="250848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6"/>
                  </a:moveTo>
                  <a:lnTo>
                    <a:pt x="3" y="6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254200" y="2494080"/>
              <a:ext cx="77760" cy="1404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0" y="4"/>
                  </a:moveTo>
                  <a:lnTo>
                    <a:pt x="3" y="4"/>
                  </a:lnTo>
                  <a:lnTo>
                    <a:pt x="6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332320" y="2482200"/>
              <a:ext cx="828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340600" y="247140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4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429160" y="24606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518080" y="24498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3"/>
                  </a:moveTo>
                  <a:lnTo>
                    <a:pt x="6" y="3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615640" y="243792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04560" y="242712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790240" y="2427120"/>
              <a:ext cx="46080" cy="396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836680" y="2427120"/>
              <a:ext cx="4284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879520" y="24159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968440" y="24159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057000" y="24159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154200" y="24051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752480" y="19018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841400" y="1901880"/>
              <a:ext cx="51120" cy="147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892520" y="1916640"/>
              <a:ext cx="34200" cy="32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927080" y="19166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34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024640" y="192780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3"/>
                  </a:lnTo>
                  <a:lnTo>
                    <a:pt x="16" y="3"/>
                  </a:lnTo>
                  <a:lnTo>
                    <a:pt x="22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112840" y="19494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5" y="6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202120" y="197208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202120" y="19720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6" y="3"/>
                  </a:lnTo>
                  <a:lnTo>
                    <a:pt x="15" y="3"/>
                  </a:lnTo>
                  <a:lnTo>
                    <a:pt x="21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291040" y="2004840"/>
              <a:ext cx="8568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9" y="0"/>
                  </a:lnTo>
                  <a:lnTo>
                    <a:pt x="18" y="3"/>
                  </a:lnTo>
                  <a:lnTo>
                    <a:pt x="24" y="6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76720" y="2027520"/>
              <a:ext cx="198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396880" y="2038320"/>
              <a:ext cx="68760" cy="259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4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466000" y="206460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0" y="0"/>
                  </a:moveTo>
                  <a:lnTo>
                    <a:pt x="9" y="3"/>
                  </a:lnTo>
                  <a:lnTo>
                    <a:pt x="19" y="6"/>
                  </a:lnTo>
                  <a:lnTo>
                    <a:pt x="25" y="9"/>
                  </a:lnTo>
                  <a:lnTo>
                    <a:pt x="34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563560" y="209808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571840" y="2108880"/>
              <a:ext cx="79920" cy="216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651760" y="213084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9" y="3"/>
                  </a:lnTo>
                  <a:lnTo>
                    <a:pt x="15" y="6"/>
                  </a:lnTo>
                  <a:lnTo>
                    <a:pt x="24" y="9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40680" y="216432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40680" y="216432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826720" y="219780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10" y="4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915640" y="223488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915640" y="223488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0" y="0"/>
                  </a:moveTo>
                  <a:lnTo>
                    <a:pt x="6" y="0"/>
                  </a:lnTo>
                  <a:lnTo>
                    <a:pt x="16" y="3"/>
                  </a:lnTo>
                  <a:lnTo>
                    <a:pt x="25" y="6"/>
                  </a:lnTo>
                  <a:lnTo>
                    <a:pt x="31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004560" y="226836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9" y="0"/>
                  </a:lnTo>
                  <a:lnTo>
                    <a:pt x="18" y="3"/>
                  </a:lnTo>
                  <a:lnTo>
                    <a:pt x="28" y="6"/>
                  </a:lnTo>
                  <a:lnTo>
                    <a:pt x="34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02120" y="229032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10760" y="2301120"/>
              <a:ext cx="7992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190680" y="2323800"/>
              <a:ext cx="8640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3277080" y="2345760"/>
              <a:ext cx="45360" cy="1476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3" y="0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322440" y="2360880"/>
              <a:ext cx="42840" cy="216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365280" y="23824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0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31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454560" y="2405160"/>
              <a:ext cx="80280" cy="216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9" y="0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8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535200" y="2427120"/>
              <a:ext cx="1656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552120" y="242712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lnTo>
                    <a:pt x="6" y="3"/>
                  </a:lnTo>
                  <a:lnTo>
                    <a:pt x="12" y="3"/>
                  </a:lnTo>
                  <a:lnTo>
                    <a:pt x="21" y="6"/>
                  </a:lnTo>
                  <a:lnTo>
                    <a:pt x="3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637800" y="2460600"/>
              <a:ext cx="80280" cy="3348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0"/>
                  </a:moveTo>
                  <a:lnTo>
                    <a:pt x="7" y="3"/>
                  </a:lnTo>
                  <a:lnTo>
                    <a:pt x="16" y="3"/>
                  </a:lnTo>
                  <a:lnTo>
                    <a:pt x="22" y="6"/>
                  </a:lnTo>
                  <a:lnTo>
                    <a:pt x="28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718440" y="249408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726720" y="249408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6" y="4"/>
                  </a:lnTo>
                  <a:lnTo>
                    <a:pt x="16" y="7"/>
                  </a:lnTo>
                  <a:lnTo>
                    <a:pt x="22" y="10"/>
                  </a:lnTo>
                  <a:lnTo>
                    <a:pt x="31" y="1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816000" y="2531160"/>
              <a:ext cx="42840" cy="216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3" y="3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858840" y="2552760"/>
              <a:ext cx="46080" cy="44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0"/>
                  </a:moveTo>
                  <a:lnTo>
                    <a:pt x="4" y="3"/>
                  </a:lnTo>
                  <a:lnTo>
                    <a:pt x="7" y="6"/>
                  </a:lnTo>
                  <a:lnTo>
                    <a:pt x="13" y="9"/>
                  </a:lnTo>
                  <a:lnTo>
                    <a:pt x="16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904920" y="2597400"/>
              <a:ext cx="33480" cy="216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938760" y="2619000"/>
              <a:ext cx="17280" cy="7020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6" y="13"/>
                  </a:lnTo>
                  <a:lnTo>
                    <a:pt x="6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913200" y="2689560"/>
              <a:ext cx="42840" cy="550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2" y="3"/>
                  </a:lnTo>
                  <a:lnTo>
                    <a:pt x="6" y="9"/>
                  </a:lnTo>
                  <a:lnTo>
                    <a:pt x="3" y="12"/>
                  </a:lnTo>
                  <a:lnTo>
                    <a:pt x="0" y="15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904920" y="274500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824280" y="2745000"/>
              <a:ext cx="80280" cy="7020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0"/>
                  </a:moveTo>
                  <a:lnTo>
                    <a:pt x="22" y="6"/>
                  </a:lnTo>
                  <a:lnTo>
                    <a:pt x="12" y="9"/>
                  </a:lnTo>
                  <a:lnTo>
                    <a:pt x="6" y="12"/>
                  </a:lnTo>
                  <a:lnTo>
                    <a:pt x="0" y="1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816000" y="281556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26720" y="2815560"/>
              <a:ext cx="8892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5" y="3"/>
                  </a:lnTo>
                  <a:lnTo>
                    <a:pt x="16" y="6"/>
                  </a:lnTo>
                  <a:lnTo>
                    <a:pt x="6" y="9"/>
                  </a:lnTo>
                  <a:lnTo>
                    <a:pt x="0" y="1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92520" y="2859840"/>
              <a:ext cx="3420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9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37800" y="288252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552120" y="2893680"/>
              <a:ext cx="85680" cy="32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0"/>
                  </a:moveTo>
                  <a:lnTo>
                    <a:pt x="21" y="3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497400" y="2926440"/>
              <a:ext cx="54360" cy="1152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13" y="0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454560" y="2937960"/>
              <a:ext cx="42840" cy="140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2" y="0"/>
                  </a:lnTo>
                  <a:lnTo>
                    <a:pt x="9" y="4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365280" y="295236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277080" y="296388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190680" y="296388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102120" y="2952360"/>
              <a:ext cx="8820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076200" y="2937960"/>
              <a:ext cx="25920" cy="14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6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004560" y="2926440"/>
              <a:ext cx="71280" cy="1152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lnTo>
                    <a:pt x="18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915640" y="28936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1752480" y="1768320"/>
            <a:ext cx="4487400" cy="1483920"/>
            <a:chOff x="1752480" y="1768320"/>
            <a:chExt cx="4487400" cy="1483920"/>
          </a:xfrm>
        </p:grpSpPr>
        <p:sp>
          <p:nvSpPr>
            <p:cNvPr id="3351" name=""/>
            <p:cNvSpPr/>
            <p:nvPr/>
          </p:nvSpPr>
          <p:spPr>
            <a:xfrm>
              <a:off x="2864520" y="2882160"/>
              <a:ext cx="51120" cy="10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26720" y="2859480"/>
              <a:ext cx="37440" cy="22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40680" y="282600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12240" y="2815200"/>
              <a:ext cx="28440" cy="108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3"/>
                  </a:move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651760" y="2778120"/>
              <a:ext cx="60120" cy="367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1" y="10"/>
                  </a:moveTo>
                  <a:lnTo>
                    <a:pt x="15" y="7"/>
                  </a:lnTo>
                  <a:lnTo>
                    <a:pt x="12" y="7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563560" y="274464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2" y="6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563560" y="2744640"/>
              <a:ext cx="2520" cy="3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466000" y="2700360"/>
              <a:ext cx="97200" cy="442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12"/>
                  </a:moveTo>
                  <a:lnTo>
                    <a:pt x="25" y="9"/>
                  </a:lnTo>
                  <a:lnTo>
                    <a:pt x="19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423160" y="2689200"/>
              <a:ext cx="428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376720" y="2667600"/>
              <a:ext cx="46080" cy="216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6"/>
                  </a:moveTo>
                  <a:lnTo>
                    <a:pt x="13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2291040" y="2630520"/>
              <a:ext cx="85680" cy="3672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10"/>
                  </a:moveTo>
                  <a:lnTo>
                    <a:pt x="24" y="7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2253960" y="2619000"/>
              <a:ext cx="36720" cy="11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202120" y="2597040"/>
              <a:ext cx="51840" cy="216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112840" y="25750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024640" y="255276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998720" y="2552760"/>
              <a:ext cx="25920" cy="39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927080" y="2541600"/>
              <a:ext cx="71280" cy="108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841400" y="25308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1752480" y="25308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154200" y="32112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057000" y="32004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002280" y="320040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968440" y="3189240"/>
              <a:ext cx="3348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879520" y="317772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790240" y="31557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704560" y="31449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684400" y="3133080"/>
              <a:ext cx="1980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615640" y="3111480"/>
              <a:ext cx="6876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18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518080" y="3085200"/>
              <a:ext cx="97200" cy="259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7"/>
                  </a:moveTo>
                  <a:lnTo>
                    <a:pt x="25" y="7"/>
                  </a:lnTo>
                  <a:lnTo>
                    <a:pt x="15" y="4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455080" y="307440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429160" y="306360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340600" y="303012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6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254200" y="3007440"/>
              <a:ext cx="8640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254200" y="3007440"/>
              <a:ext cx="3240" cy="3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165640" y="2974680"/>
              <a:ext cx="8820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5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076720" y="29520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42160" y="2937600"/>
              <a:ext cx="34200" cy="1404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979160" y="291492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9" y="6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893480" y="289332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821840" y="2882160"/>
              <a:ext cx="71280" cy="108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804560" y="2870640"/>
              <a:ext cx="17280" cy="11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715280" y="28486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627080" y="28260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529520" y="28152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503600" y="2815200"/>
              <a:ext cx="25920" cy="39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43840" y="2804400"/>
              <a:ext cx="59760" cy="10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18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354560" y="28044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265640" y="28044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265640" y="2815200"/>
              <a:ext cx="3240" cy="3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176720" y="2815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088160" y="28260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0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993120" y="2848680"/>
              <a:ext cx="94680" cy="2160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lnTo>
                    <a:pt x="24" y="0"/>
                  </a:lnTo>
                  <a:lnTo>
                    <a:pt x="15" y="3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984840" y="2870640"/>
              <a:ext cx="828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904920" y="2882160"/>
              <a:ext cx="79920" cy="108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816000" y="289332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0"/>
                  </a:moveTo>
                  <a:lnTo>
                    <a:pt x="22" y="3"/>
                  </a:lnTo>
                  <a:lnTo>
                    <a:pt x="15" y="6"/>
                  </a:lnTo>
                  <a:lnTo>
                    <a:pt x="6" y="6"/>
                  </a:lnTo>
                  <a:lnTo>
                    <a:pt x="0" y="9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789720" y="2926080"/>
              <a:ext cx="25920" cy="11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726720" y="2937600"/>
              <a:ext cx="63000" cy="2592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2" y="0"/>
                  </a:moveTo>
                  <a:lnTo>
                    <a:pt x="16" y="0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637800" y="296352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0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552120" y="298548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21" y="0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543480" y="300744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454560" y="300744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5280" y="30189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277080" y="30189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190680" y="301896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127680" y="3007440"/>
              <a:ext cx="63000" cy="115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102120" y="2996280"/>
              <a:ext cx="2520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04560" y="297468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6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915640" y="29520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898720" y="2937600"/>
              <a:ext cx="16560" cy="14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826720" y="2904120"/>
              <a:ext cx="72000" cy="334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9"/>
                  </a:moveTo>
                  <a:lnTo>
                    <a:pt x="22" y="9"/>
                  </a:lnTo>
                  <a:lnTo>
                    <a:pt x="16" y="6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740680" y="288216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1" y="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740680" y="2870640"/>
              <a:ext cx="3240" cy="115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651760" y="28378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4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597760" y="2815200"/>
              <a:ext cx="53640" cy="223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3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563560" y="2789280"/>
              <a:ext cx="34200" cy="259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9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466000" y="2756520"/>
              <a:ext cx="97200" cy="32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457360" y="2744640"/>
              <a:ext cx="828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376720" y="2711880"/>
              <a:ext cx="80280" cy="32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9"/>
                  </a:moveTo>
                  <a:lnTo>
                    <a:pt x="22" y="9"/>
                  </a:lnTo>
                  <a:lnTo>
                    <a:pt x="16" y="6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291040" y="2689200"/>
              <a:ext cx="8568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291040" y="2678400"/>
              <a:ext cx="2520" cy="10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202120" y="265680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4" y="6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112840" y="2619000"/>
              <a:ext cx="88920" cy="374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2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079360" y="2619000"/>
              <a:ext cx="33480" cy="39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024640" y="260784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927080" y="258624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841400" y="258624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752480" y="25750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154200" y="22899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057000" y="22899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011280" y="228996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968440" y="2300760"/>
              <a:ext cx="4284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879520" y="23007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790240" y="23007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704560" y="23007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615640" y="23119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518080" y="231192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429160" y="23234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340600" y="232344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254200" y="233460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165640" y="2345400"/>
              <a:ext cx="88200" cy="147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0"/>
                  </a:moveTo>
                  <a:lnTo>
                    <a:pt x="21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111280" y="236052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076720" y="236052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979160" y="237132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893480" y="237132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804560" y="23821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715280" y="239328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1" y="0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627080" y="240480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529520" y="24159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443840" y="24159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54560" y="24267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265640" y="24159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176720" y="24048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088160" y="2393280"/>
              <a:ext cx="8820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993120" y="2382120"/>
              <a:ext cx="94680" cy="10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3"/>
                  </a:moveTo>
                  <a:lnTo>
                    <a:pt x="24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921840" y="2360520"/>
              <a:ext cx="7128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8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04920" y="236052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816000" y="2334600"/>
              <a:ext cx="8892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5" y="7"/>
                  </a:lnTo>
                  <a:lnTo>
                    <a:pt x="19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26720" y="231192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637800" y="23007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629160" y="230076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552120" y="2279160"/>
              <a:ext cx="77040" cy="216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454560" y="225648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365280" y="223452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357000" y="22345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277080" y="2211840"/>
              <a:ext cx="7992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6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190680" y="2186640"/>
              <a:ext cx="86400" cy="248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127680" y="216432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5" y="3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102120" y="2164320"/>
              <a:ext cx="2520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004560" y="213048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6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924280" y="2108880"/>
              <a:ext cx="80280" cy="216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6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915640" y="209772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826720" y="207504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740680" y="2038320"/>
              <a:ext cx="85680" cy="3672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10"/>
                  </a:moveTo>
                  <a:lnTo>
                    <a:pt x="21" y="7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740680" y="2038320"/>
              <a:ext cx="3240" cy="39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651760" y="200484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571840" y="1972080"/>
              <a:ext cx="79920" cy="32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9"/>
                  </a:moveTo>
                  <a:lnTo>
                    <a:pt x="19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563560" y="197208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466000" y="193860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405520" y="1916640"/>
              <a:ext cx="60120" cy="2160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6"/>
                  </a:moveTo>
                  <a:lnTo>
                    <a:pt x="15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376720" y="1901520"/>
              <a:ext cx="28440" cy="14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291040" y="186804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219760" y="1846080"/>
              <a:ext cx="7128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8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202120" y="1835280"/>
              <a:ext cx="1728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112840" y="18126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024640" y="179064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1938240" y="1779120"/>
              <a:ext cx="8640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927080" y="1779120"/>
              <a:ext cx="10800" cy="396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841400" y="176832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752480" y="17683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154200" y="324828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057000" y="3233160"/>
              <a:ext cx="97200" cy="1476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4"/>
                  </a:moveTo>
                  <a:lnTo>
                    <a:pt x="24" y="4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968440" y="322200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879520" y="3211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790240" y="32004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790240" y="320040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704560" y="3177720"/>
              <a:ext cx="8568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15640" y="31557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518080" y="313308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518080" y="313308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429160" y="31114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340600" y="308520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5" y="4"/>
                  </a:lnTo>
                  <a:lnTo>
                    <a:pt x="16" y="4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280120" y="3074400"/>
              <a:ext cx="60120" cy="10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254200" y="306360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5165640" y="303012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5076720" y="300744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042160" y="3007440"/>
              <a:ext cx="34200" cy="39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979160" y="2985480"/>
              <a:ext cx="63000" cy="216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93480" y="296352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6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804560" y="295200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749840" y="2937600"/>
              <a:ext cx="54360" cy="1404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13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715280" y="292608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27080" y="291492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529520" y="290412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43840" y="290412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354560" y="29041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265640" y="29041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176720" y="29041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088160" y="291492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3" y="3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053600" y="292608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993120" y="2937600"/>
              <a:ext cx="60120" cy="1404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904920" y="29520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4" y="0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816000" y="29746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0"/>
                  </a:lnTo>
                  <a:lnTo>
                    <a:pt x="15" y="3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789720" y="299628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726720" y="3007440"/>
              <a:ext cx="63000" cy="1152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0"/>
                  </a:move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637800" y="30189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0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552120" y="304092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454560" y="305172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445920" y="306360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365280" y="3074400"/>
              <a:ext cx="80280" cy="32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277080" y="30744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268440" y="30744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190680" y="3063600"/>
              <a:ext cx="77760" cy="10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3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102120" y="304092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004560" y="301896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360" y="300744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15640" y="2985480"/>
              <a:ext cx="54360" cy="216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6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826720" y="295200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6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801160" y="2937600"/>
              <a:ext cx="25200" cy="14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4"/>
                  </a:moveTo>
                  <a:lnTo>
                    <a:pt x="6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740680" y="2914920"/>
              <a:ext cx="60120" cy="223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6"/>
                  </a:move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660760" y="2882160"/>
              <a:ext cx="79920" cy="32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9"/>
                  </a:moveTo>
                  <a:lnTo>
                    <a:pt x="18" y="6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1752480" y="1494000"/>
            <a:ext cx="4487400" cy="1811880"/>
            <a:chOff x="1752480" y="1494000"/>
            <a:chExt cx="4487400" cy="1811880"/>
          </a:xfrm>
        </p:grpSpPr>
        <p:sp>
          <p:nvSpPr>
            <p:cNvPr id="3552" name=""/>
            <p:cNvSpPr/>
            <p:nvPr/>
          </p:nvSpPr>
          <p:spPr>
            <a:xfrm>
              <a:off x="2651760" y="2869200"/>
              <a:ext cx="90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563560" y="2824560"/>
              <a:ext cx="8820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25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520360" y="2813760"/>
              <a:ext cx="428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466000" y="2787840"/>
              <a:ext cx="54360" cy="25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7"/>
                  </a:moveTo>
                  <a:lnTo>
                    <a:pt x="12" y="4"/>
                  </a:lnTo>
                  <a:lnTo>
                    <a:pt x="9" y="4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376720" y="27550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360160" y="2743200"/>
              <a:ext cx="16560" cy="11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291040" y="2721600"/>
              <a:ext cx="6876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202120" y="26877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1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176200" y="2687760"/>
              <a:ext cx="25920" cy="39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112840" y="2666160"/>
              <a:ext cx="63000" cy="216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024640" y="264024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2" y="4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1927080" y="262908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1841400" y="261756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1752480" y="26175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154200" y="217404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057000" y="217404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968440" y="217404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879520" y="2174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790240" y="2174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704560" y="217404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615640" y="218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518080" y="21855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429160" y="21855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340600" y="21963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254200" y="219636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165640" y="2196360"/>
              <a:ext cx="88200" cy="140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0"/>
                  </a:moveTo>
                  <a:lnTo>
                    <a:pt x="21" y="4"/>
                  </a:lnTo>
                  <a:lnTo>
                    <a:pt x="15" y="4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076720" y="22107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4979160" y="221076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893480" y="222264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804560" y="22226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15280" y="22226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1" y="0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681440" y="2233440"/>
              <a:ext cx="33480" cy="32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627080" y="223344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6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529520" y="223344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443840" y="223344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354560" y="2233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265640" y="2233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257000" y="22334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176720" y="2222640"/>
              <a:ext cx="80280" cy="108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088160" y="222264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993120" y="2210760"/>
              <a:ext cx="94680" cy="1152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904920" y="2196360"/>
              <a:ext cx="88200" cy="140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4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16000" y="21855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726720" y="21628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726720" y="216288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37800" y="21520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552120" y="2129400"/>
              <a:ext cx="8568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454560" y="211860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391560" y="210780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365280" y="209664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277080" y="207396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190680" y="2048040"/>
              <a:ext cx="86400" cy="259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lnTo>
                    <a:pt x="21" y="7"/>
                  </a:lnTo>
                  <a:lnTo>
                    <a:pt x="15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136680" y="2037240"/>
              <a:ext cx="5364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02120" y="202644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004560" y="200376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924280" y="1971000"/>
              <a:ext cx="80280" cy="324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9"/>
                  </a:moveTo>
                  <a:lnTo>
                    <a:pt x="22" y="6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915640" y="19710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826720" y="193752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6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749320" y="1915560"/>
              <a:ext cx="77040" cy="216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lnTo>
                    <a:pt x="18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740680" y="1900440"/>
              <a:ext cx="8280" cy="14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651760" y="18669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4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580480" y="1845000"/>
              <a:ext cx="7128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6" y="6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563560" y="1834200"/>
              <a:ext cx="1656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466000" y="180072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6"/>
                  </a:lnTo>
                  <a:lnTo>
                    <a:pt x="19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413800" y="1778040"/>
              <a:ext cx="51840" cy="223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376720" y="1767240"/>
              <a:ext cx="36720" cy="10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291040" y="1730160"/>
              <a:ext cx="85680" cy="3672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10"/>
                  </a:moveTo>
                  <a:lnTo>
                    <a:pt x="24" y="6"/>
                  </a:lnTo>
                  <a:lnTo>
                    <a:pt x="15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228040" y="171936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5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202120" y="17085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112840" y="16858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024640" y="166392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55880" y="1653120"/>
              <a:ext cx="68760" cy="10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3"/>
                  </a:moveTo>
                  <a:lnTo>
                    <a:pt x="15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927080" y="1653120"/>
              <a:ext cx="28440" cy="32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841400" y="164124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752480" y="16304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154200" y="32691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7000" y="32691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011280" y="3257280"/>
              <a:ext cx="45360" cy="115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968440" y="3257280"/>
              <a:ext cx="4284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879520" y="32464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790240" y="3220560"/>
              <a:ext cx="8892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704560" y="32094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41560" y="319860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5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615640" y="318780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518080" y="316512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6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429160" y="314316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369040" y="3131640"/>
              <a:ext cx="59760" cy="1152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340600" y="3120480"/>
              <a:ext cx="28440" cy="108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3"/>
                  </a:moveTo>
                  <a:lnTo>
                    <a:pt x="10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254200" y="3098880"/>
              <a:ext cx="8640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165640" y="3083760"/>
              <a:ext cx="88200" cy="147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4"/>
                  </a:moveTo>
                  <a:lnTo>
                    <a:pt x="21" y="4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102640" y="307296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076720" y="306180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979160" y="303912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893480" y="301752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804560" y="300564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795920" y="300564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715280" y="2984040"/>
              <a:ext cx="80280" cy="2160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6"/>
                  </a:moveTo>
                  <a:lnTo>
                    <a:pt x="21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627080" y="29728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529520" y="297288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443840" y="296208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354560" y="29620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265640" y="29620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176720" y="29728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088160" y="297288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019400" y="2994840"/>
              <a:ext cx="68760" cy="10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993120" y="3005640"/>
              <a:ext cx="25920" cy="39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904920" y="300564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4" y="0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816000" y="30283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726720" y="303912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3"/>
                  </a:lnTo>
                  <a:lnTo>
                    <a:pt x="13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18440" y="306180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637800" y="3072960"/>
              <a:ext cx="80280" cy="108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552120" y="3083760"/>
              <a:ext cx="85680" cy="1476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454560" y="309888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365280" y="31096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277080" y="310968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190680" y="309888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102120" y="307296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4680" y="3072960"/>
              <a:ext cx="37440" cy="32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04560" y="3050280"/>
              <a:ext cx="59760" cy="223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6"/>
                  </a:moveTo>
                  <a:lnTo>
                    <a:pt x="18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915640" y="301752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881080" y="300564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826720" y="2984040"/>
              <a:ext cx="54360" cy="216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6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740680" y="295056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1" y="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720880" y="2936160"/>
              <a:ext cx="19800" cy="140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651760" y="2902680"/>
              <a:ext cx="68760" cy="334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9"/>
                  </a:moveTo>
                  <a:lnTo>
                    <a:pt x="21" y="6"/>
                  </a:lnTo>
                  <a:lnTo>
                    <a:pt x="12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580480" y="2880720"/>
              <a:ext cx="7128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9" y="3"/>
                  </a:lnTo>
                  <a:lnTo>
                    <a:pt x="13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563560" y="2858040"/>
              <a:ext cx="16560" cy="223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466000" y="282456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9"/>
                  </a:lnTo>
                  <a:lnTo>
                    <a:pt x="19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440080" y="28137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376720" y="2776680"/>
              <a:ext cx="63000" cy="3672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2" y="10"/>
                  </a:moveTo>
                  <a:lnTo>
                    <a:pt x="19" y="7"/>
                  </a:lnTo>
                  <a:lnTo>
                    <a:pt x="13" y="7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91040" y="275508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270880" y="2743200"/>
              <a:ext cx="1980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202120" y="2721600"/>
              <a:ext cx="6876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18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112840" y="269892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041560" y="2687760"/>
              <a:ext cx="71280" cy="108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024640" y="2676960"/>
              <a:ext cx="1656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927080" y="26661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841400" y="26553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752480" y="26553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154200" y="203724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057000" y="204804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968440" y="204804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879520" y="2048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90240" y="2048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04560" y="204804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615640" y="2048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518080" y="204804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429160" y="2048040"/>
              <a:ext cx="88920" cy="147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340600" y="20631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254200" y="206316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165640" y="20631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076720" y="20631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979160" y="20631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93480" y="20631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04560" y="2073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715280" y="2073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627080" y="207396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529520" y="207396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443840" y="207396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354560" y="2073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265640" y="2073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176720" y="20631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088160" y="20631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3120" y="2048040"/>
              <a:ext cx="94680" cy="14760"/>
            </a:xfrm>
            <a:custGeom>
              <a:avLst/>
              <a:gdLst/>
              <a:ahLst/>
              <a:rect l="l" t="t" r="r" b="b"/>
              <a:pathLst>
                <a:path w="33" h="4">
                  <a:moveTo>
                    <a:pt x="33" y="4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04920" y="203724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870360" y="2037240"/>
              <a:ext cx="34200" cy="39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816000" y="202644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726720" y="20152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3637800" y="200376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552120" y="19926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454560" y="197100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8" y="6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3445920" y="197100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3365280" y="1960200"/>
              <a:ext cx="80280" cy="108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3"/>
                  </a:move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277080" y="193752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190680" y="1915560"/>
              <a:ext cx="8640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7" y="6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161880" y="1915560"/>
              <a:ext cx="28440" cy="32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3102120" y="1889640"/>
              <a:ext cx="59760" cy="2592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8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004560" y="1866960"/>
              <a:ext cx="97200" cy="2232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31" y="6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950200" y="1845000"/>
              <a:ext cx="54360" cy="216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915640" y="183420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826720" y="180072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8" y="9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66960" y="1778040"/>
              <a:ext cx="59760" cy="223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6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740680" y="176724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651760" y="173016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8" y="10"/>
                  </a:lnTo>
                  <a:lnTo>
                    <a:pt x="24" y="10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597760" y="1719360"/>
              <a:ext cx="5364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6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563560" y="1696680"/>
              <a:ext cx="3420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466000" y="1663920"/>
              <a:ext cx="97200" cy="32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8" y="9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440080" y="165312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376720" y="163044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9" y="6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291040" y="1593720"/>
              <a:ext cx="85680" cy="3672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10"/>
                  </a:moveTo>
                  <a:lnTo>
                    <a:pt x="27" y="10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253960" y="1582560"/>
              <a:ext cx="36720" cy="10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202120" y="1571760"/>
              <a:ext cx="51840" cy="10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112840" y="153828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024640" y="15274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015640" y="152748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927080" y="15048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31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841400" y="14940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752480" y="1494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154200" y="330192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057000" y="32907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1752480" y="1346040"/>
            <a:ext cx="4487400" cy="1982160"/>
            <a:chOff x="1752480" y="1346040"/>
            <a:chExt cx="4487400" cy="1982160"/>
          </a:xfrm>
        </p:grpSpPr>
        <p:sp>
          <p:nvSpPr>
            <p:cNvPr id="3753" name=""/>
            <p:cNvSpPr/>
            <p:nvPr/>
          </p:nvSpPr>
          <p:spPr>
            <a:xfrm>
              <a:off x="5968440" y="328032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879520" y="32695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819040" y="3257640"/>
              <a:ext cx="60120" cy="1152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15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90240" y="3257640"/>
              <a:ext cx="28440" cy="396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04560" y="3231720"/>
              <a:ext cx="85680" cy="259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lnTo>
                    <a:pt x="24" y="7"/>
                  </a:lnTo>
                  <a:lnTo>
                    <a:pt x="15" y="4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615640" y="32209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518080" y="319896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509440" y="31989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429160" y="3176280"/>
              <a:ext cx="8028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6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340600" y="315468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254200" y="314352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217120" y="3132000"/>
              <a:ext cx="36720" cy="11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165640" y="3121200"/>
              <a:ext cx="51120" cy="10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5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076720" y="309924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79160" y="3084120"/>
              <a:ext cx="97200" cy="1476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4"/>
                  </a:moveTo>
                  <a:lnTo>
                    <a:pt x="25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10400" y="3073320"/>
              <a:ext cx="68760" cy="10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893480" y="3062160"/>
              <a:ext cx="1656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804560" y="305064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4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15280" y="302868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627080" y="30178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529520" y="301788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443840" y="300600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354560" y="30060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265640" y="300600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176720" y="30178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088160" y="301788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993120" y="3028680"/>
              <a:ext cx="94680" cy="2160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6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913200" y="3050640"/>
              <a:ext cx="7992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0"/>
                  </a:moveTo>
                  <a:lnTo>
                    <a:pt x="21" y="0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904920" y="30733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816000" y="30733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726720" y="3084120"/>
              <a:ext cx="8892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0"/>
                  </a:moveTo>
                  <a:lnTo>
                    <a:pt x="22" y="0"/>
                  </a:lnTo>
                  <a:lnTo>
                    <a:pt x="16" y="4"/>
                  </a:lnTo>
                  <a:lnTo>
                    <a:pt x="6" y="4"/>
                  </a:lnTo>
                  <a:lnTo>
                    <a:pt x="0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637800" y="31100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569400" y="3121200"/>
              <a:ext cx="68040" cy="10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5" y="0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552120" y="3132000"/>
              <a:ext cx="1728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454560" y="313200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4" y="0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365280" y="31435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277080" y="314352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234240" y="3132000"/>
              <a:ext cx="42840" cy="11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190680" y="3132000"/>
              <a:ext cx="4320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102120" y="311004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04560" y="3084120"/>
              <a:ext cx="97200" cy="259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7"/>
                  </a:moveTo>
                  <a:lnTo>
                    <a:pt x="25" y="4"/>
                  </a:lnTo>
                  <a:lnTo>
                    <a:pt x="15" y="4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70360" y="307332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915640" y="3050640"/>
              <a:ext cx="54360" cy="223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6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826720" y="30178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809800" y="3006000"/>
              <a:ext cx="16560" cy="11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40680" y="2973240"/>
              <a:ext cx="68760" cy="324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9"/>
                  </a:moveTo>
                  <a:lnTo>
                    <a:pt x="18" y="6"/>
                  </a:lnTo>
                  <a:lnTo>
                    <a:pt x="12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660760" y="2936520"/>
              <a:ext cx="79920" cy="367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18" y="7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651760" y="2936520"/>
              <a:ext cx="900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563560" y="2891880"/>
              <a:ext cx="8820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22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520360" y="2881080"/>
              <a:ext cx="428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466000" y="2847600"/>
              <a:ext cx="54360" cy="334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16" y="6"/>
                  </a:lnTo>
                  <a:lnTo>
                    <a:pt x="12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376720" y="281412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6" y="6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368440" y="281412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291040" y="2777040"/>
              <a:ext cx="77040" cy="367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10"/>
                  </a:moveTo>
                  <a:lnTo>
                    <a:pt x="21" y="7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202120" y="27435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1" y="6"/>
                  </a:lnTo>
                  <a:lnTo>
                    <a:pt x="12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185200" y="2743560"/>
              <a:ext cx="1656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112840" y="2721600"/>
              <a:ext cx="7200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22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024640" y="269892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927080" y="268812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841400" y="268812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841400" y="2677320"/>
              <a:ext cx="2520" cy="108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52480" y="267732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154200" y="190044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057000" y="190044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968440" y="190044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879520" y="1900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90240" y="1900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04560" y="1900440"/>
              <a:ext cx="85680" cy="1476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623920" y="1915560"/>
              <a:ext cx="80280" cy="32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615640" y="19155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18080" y="19155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429160" y="191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340600" y="19155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254200" y="1915560"/>
              <a:ext cx="8640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165640" y="19155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076720" y="191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4979160" y="19155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893480" y="19155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4804560" y="191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4715280" y="191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4627080" y="191556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529520" y="191556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443840" y="19155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354560" y="19155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300200" y="191556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65640" y="1900440"/>
              <a:ext cx="34200" cy="147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9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176720" y="19004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088160" y="190044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993120" y="1889640"/>
              <a:ext cx="94680" cy="10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904920" y="18784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3816000" y="18784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3726720" y="186696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3637800" y="18558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3578040" y="1845000"/>
              <a:ext cx="59760" cy="10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552120" y="183420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454560" y="182232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3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365280" y="18115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277080" y="178956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234240" y="1778040"/>
              <a:ext cx="42840" cy="11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3190680" y="1766880"/>
              <a:ext cx="4320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102120" y="174096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1" y="7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004560" y="171936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3004560" y="171936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915640" y="168552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826720" y="165276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2" y="6"/>
                  </a:lnTo>
                  <a:lnTo>
                    <a:pt x="16" y="6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18080" y="16527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740680" y="1619280"/>
              <a:ext cx="77040" cy="33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lnTo>
                    <a:pt x="21" y="6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651760" y="158256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1" y="6"/>
                  </a:lnTo>
                  <a:lnTo>
                    <a:pt x="12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651760" y="1582560"/>
              <a:ext cx="324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563560" y="1548720"/>
              <a:ext cx="8820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491920" y="1527120"/>
              <a:ext cx="71280" cy="21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6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466000" y="1515240"/>
              <a:ext cx="25920" cy="11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376720" y="148248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316960" y="1456560"/>
              <a:ext cx="59760" cy="2592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5" y="4"/>
                  </a:lnTo>
                  <a:lnTo>
                    <a:pt x="9" y="4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291040" y="14457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202120" y="141228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4" y="6"/>
                  </a:lnTo>
                  <a:lnTo>
                    <a:pt x="15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112840" y="13896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112840" y="1389600"/>
              <a:ext cx="3240" cy="3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024640" y="136764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927080" y="13568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841400" y="134604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52480" y="13460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154200" y="332496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057000" y="33141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3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968440" y="3302280"/>
              <a:ext cx="8820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879520" y="32914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790240" y="32803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704560" y="326952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684400" y="3257640"/>
              <a:ext cx="1980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615640" y="3246840"/>
              <a:ext cx="68760" cy="10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3"/>
                  </a:moveTo>
                  <a:lnTo>
                    <a:pt x="18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18080" y="3220920"/>
              <a:ext cx="97200" cy="259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34" y="7"/>
                  </a:moveTo>
                  <a:lnTo>
                    <a:pt x="25" y="7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429160" y="32101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377680" y="3198960"/>
              <a:ext cx="51120" cy="10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340600" y="3188160"/>
              <a:ext cx="36720" cy="10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254200" y="3165480"/>
              <a:ext cx="86400" cy="2232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6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165640" y="31546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076720" y="31320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068440" y="313200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9160" y="3121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893480" y="309924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804560" y="3084120"/>
              <a:ext cx="88920" cy="147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4"/>
                  </a:moveTo>
                  <a:lnTo>
                    <a:pt x="24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15280" y="30733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672440" y="3073320"/>
              <a:ext cx="42840" cy="32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27080" y="306216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529520" y="305064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443840" y="305064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354560" y="30506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265640" y="30506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176720" y="305064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142880" y="3062160"/>
              <a:ext cx="3348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088160" y="307332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993120" y="3073320"/>
              <a:ext cx="94680" cy="10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0"/>
                  </a:moveTo>
                  <a:lnTo>
                    <a:pt x="24" y="0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904920" y="308412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0"/>
                  </a:moveTo>
                  <a:lnTo>
                    <a:pt x="24" y="4"/>
                  </a:lnTo>
                  <a:lnTo>
                    <a:pt x="15" y="4"/>
                  </a:lnTo>
                  <a:lnTo>
                    <a:pt x="9" y="4"/>
                  </a:lnTo>
                  <a:lnTo>
                    <a:pt x="0" y="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816000" y="31100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772800" y="3121200"/>
              <a:ext cx="428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726720" y="3132000"/>
              <a:ext cx="46080" cy="115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637800" y="31435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552120" y="315468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454560" y="316548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365280" y="317628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277080" y="31654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190680" y="315468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102120" y="313200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093840" y="313200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004560" y="311004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915640" y="307332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5" y="7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98720" y="3073320"/>
              <a:ext cx="16560" cy="32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826720" y="3039840"/>
              <a:ext cx="72000" cy="334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9"/>
                  </a:moveTo>
                  <a:lnTo>
                    <a:pt x="22" y="6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749320" y="3006000"/>
              <a:ext cx="77040" cy="33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lnTo>
                    <a:pt x="21" y="6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740680" y="2995200"/>
              <a:ext cx="828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651760" y="296244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4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606400" y="2936520"/>
              <a:ext cx="45360" cy="259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7"/>
                  </a:moveTo>
                  <a:lnTo>
                    <a:pt x="10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563560" y="2913840"/>
              <a:ext cx="42840" cy="223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6"/>
                  </a:moveTo>
                  <a:lnTo>
                    <a:pt x="12" y="6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466000" y="2881080"/>
              <a:ext cx="97200" cy="32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466000" y="2881080"/>
              <a:ext cx="252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376720" y="2836800"/>
              <a:ext cx="8892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25" y="9"/>
                  </a:lnTo>
                  <a:lnTo>
                    <a:pt x="16" y="6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307960" y="2814120"/>
              <a:ext cx="68760" cy="22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18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291040" y="2802960"/>
              <a:ext cx="16560" cy="10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202120" y="276624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4" y="10"/>
                  </a:lnTo>
                  <a:lnTo>
                    <a:pt x="15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112840" y="274356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096280" y="2743560"/>
              <a:ext cx="1656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024640" y="2732760"/>
              <a:ext cx="71280" cy="108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5" y="3"/>
                  </a:moveTo>
                  <a:lnTo>
                    <a:pt x="19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7080" y="271080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9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41400" y="2698920"/>
              <a:ext cx="8568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752480" y="26989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154200" y="174096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6057000" y="174096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968440" y="174096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879520" y="1740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790240" y="1740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704560" y="174096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615640" y="1740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518080" y="174096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429160" y="1740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340600" y="174096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254200" y="1740960"/>
              <a:ext cx="8640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65640" y="174096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076720" y="174096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979160" y="174096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893480" y="174096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3" name=""/>
          <p:cNvGrpSpPr/>
          <p:nvPr/>
        </p:nvGrpSpPr>
        <p:grpSpPr>
          <a:xfrm>
            <a:off x="1752480" y="969840"/>
            <a:ext cx="4487400" cy="2391840"/>
            <a:chOff x="1752480" y="969840"/>
            <a:chExt cx="4487400" cy="2391840"/>
          </a:xfrm>
        </p:grpSpPr>
        <p:sp>
          <p:nvSpPr>
            <p:cNvPr id="3954" name=""/>
            <p:cNvSpPr/>
            <p:nvPr/>
          </p:nvSpPr>
          <p:spPr>
            <a:xfrm>
              <a:off x="4804560" y="1742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715280" y="174204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627080" y="174204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529520" y="174204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443840" y="173088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354560" y="173088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4265640" y="173088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4176720" y="173088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4088160" y="17200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993120" y="1720080"/>
              <a:ext cx="94680" cy="32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33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938760" y="172008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904920" y="1709280"/>
              <a:ext cx="3348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816000" y="170928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726720" y="169740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637800" y="16866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3552120" y="16758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454560" y="16646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8" y="3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3408840" y="165384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3365280" y="1641960"/>
              <a:ext cx="43200" cy="11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277080" y="163116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190680" y="1605240"/>
              <a:ext cx="86400" cy="259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lnTo>
                    <a:pt x="27" y="4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127680" y="1583280"/>
              <a:ext cx="63000" cy="216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102120" y="1583280"/>
              <a:ext cx="2520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004560" y="1549800"/>
              <a:ext cx="97200" cy="334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31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915640" y="152820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915640" y="1528200"/>
              <a:ext cx="3240" cy="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826720" y="149436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749320" y="1457640"/>
              <a:ext cx="77040" cy="367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10"/>
                  </a:moveTo>
                  <a:lnTo>
                    <a:pt x="24" y="7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740680" y="145764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651760" y="1413360"/>
              <a:ext cx="8892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28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588760" y="1390680"/>
              <a:ext cx="63000" cy="223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9" y="6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63560" y="1379520"/>
              <a:ext cx="2520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466000" y="1347120"/>
              <a:ext cx="97200" cy="32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31" y="9"/>
                  </a:lnTo>
                  <a:lnTo>
                    <a:pt x="25" y="9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431440" y="133524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76720" y="1309320"/>
              <a:ext cx="54360" cy="259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7"/>
                  </a:moveTo>
                  <a:lnTo>
                    <a:pt x="16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291040" y="1276560"/>
              <a:ext cx="85680" cy="32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7" y="9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253960" y="1265760"/>
              <a:ext cx="36720" cy="108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3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202120" y="1243080"/>
              <a:ext cx="51840" cy="223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5" y="6"/>
                  </a:lnTo>
                  <a:lnTo>
                    <a:pt x="15" y="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112840" y="122112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024640" y="1198440"/>
              <a:ext cx="8820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024640" y="1198440"/>
              <a:ext cx="2520" cy="39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927080" y="11876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31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841400" y="117684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752480" y="11768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6154200" y="334656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057000" y="333576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968440" y="332496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942520" y="3324960"/>
              <a:ext cx="25920" cy="32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879520" y="331380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9" y="3"/>
                  </a:lnTo>
                  <a:lnTo>
                    <a:pt x="13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790240" y="330228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704560" y="329148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15640" y="3269520"/>
              <a:ext cx="8892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560920" y="3257640"/>
              <a:ext cx="54360" cy="1152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3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518080" y="3257640"/>
              <a:ext cx="42840" cy="396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429160" y="3231720"/>
              <a:ext cx="8892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5" y="4"/>
                  </a:lnTo>
                  <a:lnTo>
                    <a:pt x="19" y="4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340600" y="321012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5" y="6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254200" y="319896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245560" y="3198960"/>
              <a:ext cx="8280" cy="32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165640" y="3176280"/>
              <a:ext cx="79920" cy="223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076720" y="31654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979160" y="3143880"/>
              <a:ext cx="97200" cy="216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6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10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4901760" y="3132000"/>
              <a:ext cx="77040" cy="1152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3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4893480" y="3132000"/>
              <a:ext cx="8280" cy="39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804560" y="3121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4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4715280" y="31100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4627080" y="309924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4529520" y="3084120"/>
              <a:ext cx="97200" cy="1476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4"/>
                  </a:moveTo>
                  <a:lnTo>
                    <a:pt x="25" y="4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4443840" y="308412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4354560" y="30841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4265640" y="30841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4176720" y="3084120"/>
              <a:ext cx="88920" cy="1476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4"/>
                  </a:ln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4088160" y="309924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993120" y="3110040"/>
              <a:ext cx="94680" cy="10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938760" y="312120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0"/>
                  </a:moveTo>
                  <a:lnTo>
                    <a:pt x="12" y="0"/>
                  </a:lnTo>
                  <a:lnTo>
                    <a:pt x="9" y="3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3904920" y="3132000"/>
              <a:ext cx="3348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816000" y="31438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726720" y="31546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637800" y="31654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3"/>
                  </a:lnTo>
                  <a:lnTo>
                    <a:pt x="16" y="3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3552120" y="31881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0"/>
                  </a:move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515040" y="3198960"/>
              <a:ext cx="36720" cy="32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4560" y="3198960"/>
              <a:ext cx="60120" cy="32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365280" y="31989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322440" y="3198960"/>
              <a:ext cx="42840" cy="32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15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277080" y="318816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3190680" y="3176280"/>
              <a:ext cx="86400" cy="1152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102120" y="315468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013200" y="313200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2" y="6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04560" y="3132000"/>
              <a:ext cx="8280" cy="39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915640" y="3099240"/>
              <a:ext cx="88920" cy="32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846880" y="3073320"/>
              <a:ext cx="68760" cy="259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7"/>
                  </a:moveTo>
                  <a:lnTo>
                    <a:pt x="18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826720" y="3062520"/>
              <a:ext cx="19800" cy="108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740680" y="3017880"/>
              <a:ext cx="85680" cy="442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24" y="9"/>
                  </a:lnTo>
                  <a:lnTo>
                    <a:pt x="15" y="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695320" y="3006360"/>
              <a:ext cx="45360" cy="115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651760" y="2984400"/>
              <a:ext cx="43200" cy="216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6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63560" y="2936520"/>
              <a:ext cx="88200" cy="47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1" y="13"/>
                  </a:moveTo>
                  <a:lnTo>
                    <a:pt x="22" y="10"/>
                  </a:lnTo>
                  <a:lnTo>
                    <a:pt x="12" y="7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54920" y="293652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466000" y="2903040"/>
              <a:ext cx="88920" cy="334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5" y="6"/>
                  </a:lnTo>
                  <a:lnTo>
                    <a:pt x="19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413800" y="2881440"/>
              <a:ext cx="51840" cy="216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6"/>
                  </a:moveTo>
                  <a:lnTo>
                    <a:pt x="12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376720" y="2858760"/>
              <a:ext cx="36720" cy="22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291040" y="282528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4" y="9"/>
                  </a:lnTo>
                  <a:lnTo>
                    <a:pt x="15" y="6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236680" y="2814120"/>
              <a:ext cx="54360" cy="108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9" y="3"/>
                  </a:moveTo>
                  <a:lnTo>
                    <a:pt x="12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202120" y="280332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112840" y="276660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5" y="6"/>
                  </a:lnTo>
                  <a:lnTo>
                    <a:pt x="15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024640" y="275544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2" y="3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990080" y="274392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927080" y="273276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6" y="3"/>
                  </a:lnTo>
                  <a:lnTo>
                    <a:pt x="13" y="3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41400" y="27219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752480" y="272196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154200" y="156060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57000" y="156060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968440" y="156060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879520" y="15606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790240" y="15606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704560" y="156060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615640" y="15606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518080" y="156060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429160" y="15606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340600" y="1560600"/>
              <a:ext cx="8820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254200" y="154980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165640" y="15498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076720" y="15498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79160" y="154980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893480" y="15498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4804560" y="15498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715280" y="15390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627080" y="15390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529520" y="1539000"/>
              <a:ext cx="97200" cy="324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443840" y="1539000"/>
              <a:ext cx="85680" cy="324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354560" y="1539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265640" y="153900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176720" y="1528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088160" y="1528200"/>
              <a:ext cx="8820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993120" y="1528200"/>
              <a:ext cx="94680" cy="324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33" y="0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973320" y="1528200"/>
              <a:ext cx="19800" cy="32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904920" y="1516320"/>
              <a:ext cx="68040" cy="1152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3"/>
                  </a:moveTo>
                  <a:lnTo>
                    <a:pt x="24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816000" y="150552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726720" y="150552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637800" y="14943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552120" y="148356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454560" y="147204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8" y="3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408840" y="1457640"/>
              <a:ext cx="45360" cy="1404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6" y="4"/>
                  </a:moveTo>
                  <a:lnTo>
                    <a:pt x="16" y="4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65280" y="1446840"/>
              <a:ext cx="4320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277080" y="1434960"/>
              <a:ext cx="8820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8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190680" y="1413360"/>
              <a:ext cx="8640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119040" y="1390680"/>
              <a:ext cx="71280" cy="223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21" y="6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102120" y="1390680"/>
              <a:ext cx="1656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004560" y="1357920"/>
              <a:ext cx="97200" cy="32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31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915640" y="133524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8" y="6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915640" y="1335240"/>
              <a:ext cx="3240" cy="39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826720" y="129816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49320" y="1265760"/>
              <a:ext cx="77040" cy="32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7" y="9"/>
                  </a:moveTo>
                  <a:lnTo>
                    <a:pt x="24" y="6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740680" y="12657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651760" y="1221120"/>
              <a:ext cx="88920" cy="442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12"/>
                  </a:moveTo>
                  <a:lnTo>
                    <a:pt x="28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597760" y="1198440"/>
              <a:ext cx="53640" cy="223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6" y="6"/>
                  </a:lnTo>
                  <a:lnTo>
                    <a:pt x="13" y="6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563560" y="118764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466000" y="1150920"/>
              <a:ext cx="97200" cy="3672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10"/>
                  </a:moveTo>
                  <a:lnTo>
                    <a:pt x="28" y="10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440080" y="1139760"/>
              <a:ext cx="25920" cy="10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376720" y="1106280"/>
              <a:ext cx="63000" cy="334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2" y="9"/>
                  </a:moveTo>
                  <a:lnTo>
                    <a:pt x="22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291040" y="1072800"/>
              <a:ext cx="85680" cy="3348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30" y="9"/>
                  </a:moveTo>
                  <a:lnTo>
                    <a:pt x="27" y="9"/>
                  </a:lnTo>
                  <a:lnTo>
                    <a:pt x="24" y="9"/>
                  </a:lnTo>
                  <a:lnTo>
                    <a:pt x="21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270880" y="1072800"/>
              <a:ext cx="19800" cy="39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202120" y="1050840"/>
              <a:ext cx="6876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6"/>
                  </a:moveTo>
                  <a:lnTo>
                    <a:pt x="24" y="6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112840" y="1014120"/>
              <a:ext cx="88920" cy="367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28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070000" y="1002240"/>
              <a:ext cx="42840" cy="11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024640" y="991440"/>
              <a:ext cx="4536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27080" y="98064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31" y="3"/>
                  </a:lnTo>
                  <a:lnTo>
                    <a:pt x="28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841400" y="96984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7" y="3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52480" y="969840"/>
              <a:ext cx="88920" cy="324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8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154200" y="335772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1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57000" y="335772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968440" y="334656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79520" y="333576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5" y="3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798880" y="3324960"/>
              <a:ext cx="80280" cy="1080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3"/>
                  </a:moveTo>
                  <a:lnTo>
                    <a:pt x="19" y="3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790240" y="3324960"/>
              <a:ext cx="8280" cy="32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704560" y="3313800"/>
              <a:ext cx="8568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4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615640" y="32914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518080" y="3280320"/>
              <a:ext cx="97200" cy="1080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446440" y="3257640"/>
              <a:ext cx="71280" cy="223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5" y="6"/>
                  </a:moveTo>
                  <a:lnTo>
                    <a:pt x="19" y="3"/>
                  </a:lnTo>
                  <a:lnTo>
                    <a:pt x="13" y="3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429160" y="3257640"/>
              <a:ext cx="17280" cy="39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340600" y="3231720"/>
              <a:ext cx="88200" cy="259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1" y="7"/>
                  </a:moveTo>
                  <a:lnTo>
                    <a:pt x="25" y="7"/>
                  </a:lnTo>
                  <a:lnTo>
                    <a:pt x="19" y="4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254200" y="3220920"/>
              <a:ext cx="86400" cy="10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1" y="3"/>
                  </a:lnTo>
                  <a:lnTo>
                    <a:pt x="15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165640" y="3198960"/>
              <a:ext cx="88200" cy="216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6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111280" y="3198960"/>
              <a:ext cx="54360" cy="32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19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076720" y="3188160"/>
              <a:ext cx="34200" cy="10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979160" y="3176280"/>
              <a:ext cx="97200" cy="11520"/>
            </a:xfrm>
            <a:custGeom>
              <a:avLst/>
              <a:gdLst/>
              <a:ahLst/>
              <a:rect l="l" t="t" r="r" b="b"/>
              <a:pathLst>
                <a:path w="34" h="3">
                  <a:moveTo>
                    <a:pt x="34" y="3"/>
                  </a:moveTo>
                  <a:lnTo>
                    <a:pt x="25" y="3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893480" y="3154680"/>
              <a:ext cx="85680" cy="2160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6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804560" y="31438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4" y="3"/>
                  </a:lnTo>
                  <a:lnTo>
                    <a:pt x="15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15280" y="3132000"/>
              <a:ext cx="88920" cy="1152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1" y="3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690080" y="3132000"/>
              <a:ext cx="25200" cy="39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627080" y="3121200"/>
              <a:ext cx="63000" cy="108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9" y="3"/>
                  </a:lnTo>
                  <a:lnTo>
                    <a:pt x="12" y="3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529520" y="3121200"/>
              <a:ext cx="9720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25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443840" y="3121200"/>
              <a:ext cx="85680" cy="3960"/>
            </a:xfrm>
            <a:custGeom>
              <a:avLst/>
              <a:gdLst/>
              <a:ahLst/>
              <a:rect l="l" t="t" r="r" b="b"/>
              <a:pathLst>
                <a:path w="30" h="0">
                  <a:moveTo>
                    <a:pt x="30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354560" y="311004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3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265640" y="3121200"/>
              <a:ext cx="88920" cy="3960"/>
            </a:xfrm>
            <a:custGeom>
              <a:avLst/>
              <a:gdLst/>
              <a:ahLst/>
              <a:rect l="l" t="t" r="r" b="b"/>
              <a:pathLst>
                <a:path w="31" h="0">
                  <a:moveTo>
                    <a:pt x="31" y="0"/>
                  </a:moveTo>
                  <a:lnTo>
                    <a:pt x="25" y="0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176720" y="312120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125240" y="3132000"/>
              <a:ext cx="51120" cy="396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088160" y="3132000"/>
              <a:ext cx="36720" cy="11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993120" y="3143880"/>
              <a:ext cx="94680" cy="10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33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904920" y="3154680"/>
              <a:ext cx="8820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4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816000" y="3165480"/>
              <a:ext cx="88920" cy="10800"/>
            </a:xfrm>
            <a:custGeom>
              <a:avLst/>
              <a:gdLst/>
              <a:ahLst/>
              <a:rect l="l" t="t" r="r" b="b"/>
              <a:pathLst>
                <a:path w="31" h="3">
                  <a:moveTo>
                    <a:pt x="31" y="0"/>
                  </a:moveTo>
                  <a:lnTo>
                    <a:pt x="25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726720" y="3176280"/>
              <a:ext cx="88920" cy="2232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31" y="0"/>
                  </a:moveTo>
                  <a:lnTo>
                    <a:pt x="22" y="3"/>
                  </a:lnTo>
                  <a:lnTo>
                    <a:pt x="13" y="3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4" name=""/>
          <p:cNvSpPr/>
          <p:nvPr/>
        </p:nvSpPr>
        <p:spPr>
          <a:xfrm>
            <a:off x="3638520" y="3200400"/>
            <a:ext cx="8748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3551400" y="3211560"/>
            <a:ext cx="87120" cy="126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454560" y="3224160"/>
            <a:ext cx="96840" cy="180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365640" y="322416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3276720" y="32115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191040" y="3200400"/>
            <a:ext cx="856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162240" y="3200400"/>
            <a:ext cx="28800" cy="4680"/>
          </a:xfrm>
          <a:custGeom>
            <a:avLst/>
            <a:gdLst/>
            <a:ahLst/>
            <a:rect l="l" t="t" r="r" b="b"/>
            <a:pathLst>
              <a:path w="10" h="0">
                <a:moveTo>
                  <a:pt x="10" y="0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102120" y="3178080"/>
            <a:ext cx="60120" cy="22320"/>
          </a:xfrm>
          <a:custGeom>
            <a:avLst/>
            <a:gdLst/>
            <a:ahLst/>
            <a:rect l="l" t="t" r="r" b="b"/>
            <a:pathLst>
              <a:path w="21" h="6">
                <a:moveTo>
                  <a:pt x="21" y="6"/>
                </a:moveTo>
                <a:lnTo>
                  <a:pt x="18" y="6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3003480" y="3157560"/>
            <a:ext cx="98640" cy="205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6"/>
                </a:moveTo>
                <a:lnTo>
                  <a:pt x="25" y="6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949480" y="3135240"/>
            <a:ext cx="54000" cy="223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6"/>
                </a:moveTo>
                <a:lnTo>
                  <a:pt x="16" y="3"/>
                </a:lnTo>
                <a:lnTo>
                  <a:pt x="10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2914560" y="3124080"/>
            <a:ext cx="34920" cy="11160"/>
          </a:xfrm>
          <a:custGeom>
            <a:avLst/>
            <a:gdLst/>
            <a:ahLst/>
            <a:rect l="l" t="t" r="r" b="b"/>
            <a:pathLst>
              <a:path w="12" h="3">
                <a:moveTo>
                  <a:pt x="12" y="3"/>
                </a:moveTo>
                <a:lnTo>
                  <a:pt x="9" y="3"/>
                </a:lnTo>
                <a:lnTo>
                  <a:pt x="6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2827440" y="3086280"/>
            <a:ext cx="87120" cy="37800"/>
          </a:xfrm>
          <a:custGeom>
            <a:avLst/>
            <a:gdLst/>
            <a:ahLst/>
            <a:rect l="l" t="t" r="r" b="b"/>
            <a:pathLst>
              <a:path w="31" h="10">
                <a:moveTo>
                  <a:pt x="31" y="10"/>
                </a:moveTo>
                <a:lnTo>
                  <a:pt x="25" y="7"/>
                </a:lnTo>
                <a:lnTo>
                  <a:pt x="16" y="4"/>
                </a:lnTo>
                <a:lnTo>
                  <a:pt x="10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2792520" y="3076560"/>
            <a:ext cx="34920" cy="9720"/>
          </a:xfrm>
          <a:custGeom>
            <a:avLst/>
            <a:gdLst/>
            <a:ahLst/>
            <a:rect l="l" t="t" r="r" b="b"/>
            <a:pathLst>
              <a:path w="12" h="3">
                <a:moveTo>
                  <a:pt x="12" y="3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2651040" y="3008160"/>
            <a:ext cx="88920" cy="349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1" y="6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2651040" y="3008160"/>
            <a:ext cx="3240" cy="3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562120" y="2963880"/>
            <a:ext cx="88920" cy="44280"/>
          </a:xfrm>
          <a:custGeom>
            <a:avLst/>
            <a:gdLst/>
            <a:ahLst/>
            <a:rect l="l" t="t" r="r" b="b"/>
            <a:pathLst>
              <a:path w="31" h="12">
                <a:moveTo>
                  <a:pt x="31" y="12"/>
                </a:moveTo>
                <a:lnTo>
                  <a:pt x="25" y="9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2511360" y="2936880"/>
            <a:ext cx="50760" cy="2700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7"/>
                </a:moveTo>
                <a:lnTo>
                  <a:pt x="12" y="4"/>
                </a:lnTo>
                <a:lnTo>
                  <a:pt x="9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465280" y="2916360"/>
            <a:ext cx="46080" cy="205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6"/>
                </a:moveTo>
                <a:lnTo>
                  <a:pt x="12" y="6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2376360" y="288288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6"/>
                </a:lnTo>
                <a:lnTo>
                  <a:pt x="16" y="6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2359080" y="2882880"/>
            <a:ext cx="17280" cy="468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2290680" y="2849400"/>
            <a:ext cx="68400" cy="33480"/>
          </a:xfrm>
          <a:custGeom>
            <a:avLst/>
            <a:gdLst/>
            <a:ahLst/>
            <a:rect l="l" t="t" r="r" b="b"/>
            <a:pathLst>
              <a:path w="24" h="9">
                <a:moveTo>
                  <a:pt x="24" y="9"/>
                </a:moveTo>
                <a:lnTo>
                  <a:pt x="18" y="6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2201760" y="281628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1" y="6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2176560" y="2816280"/>
            <a:ext cx="25200" cy="468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2112840" y="2789280"/>
            <a:ext cx="63720" cy="27000"/>
          </a:xfrm>
          <a:custGeom>
            <a:avLst/>
            <a:gdLst/>
            <a:ahLst/>
            <a:rect l="l" t="t" r="r" b="b"/>
            <a:pathLst>
              <a:path w="22" h="7">
                <a:moveTo>
                  <a:pt x="22" y="7"/>
                </a:moveTo>
                <a:lnTo>
                  <a:pt x="15" y="4"/>
                </a:lnTo>
                <a:lnTo>
                  <a:pt x="12" y="4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2023920" y="2768760"/>
            <a:ext cx="88920" cy="205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6"/>
                </a:lnTo>
                <a:lnTo>
                  <a:pt x="16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1927080" y="2755800"/>
            <a:ext cx="96840" cy="129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6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1839960" y="2746440"/>
            <a:ext cx="87120" cy="93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1751040" y="274644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6154560" y="1336680"/>
            <a:ext cx="86040" cy="32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6056280" y="1336680"/>
            <a:ext cx="98280" cy="32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5967360" y="133668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5878440" y="133668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791320" y="1336680"/>
            <a:ext cx="871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703840" y="1336680"/>
            <a:ext cx="87480" cy="32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5614920" y="133668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5518080" y="1336680"/>
            <a:ext cx="96840" cy="32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5475240" y="1336680"/>
            <a:ext cx="42840" cy="3240"/>
          </a:xfrm>
          <a:custGeom>
            <a:avLst/>
            <a:gdLst/>
            <a:ahLst/>
            <a:rect l="l" t="t" r="r" b="b"/>
            <a:pathLst>
              <a:path w="15" h="0">
                <a:moveTo>
                  <a:pt x="15" y="0"/>
                </a:moveTo>
                <a:lnTo>
                  <a:pt x="12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5429160" y="1325520"/>
            <a:ext cx="46080" cy="11160"/>
          </a:xfrm>
          <a:custGeom>
            <a:avLst/>
            <a:gdLst/>
            <a:ahLst/>
            <a:rect l="l" t="t" r="r" b="b"/>
            <a:pathLst>
              <a:path w="16" h="3">
                <a:moveTo>
                  <a:pt x="16" y="3"/>
                </a:moveTo>
                <a:lnTo>
                  <a:pt x="13" y="3"/>
                </a:lnTo>
                <a:lnTo>
                  <a:pt x="9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5340240" y="132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5254560" y="1325520"/>
            <a:ext cx="8568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5165640" y="132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5076720" y="1325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979880" y="1311120"/>
            <a:ext cx="96840" cy="14400"/>
          </a:xfrm>
          <a:custGeom>
            <a:avLst/>
            <a:gdLst/>
            <a:ahLst/>
            <a:rect l="l" t="t" r="r" b="b"/>
            <a:pathLst>
              <a:path w="34" h="4">
                <a:moveTo>
                  <a:pt x="34" y="4"/>
                </a:moveTo>
                <a:lnTo>
                  <a:pt x="25" y="4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2760" y="1311120"/>
            <a:ext cx="87120" cy="50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803840" y="13111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4714920" y="13111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626000" y="13111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4529160" y="1298520"/>
            <a:ext cx="96840" cy="1260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0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443480" y="1298520"/>
            <a:ext cx="8568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354560" y="1298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4265640" y="1298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4176720" y="12985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4087800" y="128916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0"/>
                </a:lnTo>
                <a:lnTo>
                  <a:pt x="16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992400" y="1289160"/>
            <a:ext cx="95400" cy="3240"/>
          </a:xfrm>
          <a:custGeom>
            <a:avLst/>
            <a:gdLst/>
            <a:ahLst/>
            <a:rect l="l" t="t" r="r" b="b"/>
            <a:pathLst>
              <a:path w="33" h="0">
                <a:moveTo>
                  <a:pt x="33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903840" y="1278000"/>
            <a:ext cx="8856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3814920" y="127800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3726000" y="126540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3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3638520" y="1255680"/>
            <a:ext cx="61920" cy="9720"/>
          </a:xfrm>
          <a:custGeom>
            <a:avLst/>
            <a:gdLst/>
            <a:ahLst/>
            <a:rect l="l" t="t" r="r" b="b"/>
            <a:pathLst>
              <a:path w="22" h="3">
                <a:moveTo>
                  <a:pt x="22" y="3"/>
                </a:moveTo>
                <a:lnTo>
                  <a:pt x="19" y="3"/>
                </a:lnTo>
                <a:lnTo>
                  <a:pt x="13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3551400" y="1244520"/>
            <a:ext cx="8712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3454560" y="1231920"/>
            <a:ext cx="96840" cy="1260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3365640" y="122220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284640" y="1198440"/>
            <a:ext cx="81000" cy="2376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19" y="3"/>
                </a:lnTo>
                <a:lnTo>
                  <a:pt x="13" y="3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191040" y="1177920"/>
            <a:ext cx="85680" cy="20520"/>
          </a:xfrm>
          <a:custGeom>
            <a:avLst/>
            <a:gdLst/>
            <a:ahLst/>
            <a:rect l="l" t="t" r="r" b="b"/>
            <a:pathLst>
              <a:path w="30" h="6">
                <a:moveTo>
                  <a:pt x="30" y="6"/>
                </a:moveTo>
                <a:lnTo>
                  <a:pt x="24" y="6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102120" y="1150920"/>
            <a:ext cx="88920" cy="27000"/>
          </a:xfrm>
          <a:custGeom>
            <a:avLst/>
            <a:gdLst/>
            <a:ahLst/>
            <a:rect l="l" t="t" r="r" b="b"/>
            <a:pathLst>
              <a:path w="31" h="7">
                <a:moveTo>
                  <a:pt x="31" y="7"/>
                </a:moveTo>
                <a:lnTo>
                  <a:pt x="21" y="7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048120" y="1141560"/>
            <a:ext cx="54000" cy="9360"/>
          </a:xfrm>
          <a:custGeom>
            <a:avLst/>
            <a:gdLst/>
            <a:ahLst/>
            <a:rect l="l" t="t" r="r" b="b"/>
            <a:pathLst>
              <a:path w="19" h="3">
                <a:moveTo>
                  <a:pt x="19" y="3"/>
                </a:moveTo>
                <a:lnTo>
                  <a:pt x="13" y="3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003480" y="1117440"/>
            <a:ext cx="44640" cy="24120"/>
          </a:xfrm>
          <a:custGeom>
            <a:avLst/>
            <a:gdLst/>
            <a:ahLst/>
            <a:rect l="l" t="t" r="r" b="b"/>
            <a:pathLst>
              <a:path w="15" h="6">
                <a:moveTo>
                  <a:pt x="15" y="6"/>
                </a:moveTo>
                <a:lnTo>
                  <a:pt x="12" y="3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2914560" y="1095480"/>
            <a:ext cx="88920" cy="2196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5" y="6"/>
                </a:lnTo>
                <a:lnTo>
                  <a:pt x="16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863800" y="1074600"/>
            <a:ext cx="50760" cy="2088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6"/>
                </a:moveTo>
                <a:lnTo>
                  <a:pt x="12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827440" y="1062000"/>
            <a:ext cx="36360" cy="1260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3"/>
                </a:moveTo>
                <a:lnTo>
                  <a:pt x="10" y="3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739960" y="1014480"/>
            <a:ext cx="87480" cy="47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30" y="13"/>
                </a:moveTo>
                <a:lnTo>
                  <a:pt x="24" y="10"/>
                </a:lnTo>
                <a:lnTo>
                  <a:pt x="15" y="7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651040" y="981000"/>
            <a:ext cx="52560" cy="2232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6"/>
                </a:moveTo>
                <a:lnTo>
                  <a:pt x="15" y="6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562120" y="94788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2" y="6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554200" y="947880"/>
            <a:ext cx="792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65280" y="903240"/>
            <a:ext cx="88920" cy="44640"/>
          </a:xfrm>
          <a:custGeom>
            <a:avLst/>
            <a:gdLst/>
            <a:ahLst/>
            <a:rect l="l" t="t" r="r" b="b"/>
            <a:pathLst>
              <a:path w="31" h="12">
                <a:moveTo>
                  <a:pt x="31" y="12"/>
                </a:moveTo>
                <a:lnTo>
                  <a:pt x="25" y="9"/>
                </a:lnTo>
                <a:lnTo>
                  <a:pt x="19" y="6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414520" y="880920"/>
            <a:ext cx="50760" cy="2232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6"/>
                </a:moveTo>
                <a:lnTo>
                  <a:pt x="12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376360" y="866880"/>
            <a:ext cx="38160" cy="1404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4"/>
                </a:moveTo>
                <a:lnTo>
                  <a:pt x="10" y="4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290680" y="833400"/>
            <a:ext cx="85680" cy="33480"/>
          </a:xfrm>
          <a:custGeom>
            <a:avLst/>
            <a:gdLst/>
            <a:ahLst/>
            <a:rect l="l" t="t" r="r" b="b"/>
            <a:pathLst>
              <a:path w="30" h="9">
                <a:moveTo>
                  <a:pt x="30" y="9"/>
                </a:moveTo>
                <a:lnTo>
                  <a:pt x="24" y="6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244600" y="812880"/>
            <a:ext cx="46080" cy="20520"/>
          </a:xfrm>
          <a:custGeom>
            <a:avLst/>
            <a:gdLst/>
            <a:ahLst/>
            <a:rect l="l" t="t" r="r" b="b"/>
            <a:pathLst>
              <a:path w="16" h="6">
                <a:moveTo>
                  <a:pt x="16" y="6"/>
                </a:moveTo>
                <a:lnTo>
                  <a:pt x="9" y="3"/>
                </a:lnTo>
                <a:lnTo>
                  <a:pt x="6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01760" y="800280"/>
            <a:ext cx="42840" cy="1260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3"/>
                </a:moveTo>
                <a:lnTo>
                  <a:pt x="12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112840" y="76680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6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031840" y="755640"/>
            <a:ext cx="81000" cy="11160"/>
          </a:xfrm>
          <a:custGeom>
            <a:avLst/>
            <a:gdLst/>
            <a:ahLst/>
            <a:rect l="l" t="t" r="r" b="b"/>
            <a:pathLst>
              <a:path w="28" h="3">
                <a:moveTo>
                  <a:pt x="28" y="3"/>
                </a:moveTo>
                <a:lnTo>
                  <a:pt x="19" y="3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2023920" y="746280"/>
            <a:ext cx="7920" cy="93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1927080" y="733320"/>
            <a:ext cx="96840" cy="129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9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839960" y="719280"/>
            <a:ext cx="87120" cy="14040"/>
          </a:xfrm>
          <a:custGeom>
            <a:avLst/>
            <a:gdLst/>
            <a:ahLst/>
            <a:rect l="l" t="t" r="r" b="b"/>
            <a:pathLst>
              <a:path w="30" h="4">
                <a:moveTo>
                  <a:pt x="30" y="4"/>
                </a:moveTo>
                <a:lnTo>
                  <a:pt x="24" y="4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1751040" y="719280"/>
            <a:ext cx="88920" cy="28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6154560" y="3381480"/>
            <a:ext cx="8604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056280" y="3371760"/>
            <a:ext cx="98280" cy="972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4" y="3"/>
                </a:lnTo>
                <a:lnTo>
                  <a:pt x="18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5967360" y="337176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5878440" y="33591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6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5791320" y="3348000"/>
            <a:ext cx="871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703840" y="3325680"/>
            <a:ext cx="87480" cy="22320"/>
          </a:xfrm>
          <a:custGeom>
            <a:avLst/>
            <a:gdLst/>
            <a:ahLst/>
            <a:rect l="l" t="t" r="r" b="b"/>
            <a:pathLst>
              <a:path w="30" h="6">
                <a:moveTo>
                  <a:pt x="30" y="6"/>
                </a:moveTo>
                <a:lnTo>
                  <a:pt x="21" y="3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675400" y="3325680"/>
            <a:ext cx="28440" cy="5040"/>
          </a:xfrm>
          <a:custGeom>
            <a:avLst/>
            <a:gdLst/>
            <a:ahLst/>
            <a:rect l="l" t="t" r="r" b="b"/>
            <a:pathLst>
              <a:path w="10" h="0">
                <a:moveTo>
                  <a:pt x="10" y="0"/>
                </a:move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614920" y="3316320"/>
            <a:ext cx="60480" cy="9360"/>
          </a:xfrm>
          <a:custGeom>
            <a:avLst/>
            <a:gdLst/>
            <a:ahLst/>
            <a:rect l="l" t="t" r="r" b="b"/>
            <a:pathLst>
              <a:path w="21" h="3">
                <a:moveTo>
                  <a:pt x="21" y="3"/>
                </a:moveTo>
                <a:lnTo>
                  <a:pt x="18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518080" y="3292560"/>
            <a:ext cx="96840" cy="2376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6"/>
                </a:moveTo>
                <a:lnTo>
                  <a:pt x="25" y="6"/>
                </a:lnTo>
                <a:lnTo>
                  <a:pt x="18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5429160" y="328284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5340240" y="327168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6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5332320" y="3259080"/>
            <a:ext cx="7920" cy="1260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5254560" y="3249720"/>
            <a:ext cx="77760" cy="9360"/>
          </a:xfrm>
          <a:custGeom>
            <a:avLst/>
            <a:gdLst/>
            <a:ahLst/>
            <a:rect l="l" t="t" r="r" b="b"/>
            <a:pathLst>
              <a:path w="27" h="3">
                <a:moveTo>
                  <a:pt x="27" y="3"/>
                </a:moveTo>
                <a:lnTo>
                  <a:pt x="21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165640" y="3224160"/>
            <a:ext cx="88920" cy="25560"/>
          </a:xfrm>
          <a:custGeom>
            <a:avLst/>
            <a:gdLst/>
            <a:ahLst/>
            <a:rect l="l" t="t" r="r" b="b"/>
            <a:pathLst>
              <a:path w="31" h="7">
                <a:moveTo>
                  <a:pt x="31" y="7"/>
                </a:moveTo>
                <a:lnTo>
                  <a:pt x="21" y="7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076720" y="32115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6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4979880" y="3200400"/>
            <a:ext cx="96840" cy="111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4970520" y="3200400"/>
            <a:ext cx="936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4892760" y="3191040"/>
            <a:ext cx="77760" cy="9360"/>
          </a:xfrm>
          <a:custGeom>
            <a:avLst/>
            <a:gdLst/>
            <a:ahLst/>
            <a:rect l="l" t="t" r="r" b="b"/>
            <a:pathLst>
              <a:path w="27" h="3">
                <a:moveTo>
                  <a:pt x="27" y="3"/>
                </a:moveTo>
                <a:lnTo>
                  <a:pt x="24" y="3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4803840" y="3168720"/>
            <a:ext cx="88920" cy="223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4" y="3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4714920" y="315756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4626000" y="315756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4529160" y="3144960"/>
            <a:ext cx="96840" cy="1260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4443480" y="3144960"/>
            <a:ext cx="8568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4354560" y="314496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4265640" y="314496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4176720" y="31449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4087800" y="315756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7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3992400" y="3168720"/>
            <a:ext cx="95400" cy="9360"/>
          </a:xfrm>
          <a:custGeom>
            <a:avLst/>
            <a:gdLst/>
            <a:ahLst/>
            <a:rect l="l" t="t" r="r" b="b"/>
            <a:pathLst>
              <a:path w="33" h="3">
                <a:moveTo>
                  <a:pt x="33" y="0"/>
                </a:moveTo>
                <a:lnTo>
                  <a:pt x="24" y="0"/>
                </a:lnTo>
                <a:lnTo>
                  <a:pt x="15" y="0"/>
                </a:lnTo>
                <a:lnTo>
                  <a:pt x="9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3903840" y="3178080"/>
            <a:ext cx="8856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4" y="0"/>
                </a:lnTo>
                <a:lnTo>
                  <a:pt x="15" y="3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3878280" y="3191040"/>
            <a:ext cx="25560" cy="936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3814920" y="3200400"/>
            <a:ext cx="63360" cy="11160"/>
          </a:xfrm>
          <a:custGeom>
            <a:avLst/>
            <a:gdLst/>
            <a:ahLst/>
            <a:rect l="l" t="t" r="r" b="b"/>
            <a:pathLst>
              <a:path w="22" h="3">
                <a:moveTo>
                  <a:pt x="22" y="0"/>
                </a:moveTo>
                <a:lnTo>
                  <a:pt x="15" y="0"/>
                </a:lnTo>
                <a:lnTo>
                  <a:pt x="12" y="0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726000" y="32115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638520" y="3224160"/>
            <a:ext cx="8748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7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3551400" y="3233880"/>
            <a:ext cx="87120" cy="15840"/>
          </a:xfrm>
          <a:custGeom>
            <a:avLst/>
            <a:gdLst/>
            <a:ahLst/>
            <a:rect l="l" t="t" r="r" b="b"/>
            <a:pathLst>
              <a:path w="30" h="4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4"/>
                </a:lnTo>
                <a:lnTo>
                  <a:pt x="0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454560" y="3249720"/>
            <a:ext cx="96840" cy="32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3365640" y="324972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3276720" y="3233880"/>
            <a:ext cx="88920" cy="1584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4"/>
                </a:moveTo>
                <a:lnTo>
                  <a:pt x="25" y="4"/>
                </a:lnTo>
                <a:lnTo>
                  <a:pt x="16" y="4"/>
                </a:lnTo>
                <a:lnTo>
                  <a:pt x="10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191040" y="3224160"/>
            <a:ext cx="85680" cy="97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3102120" y="3200400"/>
            <a:ext cx="88920" cy="2376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1" y="3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4480" y="3200400"/>
            <a:ext cx="17640" cy="468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3003480" y="3178080"/>
            <a:ext cx="81000" cy="2232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21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914560" y="314496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6"/>
                </a:lnTo>
                <a:lnTo>
                  <a:pt x="16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2898720" y="3135240"/>
            <a:ext cx="15840" cy="972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3"/>
                </a:moveTo>
                <a:lnTo>
                  <a:pt x="6" y="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2827440" y="3102120"/>
            <a:ext cx="71280" cy="33120"/>
          </a:xfrm>
          <a:custGeom>
            <a:avLst/>
            <a:gdLst/>
            <a:ahLst/>
            <a:rect l="l" t="t" r="r" b="b"/>
            <a:pathLst>
              <a:path w="25" h="9">
                <a:moveTo>
                  <a:pt x="25" y="9"/>
                </a:moveTo>
                <a:lnTo>
                  <a:pt x="19" y="9"/>
                </a:lnTo>
                <a:lnTo>
                  <a:pt x="16" y="6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2749680" y="3076560"/>
            <a:ext cx="77760" cy="25560"/>
          </a:xfrm>
          <a:custGeom>
            <a:avLst/>
            <a:gdLst/>
            <a:ahLst/>
            <a:rect l="l" t="t" r="r" b="b"/>
            <a:pathLst>
              <a:path w="27" h="7">
                <a:moveTo>
                  <a:pt x="27" y="7"/>
                </a:moveTo>
                <a:lnTo>
                  <a:pt x="21" y="7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651040" y="3017880"/>
            <a:ext cx="88920" cy="46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31" y="12"/>
                </a:moveTo>
                <a:lnTo>
                  <a:pt x="24" y="9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617920" y="3008160"/>
            <a:ext cx="33120" cy="9720"/>
          </a:xfrm>
          <a:custGeom>
            <a:avLst/>
            <a:gdLst/>
            <a:ahLst/>
            <a:rect l="l" t="t" r="r" b="b"/>
            <a:pathLst>
              <a:path w="12" h="3">
                <a:moveTo>
                  <a:pt x="12" y="3"/>
                </a:moveTo>
                <a:lnTo>
                  <a:pt x="6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2562120" y="2987640"/>
            <a:ext cx="55800" cy="205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6"/>
                </a:moveTo>
                <a:lnTo>
                  <a:pt x="12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2465280" y="2936880"/>
            <a:ext cx="96840" cy="50760"/>
          </a:xfrm>
          <a:custGeom>
            <a:avLst/>
            <a:gdLst/>
            <a:ahLst/>
            <a:rect l="l" t="t" r="r" b="b"/>
            <a:pathLst>
              <a:path w="34" h="13">
                <a:moveTo>
                  <a:pt x="34" y="13"/>
                </a:moveTo>
                <a:lnTo>
                  <a:pt x="25" y="10"/>
                </a:lnTo>
                <a:lnTo>
                  <a:pt x="16" y="7"/>
                </a:lnTo>
                <a:lnTo>
                  <a:pt x="9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2465280" y="2936880"/>
            <a:ext cx="3240" cy="4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2376360" y="290340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6"/>
                </a:lnTo>
                <a:lnTo>
                  <a:pt x="19" y="6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2308320" y="2882880"/>
            <a:ext cx="68040" cy="20520"/>
          </a:xfrm>
          <a:custGeom>
            <a:avLst/>
            <a:gdLst/>
            <a:ahLst/>
            <a:rect l="l" t="t" r="r" b="b"/>
            <a:pathLst>
              <a:path w="24" h="6">
                <a:moveTo>
                  <a:pt x="24" y="6"/>
                </a:moveTo>
                <a:lnTo>
                  <a:pt x="18" y="3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2290680" y="2870280"/>
            <a:ext cx="17640" cy="1260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3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2201760" y="283680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4" y="6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2112840" y="2816280"/>
            <a:ext cx="88920" cy="205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2104920" y="2816280"/>
            <a:ext cx="792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2023920" y="2789280"/>
            <a:ext cx="81000" cy="27000"/>
          </a:xfrm>
          <a:custGeom>
            <a:avLst/>
            <a:gdLst/>
            <a:ahLst/>
            <a:rect l="l" t="t" r="r" b="b"/>
            <a:pathLst>
              <a:path w="28" h="7">
                <a:moveTo>
                  <a:pt x="28" y="7"/>
                </a:moveTo>
                <a:lnTo>
                  <a:pt x="22" y="4"/>
                </a:lnTo>
                <a:lnTo>
                  <a:pt x="16" y="4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1927080" y="2779560"/>
            <a:ext cx="96840" cy="972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1839960" y="2768760"/>
            <a:ext cx="87120" cy="108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1751040" y="276876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6154560" y="1041480"/>
            <a:ext cx="8604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6056280" y="1041480"/>
            <a:ext cx="98280" cy="14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5967360" y="104148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5878440" y="104148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5791320" y="1041480"/>
            <a:ext cx="871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5703840" y="1041480"/>
            <a:ext cx="8748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5614920" y="102888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5518080" y="1028880"/>
            <a:ext cx="96840" cy="468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429160" y="102888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5340240" y="102888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5254560" y="1028880"/>
            <a:ext cx="8568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5165640" y="1014480"/>
            <a:ext cx="88920" cy="1440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4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5076720" y="101448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4979880" y="1014480"/>
            <a:ext cx="96840" cy="32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4892760" y="1003320"/>
            <a:ext cx="8712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4846680" y="1003320"/>
            <a:ext cx="46080" cy="4680"/>
          </a:xfrm>
          <a:custGeom>
            <a:avLst/>
            <a:gdLst/>
            <a:ahLst/>
            <a:rect l="l" t="t" r="r" b="b"/>
            <a:pathLst>
              <a:path w="16" h="0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4803840" y="1003320"/>
            <a:ext cx="42840" cy="4680"/>
          </a:xfrm>
          <a:custGeom>
            <a:avLst/>
            <a:gdLst/>
            <a:ahLst/>
            <a:rect l="l" t="t" r="r" b="b"/>
            <a:pathLst>
              <a:path w="15" h="0">
                <a:moveTo>
                  <a:pt x="15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4714920" y="10033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4626000" y="10033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4529160" y="993600"/>
            <a:ext cx="96840" cy="972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9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4443480" y="993600"/>
            <a:ext cx="85680" cy="180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4354560" y="99360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4265640" y="99360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4176720" y="99360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4087800" y="98100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6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992400" y="981000"/>
            <a:ext cx="95400" cy="4680"/>
          </a:xfrm>
          <a:custGeom>
            <a:avLst/>
            <a:gdLst/>
            <a:ahLst/>
            <a:rect l="l" t="t" r="r" b="b"/>
            <a:pathLst>
              <a:path w="33" h="0">
                <a:moveTo>
                  <a:pt x="33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3903840" y="981000"/>
            <a:ext cx="8856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814920" y="96984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726000" y="96048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6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3638520" y="960480"/>
            <a:ext cx="8748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3551400" y="947880"/>
            <a:ext cx="87120" cy="126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3551400" y="947880"/>
            <a:ext cx="2880" cy="4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3454560" y="927000"/>
            <a:ext cx="96840" cy="2088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6"/>
                </a:moveTo>
                <a:lnTo>
                  <a:pt x="24" y="3"/>
                </a:lnTo>
                <a:lnTo>
                  <a:pt x="18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3365640" y="91440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3276720" y="893880"/>
            <a:ext cx="88920" cy="205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3"/>
                </a:lnTo>
                <a:lnTo>
                  <a:pt x="16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3216240" y="880920"/>
            <a:ext cx="60480" cy="12960"/>
          </a:xfrm>
          <a:custGeom>
            <a:avLst/>
            <a:gdLst/>
            <a:ahLst/>
            <a:rect l="l" t="t" r="r" b="b"/>
            <a:pathLst>
              <a:path w="21" h="3">
                <a:moveTo>
                  <a:pt x="21" y="3"/>
                </a:moveTo>
                <a:lnTo>
                  <a:pt x="15" y="3"/>
                </a:ln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3191040" y="866880"/>
            <a:ext cx="25200" cy="1404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4"/>
                </a:moveTo>
                <a:lnTo>
                  <a:pt x="6" y="4"/>
                </a:lnTo>
                <a:lnTo>
                  <a:pt x="6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3102120" y="846000"/>
            <a:ext cx="88920" cy="2088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4" y="6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3003480" y="812880"/>
            <a:ext cx="98640" cy="33120"/>
          </a:xfrm>
          <a:custGeom>
            <a:avLst/>
            <a:gdLst/>
            <a:ahLst/>
            <a:rect l="l" t="t" r="r" b="b"/>
            <a:pathLst>
              <a:path w="34" h="9">
                <a:moveTo>
                  <a:pt x="34" y="9"/>
                </a:moveTo>
                <a:lnTo>
                  <a:pt x="25" y="6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003480" y="812880"/>
            <a:ext cx="3240" cy="14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2914560" y="77940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9"/>
                </a:lnTo>
                <a:lnTo>
                  <a:pt x="19" y="6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2835360" y="755640"/>
            <a:ext cx="79200" cy="2376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22" y="6"/>
                </a:lnTo>
                <a:lnTo>
                  <a:pt x="13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2827440" y="746280"/>
            <a:ext cx="7920" cy="93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2739960" y="708120"/>
            <a:ext cx="87480" cy="38160"/>
          </a:xfrm>
          <a:custGeom>
            <a:avLst/>
            <a:gdLst/>
            <a:ahLst/>
            <a:rect l="l" t="t" r="r" b="b"/>
            <a:pathLst>
              <a:path w="30" h="10">
                <a:moveTo>
                  <a:pt x="30" y="10"/>
                </a:moveTo>
                <a:lnTo>
                  <a:pt x="24" y="7"/>
                </a:lnTo>
                <a:lnTo>
                  <a:pt x="15" y="7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154560" y="3395520"/>
            <a:ext cx="8604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6280" y="3395520"/>
            <a:ext cx="98280" cy="504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031080" y="3395520"/>
            <a:ext cx="25200" cy="50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5969160" y="3381480"/>
            <a:ext cx="61920" cy="1404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4"/>
                </a:moveTo>
                <a:lnTo>
                  <a:pt x="18" y="4"/>
                </a:lnTo>
                <a:lnTo>
                  <a:pt x="12" y="4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5880240" y="337176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5791320" y="33591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5703840" y="3348000"/>
            <a:ext cx="874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5614920" y="333864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5570640" y="3325680"/>
            <a:ext cx="44280" cy="12960"/>
          </a:xfrm>
          <a:custGeom>
            <a:avLst/>
            <a:gdLst/>
            <a:ahLst/>
            <a:rect l="l" t="t" r="r" b="b"/>
            <a:pathLst>
              <a:path w="16" h="3">
                <a:moveTo>
                  <a:pt x="16" y="3"/>
                </a:moveTo>
                <a:lnTo>
                  <a:pt x="10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5518080" y="3314880"/>
            <a:ext cx="52560" cy="10800"/>
          </a:xfrm>
          <a:custGeom>
            <a:avLst/>
            <a:gdLst/>
            <a:ahLst/>
            <a:rect l="l" t="t" r="r" b="b"/>
            <a:pathLst>
              <a:path w="18" h="3">
                <a:moveTo>
                  <a:pt x="18" y="3"/>
                </a:moveTo>
                <a:lnTo>
                  <a:pt x="15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5429160" y="330516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5340240" y="3281400"/>
            <a:ext cx="88920" cy="2376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5" y="3"/>
                </a:lnTo>
                <a:lnTo>
                  <a:pt x="16" y="3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254560" y="3271680"/>
            <a:ext cx="85680" cy="97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165640" y="3247920"/>
            <a:ext cx="60480" cy="11160"/>
          </a:xfrm>
          <a:custGeom>
            <a:avLst/>
            <a:gdLst/>
            <a:ahLst/>
            <a:rect l="l" t="t" r="r" b="b"/>
            <a:pathLst>
              <a:path w="21" h="3">
                <a:moveTo>
                  <a:pt x="21" y="3"/>
                </a:moveTo>
                <a:lnTo>
                  <a:pt x="15" y="3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5076720" y="3233880"/>
            <a:ext cx="88920" cy="1404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4"/>
                </a:moveTo>
                <a:lnTo>
                  <a:pt x="22" y="4"/>
                </a:lnTo>
                <a:lnTo>
                  <a:pt x="16" y="4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4979880" y="3224160"/>
            <a:ext cx="96840" cy="972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894200" y="3211560"/>
            <a:ext cx="85680" cy="126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821120" y="3200400"/>
            <a:ext cx="73080" cy="11160"/>
          </a:xfrm>
          <a:custGeom>
            <a:avLst/>
            <a:gdLst/>
            <a:ahLst/>
            <a:rect l="l" t="t" r="r" b="b"/>
            <a:pathLst>
              <a:path w="25" h="3">
                <a:moveTo>
                  <a:pt x="25" y="3"/>
                </a:moveTo>
                <a:lnTo>
                  <a:pt x="18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05280" y="3200400"/>
            <a:ext cx="15840" cy="468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4716360" y="319104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4627440" y="317808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4529160" y="3166920"/>
            <a:ext cx="98280" cy="111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443480" y="3166920"/>
            <a:ext cx="85680" cy="50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4354560" y="31669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265640" y="31669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176720" y="316692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3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4087800" y="317808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3" y="0"/>
                </a:lnTo>
                <a:lnTo>
                  <a:pt x="7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4019400" y="3191040"/>
            <a:ext cx="68400" cy="9360"/>
          </a:xfrm>
          <a:custGeom>
            <a:avLst/>
            <a:gdLst/>
            <a:ahLst/>
            <a:rect l="l" t="t" r="r" b="b"/>
            <a:pathLst>
              <a:path w="24" h="3">
                <a:moveTo>
                  <a:pt x="24" y="0"/>
                </a:moveTo>
                <a:lnTo>
                  <a:pt x="15" y="0"/>
                </a:lnTo>
                <a:lnTo>
                  <a:pt x="9" y="0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3994200" y="3200400"/>
            <a:ext cx="25200" cy="468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6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3905280" y="3200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4" y="0"/>
                </a:lnTo>
                <a:lnTo>
                  <a:pt x="18" y="3"/>
                </a:lnTo>
                <a:lnTo>
                  <a:pt x="9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3816360" y="3211560"/>
            <a:ext cx="88920" cy="223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0"/>
                </a:moveTo>
                <a:lnTo>
                  <a:pt x="25" y="3"/>
                </a:lnTo>
                <a:lnTo>
                  <a:pt x="15" y="3"/>
                </a:lnTo>
                <a:lnTo>
                  <a:pt x="9" y="3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3727440" y="3233880"/>
            <a:ext cx="88920" cy="1404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3638520" y="324792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3" y="0"/>
                </a:lnTo>
                <a:lnTo>
                  <a:pt x="7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3586320" y="3259080"/>
            <a:ext cx="52200" cy="468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2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3552840" y="3259080"/>
            <a:ext cx="33480" cy="12600"/>
          </a:xfrm>
          <a:custGeom>
            <a:avLst/>
            <a:gdLst/>
            <a:ahLst/>
            <a:rect l="l" t="t" r="r" b="b"/>
            <a:pathLst>
              <a:path w="12" h="3">
                <a:moveTo>
                  <a:pt x="12" y="0"/>
                </a:moveTo>
                <a:lnTo>
                  <a:pt x="9" y="3"/>
                </a:lnTo>
                <a:lnTo>
                  <a:pt x="6" y="3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3454560" y="3271680"/>
            <a:ext cx="98280" cy="180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3365640" y="3271680"/>
            <a:ext cx="88920" cy="180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3305160" y="3259080"/>
            <a:ext cx="60480" cy="12600"/>
          </a:xfrm>
          <a:custGeom>
            <a:avLst/>
            <a:gdLst/>
            <a:ahLst/>
            <a:rect l="l" t="t" r="r" b="b"/>
            <a:pathLst>
              <a:path w="21" h="3">
                <a:moveTo>
                  <a:pt x="21" y="3"/>
                </a:moveTo>
                <a:lnTo>
                  <a:pt x="15" y="3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191040" y="3247920"/>
            <a:ext cx="856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3102120" y="3224160"/>
            <a:ext cx="88920" cy="23760"/>
          </a:xfrm>
          <a:custGeom>
            <a:avLst/>
            <a:gdLst/>
            <a:ahLst/>
            <a:rect l="l" t="t" r="r" b="b"/>
            <a:pathLst>
              <a:path w="31" h="7">
                <a:moveTo>
                  <a:pt x="31" y="7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022560" y="3200400"/>
            <a:ext cx="79560" cy="2376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19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3005280" y="3191040"/>
            <a:ext cx="17280" cy="936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3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2916360" y="315756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9"/>
                </a:lnTo>
                <a:lnTo>
                  <a:pt x="19" y="6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2855880" y="3133800"/>
            <a:ext cx="60480" cy="23760"/>
          </a:xfrm>
          <a:custGeom>
            <a:avLst/>
            <a:gdLst/>
            <a:ahLst/>
            <a:rect l="l" t="t" r="r" b="b"/>
            <a:pathLst>
              <a:path w="21" h="6">
                <a:moveTo>
                  <a:pt x="21" y="6"/>
                </a:moveTo>
                <a:lnTo>
                  <a:pt x="15" y="6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827440" y="3124080"/>
            <a:ext cx="28440" cy="972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3"/>
                </a:moveTo>
                <a:lnTo>
                  <a:pt x="7" y="3"/>
                </a:lnTo>
                <a:lnTo>
                  <a:pt x="7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741760" y="3086280"/>
            <a:ext cx="85680" cy="37800"/>
          </a:xfrm>
          <a:custGeom>
            <a:avLst/>
            <a:gdLst/>
            <a:ahLst/>
            <a:rect l="l" t="t" r="r" b="b"/>
            <a:pathLst>
              <a:path w="30" h="10">
                <a:moveTo>
                  <a:pt x="30" y="10"/>
                </a:moveTo>
                <a:lnTo>
                  <a:pt x="24" y="7"/>
                </a:lnTo>
                <a:lnTo>
                  <a:pt x="15" y="4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2652840" y="3043080"/>
            <a:ext cx="60120" cy="33480"/>
          </a:xfrm>
          <a:custGeom>
            <a:avLst/>
            <a:gdLst/>
            <a:ahLst/>
            <a:rect l="l" t="t" r="r" b="b"/>
            <a:pathLst>
              <a:path w="21" h="9">
                <a:moveTo>
                  <a:pt x="21" y="9"/>
                </a:moveTo>
                <a:lnTo>
                  <a:pt x="15" y="6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2571840" y="3008160"/>
            <a:ext cx="81000" cy="34920"/>
          </a:xfrm>
          <a:custGeom>
            <a:avLst/>
            <a:gdLst/>
            <a:ahLst/>
            <a:rect l="l" t="t" r="r" b="b"/>
            <a:pathLst>
              <a:path w="28" h="9">
                <a:moveTo>
                  <a:pt x="28" y="9"/>
                </a:moveTo>
                <a:lnTo>
                  <a:pt x="19" y="6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2563920" y="2997360"/>
            <a:ext cx="7920" cy="1080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2467080" y="2963880"/>
            <a:ext cx="96840" cy="33480"/>
          </a:xfrm>
          <a:custGeom>
            <a:avLst/>
            <a:gdLst/>
            <a:ahLst/>
            <a:rect l="l" t="t" r="r" b="b"/>
            <a:pathLst>
              <a:path w="34" h="9">
                <a:moveTo>
                  <a:pt x="34" y="9"/>
                </a:moveTo>
                <a:lnTo>
                  <a:pt x="25" y="6"/>
                </a:lnTo>
                <a:lnTo>
                  <a:pt x="19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2432160" y="2936880"/>
            <a:ext cx="349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7"/>
                </a:moveTo>
                <a:lnTo>
                  <a:pt x="9" y="4"/>
                </a:lnTo>
                <a:lnTo>
                  <a:pt x="6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378160" y="2916360"/>
            <a:ext cx="54000" cy="2052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6"/>
                </a:moveTo>
                <a:lnTo>
                  <a:pt x="16" y="6"/>
                </a:lnTo>
                <a:lnTo>
                  <a:pt x="10" y="3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290680" y="2882880"/>
            <a:ext cx="87480" cy="33480"/>
          </a:xfrm>
          <a:custGeom>
            <a:avLst/>
            <a:gdLst/>
            <a:ahLst/>
            <a:rect l="l" t="t" r="r" b="b"/>
            <a:pathLst>
              <a:path w="30" h="9">
                <a:moveTo>
                  <a:pt x="30" y="9"/>
                </a:moveTo>
                <a:lnTo>
                  <a:pt x="24" y="6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262240" y="2882880"/>
            <a:ext cx="28440" cy="4680"/>
          </a:xfrm>
          <a:custGeom>
            <a:avLst/>
            <a:gdLst/>
            <a:ahLst/>
            <a:rect l="l" t="t" r="r" b="b"/>
            <a:pathLst>
              <a:path w="10" h="0">
                <a:moveTo>
                  <a:pt x="10" y="0"/>
                </a:move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2201760" y="2860560"/>
            <a:ext cx="60480" cy="22320"/>
          </a:xfrm>
          <a:custGeom>
            <a:avLst/>
            <a:gdLst/>
            <a:ahLst/>
            <a:rect l="l" t="t" r="r" b="b"/>
            <a:pathLst>
              <a:path w="21" h="6">
                <a:moveTo>
                  <a:pt x="21" y="6"/>
                </a:moveTo>
                <a:lnTo>
                  <a:pt x="15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2112840" y="282744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2" y="6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2033640" y="2816280"/>
            <a:ext cx="79200" cy="11160"/>
          </a:xfrm>
          <a:custGeom>
            <a:avLst/>
            <a:gdLst/>
            <a:ahLst/>
            <a:rect l="l" t="t" r="r" b="b"/>
            <a:pathLst>
              <a:path w="28" h="3">
                <a:moveTo>
                  <a:pt x="28" y="3"/>
                </a:moveTo>
                <a:lnTo>
                  <a:pt x="19" y="3"/>
                </a:lnTo>
                <a:lnTo>
                  <a:pt x="1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023920" y="2816280"/>
            <a:ext cx="972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1927080" y="2789280"/>
            <a:ext cx="96840" cy="27000"/>
          </a:xfrm>
          <a:custGeom>
            <a:avLst/>
            <a:gdLst/>
            <a:ahLst/>
            <a:rect l="l" t="t" r="r" b="b"/>
            <a:pathLst>
              <a:path w="34" h="7">
                <a:moveTo>
                  <a:pt x="34" y="7"/>
                </a:moveTo>
                <a:lnTo>
                  <a:pt x="25" y="4"/>
                </a:lnTo>
                <a:lnTo>
                  <a:pt x="19" y="4"/>
                </a:lnTo>
                <a:lnTo>
                  <a:pt x="10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1841400" y="2779560"/>
            <a:ext cx="85680" cy="972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1752480" y="277956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6154560" y="3419640"/>
            <a:ext cx="8604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6056280" y="3406680"/>
            <a:ext cx="98280" cy="129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4" y="3"/>
                </a:lnTo>
                <a:lnTo>
                  <a:pt x="18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5969160" y="3406680"/>
            <a:ext cx="871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5880240" y="339552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5870520" y="3395520"/>
            <a:ext cx="9720" cy="50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5791320" y="3381480"/>
            <a:ext cx="79200" cy="14040"/>
          </a:xfrm>
          <a:custGeom>
            <a:avLst/>
            <a:gdLst/>
            <a:ahLst/>
            <a:rect l="l" t="t" r="r" b="b"/>
            <a:pathLst>
              <a:path w="28" h="4">
                <a:moveTo>
                  <a:pt x="28" y="4"/>
                </a:moveTo>
                <a:lnTo>
                  <a:pt x="22" y="4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5703840" y="3359160"/>
            <a:ext cx="87480" cy="22320"/>
          </a:xfrm>
          <a:custGeom>
            <a:avLst/>
            <a:gdLst/>
            <a:ahLst/>
            <a:rect l="l" t="t" r="r" b="b"/>
            <a:pathLst>
              <a:path w="30" h="6">
                <a:moveTo>
                  <a:pt x="30" y="6"/>
                </a:moveTo>
                <a:lnTo>
                  <a:pt x="21" y="3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5614920" y="33480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5518080" y="3338640"/>
            <a:ext cx="96840" cy="93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5475240" y="3325680"/>
            <a:ext cx="42840" cy="1296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3"/>
                </a:moveTo>
                <a:lnTo>
                  <a:pt x="12" y="3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429160" y="3314880"/>
            <a:ext cx="46080" cy="10800"/>
          </a:xfrm>
          <a:custGeom>
            <a:avLst/>
            <a:gdLst/>
            <a:ahLst/>
            <a:rect l="l" t="t" r="r" b="b"/>
            <a:pathLst>
              <a:path w="16" h="3">
                <a:moveTo>
                  <a:pt x="16" y="3"/>
                </a:moveTo>
                <a:lnTo>
                  <a:pt x="13" y="3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340240" y="330516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5254560" y="3292560"/>
            <a:ext cx="85680" cy="126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5165640" y="3271680"/>
            <a:ext cx="88920" cy="2088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5102280" y="3259080"/>
            <a:ext cx="63360" cy="12600"/>
          </a:xfrm>
          <a:custGeom>
            <a:avLst/>
            <a:gdLst/>
            <a:ahLst/>
            <a:rect l="l" t="t" r="r" b="b"/>
            <a:pathLst>
              <a:path w="22" h="3">
                <a:moveTo>
                  <a:pt x="22" y="3"/>
                </a:moveTo>
                <a:lnTo>
                  <a:pt x="16" y="3"/>
                </a:lnTo>
                <a:lnTo>
                  <a:pt x="10" y="3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5076720" y="3259080"/>
            <a:ext cx="25560" cy="468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4979880" y="3247920"/>
            <a:ext cx="96840" cy="111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4894200" y="3224160"/>
            <a:ext cx="85680" cy="23760"/>
          </a:xfrm>
          <a:custGeom>
            <a:avLst/>
            <a:gdLst/>
            <a:ahLst/>
            <a:rect l="l" t="t" r="r" b="b"/>
            <a:pathLst>
              <a:path w="30" h="7">
                <a:moveTo>
                  <a:pt x="30" y="7"/>
                </a:moveTo>
                <a:lnTo>
                  <a:pt x="24" y="3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4805280" y="321156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4" y="3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4716360" y="321156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4627440" y="3200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4610160" y="3200400"/>
            <a:ext cx="17280" cy="468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4529160" y="3191040"/>
            <a:ext cx="81000" cy="9360"/>
          </a:xfrm>
          <a:custGeom>
            <a:avLst/>
            <a:gdLst/>
            <a:ahLst/>
            <a:rect l="l" t="t" r="r" b="b"/>
            <a:pathLst>
              <a:path w="28" h="3">
                <a:moveTo>
                  <a:pt x="28" y="3"/>
                </a:moveTo>
                <a:lnTo>
                  <a:pt x="22" y="3"/>
                </a:lnTo>
                <a:lnTo>
                  <a:pt x="16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4443480" y="3191040"/>
            <a:ext cx="85680" cy="14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4354560" y="319104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4265640" y="319104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4176720" y="3200400"/>
            <a:ext cx="38160" cy="468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4087800" y="3200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7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3994200" y="3211560"/>
            <a:ext cx="93600" cy="12600"/>
          </a:xfrm>
          <a:custGeom>
            <a:avLst/>
            <a:gdLst/>
            <a:ahLst/>
            <a:rect l="l" t="t" r="r" b="b"/>
            <a:pathLst>
              <a:path w="33" h="3">
                <a:moveTo>
                  <a:pt x="33" y="0"/>
                </a:moveTo>
                <a:lnTo>
                  <a:pt x="24" y="0"/>
                </a:lnTo>
                <a:lnTo>
                  <a:pt x="15" y="0"/>
                </a:lnTo>
                <a:lnTo>
                  <a:pt x="9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3905280" y="322416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3816360" y="3233880"/>
            <a:ext cx="88920" cy="1404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0"/>
                </a:moveTo>
                <a:lnTo>
                  <a:pt x="25" y="0"/>
                </a:lnTo>
                <a:lnTo>
                  <a:pt x="15" y="4"/>
                </a:lnTo>
                <a:lnTo>
                  <a:pt x="6" y="4"/>
                </a:lnTo>
                <a:lnTo>
                  <a:pt x="0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3755880" y="3247920"/>
            <a:ext cx="60480" cy="11160"/>
          </a:xfrm>
          <a:custGeom>
            <a:avLst/>
            <a:gdLst/>
            <a:ahLst/>
            <a:rect l="l" t="t" r="r" b="b"/>
            <a:pathLst>
              <a:path w="21" h="3">
                <a:moveTo>
                  <a:pt x="21" y="0"/>
                </a:moveTo>
                <a:lnTo>
                  <a:pt x="15" y="3"/>
                </a:lnTo>
                <a:lnTo>
                  <a:pt x="9" y="3"/>
                </a:lnTo>
                <a:lnTo>
                  <a:pt x="3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3638520" y="3271680"/>
            <a:ext cx="88920" cy="972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3552840" y="3281400"/>
            <a:ext cx="8568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454560" y="3281400"/>
            <a:ext cx="98280" cy="111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0"/>
                </a:moveTo>
                <a:lnTo>
                  <a:pt x="24" y="3"/>
                </a:lnTo>
                <a:lnTo>
                  <a:pt x="15" y="3"/>
                </a:lnTo>
                <a:lnTo>
                  <a:pt x="9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3365640" y="329256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3276720" y="3281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3191040" y="3259080"/>
            <a:ext cx="85680" cy="22320"/>
          </a:xfrm>
          <a:custGeom>
            <a:avLst/>
            <a:gdLst/>
            <a:ahLst/>
            <a:rect l="l" t="t" r="r" b="b"/>
            <a:pathLst>
              <a:path w="30" h="6">
                <a:moveTo>
                  <a:pt x="30" y="6"/>
                </a:moveTo>
                <a:lnTo>
                  <a:pt x="21" y="3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3191040" y="3259080"/>
            <a:ext cx="2880" cy="126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3102120" y="3233880"/>
            <a:ext cx="88920" cy="25200"/>
          </a:xfrm>
          <a:custGeom>
            <a:avLst/>
            <a:gdLst/>
            <a:ahLst/>
            <a:rect l="l" t="t" r="r" b="b"/>
            <a:pathLst>
              <a:path w="31" h="7">
                <a:moveTo>
                  <a:pt x="31" y="7"/>
                </a:moveTo>
                <a:lnTo>
                  <a:pt x="24" y="7"/>
                </a:lnTo>
                <a:lnTo>
                  <a:pt x="15" y="7"/>
                </a:lnTo>
                <a:lnTo>
                  <a:pt x="9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3005280" y="3211560"/>
            <a:ext cx="96840" cy="223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6"/>
                </a:moveTo>
                <a:lnTo>
                  <a:pt x="25" y="6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2979720" y="3200400"/>
            <a:ext cx="25560" cy="1116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3"/>
                </a:moveTo>
                <a:lnTo>
                  <a:pt x="6" y="3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2916360" y="3178080"/>
            <a:ext cx="63360" cy="22320"/>
          </a:xfrm>
          <a:custGeom>
            <a:avLst/>
            <a:gdLst/>
            <a:ahLst/>
            <a:rect l="l" t="t" r="r" b="b"/>
            <a:pathLst>
              <a:path w="22" h="6">
                <a:moveTo>
                  <a:pt x="22" y="6"/>
                </a:moveTo>
                <a:lnTo>
                  <a:pt x="16" y="3"/>
                </a:lnTo>
                <a:lnTo>
                  <a:pt x="12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827440" y="314496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6"/>
                </a:lnTo>
                <a:lnTo>
                  <a:pt x="16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2819520" y="3133800"/>
            <a:ext cx="792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2741760" y="3100320"/>
            <a:ext cx="77760" cy="33480"/>
          </a:xfrm>
          <a:custGeom>
            <a:avLst/>
            <a:gdLst/>
            <a:ahLst/>
            <a:rect l="l" t="t" r="r" b="b"/>
            <a:pathLst>
              <a:path w="27" h="9">
                <a:moveTo>
                  <a:pt x="27" y="9"/>
                </a:moveTo>
                <a:lnTo>
                  <a:pt x="21" y="6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2678040" y="3076560"/>
            <a:ext cx="63720" cy="23760"/>
          </a:xfrm>
          <a:custGeom>
            <a:avLst/>
            <a:gdLst/>
            <a:ahLst/>
            <a:rect l="l" t="t" r="r" b="b"/>
            <a:pathLst>
              <a:path w="22" h="7">
                <a:moveTo>
                  <a:pt x="22" y="7"/>
                </a:moveTo>
                <a:lnTo>
                  <a:pt x="15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2652840" y="3052800"/>
            <a:ext cx="25200" cy="2376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6"/>
                </a:moveTo>
                <a:lnTo>
                  <a:pt x="6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2563920" y="3017880"/>
            <a:ext cx="88920" cy="349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2" y="6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2538360" y="3008160"/>
            <a:ext cx="25560" cy="972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3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2467080" y="2975040"/>
            <a:ext cx="71280" cy="33120"/>
          </a:xfrm>
          <a:custGeom>
            <a:avLst/>
            <a:gdLst/>
            <a:ahLst/>
            <a:rect l="l" t="t" r="r" b="b"/>
            <a:pathLst>
              <a:path w="25" h="9">
                <a:moveTo>
                  <a:pt x="25" y="9"/>
                </a:moveTo>
                <a:lnTo>
                  <a:pt x="19" y="6"/>
                </a:lnTo>
                <a:lnTo>
                  <a:pt x="16" y="6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386080" y="2936880"/>
            <a:ext cx="81000" cy="38160"/>
          </a:xfrm>
          <a:custGeom>
            <a:avLst/>
            <a:gdLst/>
            <a:ahLst/>
            <a:rect l="l" t="t" r="r" b="b"/>
            <a:pathLst>
              <a:path w="28" h="10">
                <a:moveTo>
                  <a:pt x="28" y="10"/>
                </a:moveTo>
                <a:lnTo>
                  <a:pt x="22" y="7"/>
                </a:lnTo>
                <a:lnTo>
                  <a:pt x="13" y="4"/>
                </a:lnTo>
                <a:lnTo>
                  <a:pt x="7" y="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378160" y="2936880"/>
            <a:ext cx="792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2290680" y="2903400"/>
            <a:ext cx="87480" cy="33480"/>
          </a:xfrm>
          <a:custGeom>
            <a:avLst/>
            <a:gdLst/>
            <a:ahLst/>
            <a:rect l="l" t="t" r="r" b="b"/>
            <a:pathLst>
              <a:path w="30" h="9">
                <a:moveTo>
                  <a:pt x="30" y="9"/>
                </a:moveTo>
                <a:lnTo>
                  <a:pt x="24" y="6"/>
                </a:lnTo>
                <a:lnTo>
                  <a:pt x="18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2211480" y="2882880"/>
            <a:ext cx="79200" cy="2052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18" y="3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2201760" y="2870280"/>
            <a:ext cx="9720" cy="1260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112840" y="2849400"/>
            <a:ext cx="88920" cy="2088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5" y="6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023920" y="2827440"/>
            <a:ext cx="88920" cy="2196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3"/>
                </a:lnTo>
                <a:lnTo>
                  <a:pt x="16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1938240" y="2816280"/>
            <a:ext cx="856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1927080" y="2816280"/>
            <a:ext cx="11160" cy="468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1841400" y="2803680"/>
            <a:ext cx="85680" cy="1260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1752480" y="280368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154560" y="3429000"/>
            <a:ext cx="86040" cy="468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1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6056280" y="3429000"/>
            <a:ext cx="98280" cy="468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5969160" y="3419640"/>
            <a:ext cx="871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5880240" y="340668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5791320" y="339552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3"/>
                </a:lnTo>
                <a:lnTo>
                  <a:pt x="16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5703840" y="3381480"/>
            <a:ext cx="60480" cy="14040"/>
          </a:xfrm>
          <a:custGeom>
            <a:avLst/>
            <a:gdLst/>
            <a:ahLst/>
            <a:rect l="l" t="t" r="r" b="b"/>
            <a:pathLst>
              <a:path w="21" h="4">
                <a:moveTo>
                  <a:pt x="21" y="4"/>
                </a:moveTo>
                <a:lnTo>
                  <a:pt x="15" y="4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5616720" y="336852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518080" y="3348000"/>
            <a:ext cx="98640" cy="20520"/>
          </a:xfrm>
          <a:custGeom>
            <a:avLst/>
            <a:gdLst/>
            <a:ahLst/>
            <a:rect l="l" t="t" r="r" b="b"/>
            <a:pathLst>
              <a:path w="34" h="6">
                <a:moveTo>
                  <a:pt x="34" y="6"/>
                </a:moveTo>
                <a:lnTo>
                  <a:pt x="25" y="3"/>
                </a:lnTo>
                <a:lnTo>
                  <a:pt x="15" y="3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429160" y="333540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5378400" y="3325680"/>
            <a:ext cx="50760" cy="9720"/>
          </a:xfrm>
          <a:custGeom>
            <a:avLst/>
            <a:gdLst/>
            <a:ahLst/>
            <a:rect l="l" t="t" r="r" b="b"/>
            <a:pathLst>
              <a:path w="18" h="3">
                <a:moveTo>
                  <a:pt x="18" y="3"/>
                </a:moveTo>
                <a:lnTo>
                  <a:pt x="12" y="3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5340240" y="3325680"/>
            <a:ext cx="38160" cy="324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10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5254560" y="3301920"/>
            <a:ext cx="85680" cy="23760"/>
          </a:xfrm>
          <a:custGeom>
            <a:avLst/>
            <a:gdLst/>
            <a:ahLst/>
            <a:rect l="l" t="t" r="r" b="b"/>
            <a:pathLst>
              <a:path w="30" h="6">
                <a:moveTo>
                  <a:pt x="30" y="6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5165640" y="329256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5076720" y="3281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4987800" y="3259080"/>
            <a:ext cx="88920" cy="223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3"/>
                </a:lnTo>
                <a:lnTo>
                  <a:pt x="13" y="3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4979880" y="3259080"/>
            <a:ext cx="7920" cy="324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4894200" y="3247920"/>
            <a:ext cx="856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8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4805280" y="3233880"/>
            <a:ext cx="88920" cy="14040"/>
          </a:xfrm>
          <a:custGeom>
            <a:avLst/>
            <a:gdLst/>
            <a:ahLst/>
            <a:rect l="l" t="t" r="r" b="b"/>
            <a:pathLst>
              <a:path w="31" h="4">
                <a:moveTo>
                  <a:pt x="31" y="4"/>
                </a:moveTo>
                <a:lnTo>
                  <a:pt x="24" y="4"/>
                </a:lnTo>
                <a:lnTo>
                  <a:pt x="15" y="4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4716360" y="322092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4627440" y="3220920"/>
            <a:ext cx="88920" cy="50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4529160" y="3211560"/>
            <a:ext cx="98280" cy="93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0"/>
                </a:lnTo>
                <a:lnTo>
                  <a:pt x="19" y="0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4443480" y="3211560"/>
            <a:ext cx="85680" cy="3240"/>
          </a:xfrm>
          <a:custGeom>
            <a:avLst/>
            <a:gdLst/>
            <a:ahLst/>
            <a:rect l="l" t="t" r="r" b="b"/>
            <a:pathLst>
              <a:path w="30" h="0">
                <a:moveTo>
                  <a:pt x="30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4354560" y="321156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4265640" y="3211560"/>
            <a:ext cx="88920" cy="32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4176720" y="321156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4087800" y="3220920"/>
            <a:ext cx="88920" cy="129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0"/>
                </a:lnTo>
                <a:lnTo>
                  <a:pt x="16" y="0"/>
                </a:lnTo>
                <a:lnTo>
                  <a:pt x="7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3994200" y="3233880"/>
            <a:ext cx="93600" cy="14040"/>
          </a:xfrm>
          <a:custGeom>
            <a:avLst/>
            <a:gdLst/>
            <a:ahLst/>
            <a:rect l="l" t="t" r="r" b="b"/>
            <a:pathLst>
              <a:path w="33" h="4">
                <a:moveTo>
                  <a:pt x="33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3905280" y="324792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4" y="0"/>
                </a:lnTo>
                <a:lnTo>
                  <a:pt x="15" y="0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3878280" y="3259080"/>
            <a:ext cx="27000" cy="32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6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3816360" y="3259080"/>
            <a:ext cx="61920" cy="9720"/>
          </a:xfrm>
          <a:custGeom>
            <a:avLst/>
            <a:gdLst/>
            <a:ahLst/>
            <a:rect l="l" t="t" r="r" b="b"/>
            <a:pathLst>
              <a:path w="22" h="3">
                <a:moveTo>
                  <a:pt x="22" y="0"/>
                </a:moveTo>
                <a:lnTo>
                  <a:pt x="15" y="3"/>
                </a:lnTo>
                <a:lnTo>
                  <a:pt x="12" y="3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727440" y="3268800"/>
            <a:ext cx="88920" cy="1260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5" y="0"/>
                </a:lnTo>
                <a:lnTo>
                  <a:pt x="16" y="3"/>
                </a:lnTo>
                <a:lnTo>
                  <a:pt x="1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638520" y="3281400"/>
            <a:ext cx="88920" cy="111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0"/>
                </a:moveTo>
                <a:lnTo>
                  <a:pt x="22" y="3"/>
                </a:lnTo>
                <a:lnTo>
                  <a:pt x="16" y="3"/>
                </a:lnTo>
                <a:lnTo>
                  <a:pt x="7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3552840" y="3292560"/>
            <a:ext cx="85680" cy="93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0"/>
                </a:moveTo>
                <a:lnTo>
                  <a:pt x="21" y="3"/>
                </a:lnTo>
                <a:lnTo>
                  <a:pt x="15" y="3"/>
                </a:lnTo>
                <a:lnTo>
                  <a:pt x="6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3454560" y="3301920"/>
            <a:ext cx="98280" cy="4680"/>
          </a:xfrm>
          <a:custGeom>
            <a:avLst/>
            <a:gdLst/>
            <a:ahLst/>
            <a:rect l="l" t="t" r="r" b="b"/>
            <a:pathLst>
              <a:path w="34" h="0">
                <a:moveTo>
                  <a:pt x="34" y="0"/>
                </a:moveTo>
                <a:lnTo>
                  <a:pt x="24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3365640" y="3301920"/>
            <a:ext cx="88920" cy="468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3276720" y="3292560"/>
            <a:ext cx="88920" cy="9360"/>
          </a:xfrm>
          <a:custGeom>
            <a:avLst/>
            <a:gdLst/>
            <a:ahLst/>
            <a:rect l="l" t="t" r="r" b="b"/>
            <a:pathLst>
              <a:path w="31" h="3">
                <a:moveTo>
                  <a:pt x="31" y="3"/>
                </a:moveTo>
                <a:lnTo>
                  <a:pt x="25" y="3"/>
                </a:lnTo>
                <a:lnTo>
                  <a:pt x="16" y="3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3191040" y="3281400"/>
            <a:ext cx="85680" cy="111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1" y="3"/>
                </a:lnTo>
                <a:lnTo>
                  <a:pt x="15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3119400" y="3259080"/>
            <a:ext cx="71640" cy="22320"/>
          </a:xfrm>
          <a:custGeom>
            <a:avLst/>
            <a:gdLst/>
            <a:ahLst/>
            <a:rect l="l" t="t" r="r" b="b"/>
            <a:pathLst>
              <a:path w="25" h="6">
                <a:moveTo>
                  <a:pt x="25" y="6"/>
                </a:moveTo>
                <a:lnTo>
                  <a:pt x="15" y="6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3102120" y="3259080"/>
            <a:ext cx="1728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3005280" y="3220920"/>
            <a:ext cx="96840" cy="38160"/>
          </a:xfrm>
          <a:custGeom>
            <a:avLst/>
            <a:gdLst/>
            <a:ahLst/>
            <a:rect l="l" t="t" r="r" b="b"/>
            <a:pathLst>
              <a:path w="34" h="10">
                <a:moveTo>
                  <a:pt x="34" y="10"/>
                </a:moveTo>
                <a:lnTo>
                  <a:pt x="25" y="7"/>
                </a:lnTo>
                <a:lnTo>
                  <a:pt x="18" y="7"/>
                </a:lnTo>
                <a:lnTo>
                  <a:pt x="9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2924280" y="3200400"/>
            <a:ext cx="81000" cy="2052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lnTo>
                  <a:pt x="22" y="6"/>
                </a:lnTo>
                <a:lnTo>
                  <a:pt x="13" y="3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916360" y="3187800"/>
            <a:ext cx="7920" cy="1260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2827440" y="315432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9"/>
                </a:lnTo>
                <a:lnTo>
                  <a:pt x="16" y="6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2784600" y="3133800"/>
            <a:ext cx="42840" cy="20520"/>
          </a:xfrm>
          <a:custGeom>
            <a:avLst/>
            <a:gdLst/>
            <a:ahLst/>
            <a:rect l="l" t="t" r="r" b="b"/>
            <a:pathLst>
              <a:path w="15" h="6">
                <a:moveTo>
                  <a:pt x="15" y="6"/>
                </a:moveTo>
                <a:lnTo>
                  <a:pt x="9" y="3"/>
                </a:lnTo>
                <a:lnTo>
                  <a:pt x="6" y="3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2652840" y="3073320"/>
            <a:ext cx="88920" cy="38160"/>
          </a:xfrm>
          <a:custGeom>
            <a:avLst/>
            <a:gdLst/>
            <a:ahLst/>
            <a:rect l="l" t="t" r="r" b="b"/>
            <a:pathLst>
              <a:path w="31" h="10">
                <a:moveTo>
                  <a:pt x="31" y="10"/>
                </a:moveTo>
                <a:lnTo>
                  <a:pt x="21" y="7"/>
                </a:lnTo>
                <a:lnTo>
                  <a:pt x="15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2643120" y="3073320"/>
            <a:ext cx="9720" cy="468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2563920" y="3030480"/>
            <a:ext cx="79200" cy="4284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12"/>
                </a:moveTo>
                <a:lnTo>
                  <a:pt x="22" y="9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2500200" y="3006720"/>
            <a:ext cx="63720" cy="23760"/>
          </a:xfrm>
          <a:custGeom>
            <a:avLst/>
            <a:gdLst/>
            <a:ahLst/>
            <a:rect l="l" t="t" r="r" b="b"/>
            <a:pathLst>
              <a:path w="22" h="6">
                <a:moveTo>
                  <a:pt x="22" y="6"/>
                </a:moveTo>
                <a:lnTo>
                  <a:pt x="16" y="3"/>
                </a:lnTo>
                <a:lnTo>
                  <a:pt x="10" y="3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2465280" y="2984400"/>
            <a:ext cx="34920" cy="2232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9" y="3"/>
                </a:lnTo>
                <a:lnTo>
                  <a:pt x="9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2376360" y="2951280"/>
            <a:ext cx="88920" cy="3312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5" y="9"/>
                </a:lnTo>
                <a:lnTo>
                  <a:pt x="16" y="6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2351160" y="2936880"/>
            <a:ext cx="25200" cy="1440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4"/>
                </a:moveTo>
                <a:lnTo>
                  <a:pt x="6" y="4"/>
                </a:lnTo>
                <a:lnTo>
                  <a:pt x="3" y="4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2290680" y="2916360"/>
            <a:ext cx="60480" cy="20520"/>
          </a:xfrm>
          <a:custGeom>
            <a:avLst/>
            <a:gdLst/>
            <a:ahLst/>
            <a:rect l="l" t="t" r="r" b="b"/>
            <a:pathLst>
              <a:path w="21" h="6">
                <a:moveTo>
                  <a:pt x="21" y="6"/>
                </a:moveTo>
                <a:lnTo>
                  <a:pt x="15" y="6"/>
                </a:lnTo>
                <a:lnTo>
                  <a:pt x="12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2201760" y="2882880"/>
            <a:ext cx="88920" cy="33480"/>
          </a:xfrm>
          <a:custGeom>
            <a:avLst/>
            <a:gdLst/>
            <a:ahLst/>
            <a:rect l="l" t="t" r="r" b="b"/>
            <a:pathLst>
              <a:path w="31" h="9">
                <a:moveTo>
                  <a:pt x="31" y="9"/>
                </a:moveTo>
                <a:lnTo>
                  <a:pt x="21" y="6"/>
                </a:lnTo>
                <a:lnTo>
                  <a:pt x="15" y="6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166840" y="2882880"/>
            <a:ext cx="3492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9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112840" y="2859120"/>
            <a:ext cx="54000" cy="23760"/>
          </a:xfrm>
          <a:custGeom>
            <a:avLst/>
            <a:gdLst/>
            <a:ahLst/>
            <a:rect l="l" t="t" r="r" b="b"/>
            <a:pathLst>
              <a:path w="19" h="6">
                <a:moveTo>
                  <a:pt x="19" y="6"/>
                </a:moveTo>
                <a:lnTo>
                  <a:pt x="12" y="3"/>
                </a:lnTo>
                <a:lnTo>
                  <a:pt x="9" y="3"/>
                </a:ln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2023920" y="2836800"/>
            <a:ext cx="88920" cy="22320"/>
          </a:xfrm>
          <a:custGeom>
            <a:avLst/>
            <a:gdLst/>
            <a:ahLst/>
            <a:rect l="l" t="t" r="r" b="b"/>
            <a:pathLst>
              <a:path w="31" h="6">
                <a:moveTo>
                  <a:pt x="31" y="6"/>
                </a:moveTo>
                <a:lnTo>
                  <a:pt x="22" y="6"/>
                </a:lnTo>
                <a:lnTo>
                  <a:pt x="16" y="3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1927080" y="2825640"/>
            <a:ext cx="96840" cy="11160"/>
          </a:xfrm>
          <a:custGeom>
            <a:avLst/>
            <a:gdLst/>
            <a:ahLst/>
            <a:rect l="l" t="t" r="r" b="b"/>
            <a:pathLst>
              <a:path w="34" h="3">
                <a:moveTo>
                  <a:pt x="34" y="3"/>
                </a:moveTo>
                <a:lnTo>
                  <a:pt x="25" y="3"/>
                </a:lnTo>
                <a:lnTo>
                  <a:pt x="16" y="3"/>
                </a:lnTo>
                <a:lnTo>
                  <a:pt x="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1841400" y="2816280"/>
            <a:ext cx="85680" cy="9360"/>
          </a:xfrm>
          <a:custGeom>
            <a:avLst/>
            <a:gdLst/>
            <a:ahLst/>
            <a:rect l="l" t="t" r="r" b="b"/>
            <a:pathLst>
              <a:path w="30" h="3">
                <a:moveTo>
                  <a:pt x="30" y="3"/>
                </a:moveTo>
                <a:lnTo>
                  <a:pt x="24" y="3"/>
                </a:lnTo>
                <a:lnTo>
                  <a:pt x="15" y="3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1752480" y="2816280"/>
            <a:ext cx="88920" cy="1440"/>
          </a:xfrm>
          <a:custGeom>
            <a:avLst/>
            <a:gdLst/>
            <a:ahLst/>
            <a:rect l="l" t="t" r="r" b="b"/>
            <a:pathLst>
              <a:path w="31" h="0">
                <a:moveTo>
                  <a:pt x="31" y="0"/>
                </a:moveTo>
                <a:lnTo>
                  <a:pt x="25" y="0"/>
                </a:lnTo>
                <a:lnTo>
                  <a:pt x="15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3429000" y="23623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4689360" y="247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5786280" y="2620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4263120" y="21067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4339440" y="1747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4339440" y="135396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1752480" y="690480"/>
            <a:ext cx="448812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143360" y="60958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1143360" y="4800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1143360" y="3581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6248520" y="68580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1752480" y="68580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324792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474336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47920" y="36576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1752480" y="2286000"/>
            <a:ext cx="4495680" cy="533520"/>
            <a:chOff x="1752480" y="2286000"/>
            <a:chExt cx="4495680" cy="533520"/>
          </a:xfrm>
        </p:grpSpPr>
        <p:sp>
          <p:nvSpPr>
            <p:cNvPr id="4541" name=""/>
            <p:cNvSpPr/>
            <p:nvPr/>
          </p:nvSpPr>
          <p:spPr>
            <a:xfrm>
              <a:off x="1752480" y="2286000"/>
              <a:ext cx="2078280" cy="388440"/>
            </a:xfrm>
            <a:custGeom>
              <a:avLst/>
              <a:gdLst/>
              <a:ahLst/>
              <a:rect l="l" t="t" r="r" b="b"/>
              <a:pathLst>
                <a:path w="1064" h="656">
                  <a:moveTo>
                    <a:pt x="0" y="0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4" y="8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0" y="10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9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5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3" y="21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0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6" y="26"/>
                  </a:lnTo>
                  <a:lnTo>
                    <a:pt x="109" y="27"/>
                  </a:lnTo>
                  <a:lnTo>
                    <a:pt x="111" y="28"/>
                  </a:lnTo>
                  <a:lnTo>
                    <a:pt x="113" y="28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19" y="31"/>
                  </a:lnTo>
                  <a:lnTo>
                    <a:pt x="122" y="32"/>
                  </a:lnTo>
                  <a:lnTo>
                    <a:pt x="124" y="33"/>
                  </a:lnTo>
                  <a:lnTo>
                    <a:pt x="127" y="34"/>
                  </a:lnTo>
                  <a:lnTo>
                    <a:pt x="128" y="35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4" y="39"/>
                  </a:lnTo>
                  <a:lnTo>
                    <a:pt x="137" y="40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3" y="45"/>
                  </a:lnTo>
                  <a:lnTo>
                    <a:pt x="146" y="46"/>
                  </a:lnTo>
                  <a:lnTo>
                    <a:pt x="147" y="47"/>
                  </a:lnTo>
                  <a:lnTo>
                    <a:pt x="150" y="48"/>
                  </a:lnTo>
                  <a:lnTo>
                    <a:pt x="152" y="49"/>
                  </a:lnTo>
                  <a:lnTo>
                    <a:pt x="154" y="51"/>
                  </a:lnTo>
                  <a:lnTo>
                    <a:pt x="156" y="52"/>
                  </a:lnTo>
                  <a:lnTo>
                    <a:pt x="159" y="53"/>
                  </a:lnTo>
                  <a:lnTo>
                    <a:pt x="160" y="54"/>
                  </a:lnTo>
                  <a:lnTo>
                    <a:pt x="163" y="56"/>
                  </a:lnTo>
                  <a:lnTo>
                    <a:pt x="165" y="57"/>
                  </a:lnTo>
                  <a:lnTo>
                    <a:pt x="166" y="58"/>
                  </a:lnTo>
                  <a:lnTo>
                    <a:pt x="169" y="60"/>
                  </a:lnTo>
                  <a:lnTo>
                    <a:pt x="171" y="61"/>
                  </a:lnTo>
                  <a:lnTo>
                    <a:pt x="173" y="62"/>
                  </a:lnTo>
                  <a:lnTo>
                    <a:pt x="175" y="64"/>
                  </a:lnTo>
                  <a:lnTo>
                    <a:pt x="178" y="66"/>
                  </a:lnTo>
                  <a:lnTo>
                    <a:pt x="179" y="68"/>
                  </a:lnTo>
                  <a:lnTo>
                    <a:pt x="182" y="69"/>
                  </a:lnTo>
                  <a:lnTo>
                    <a:pt x="184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91" y="75"/>
                  </a:lnTo>
                  <a:lnTo>
                    <a:pt x="192" y="76"/>
                  </a:lnTo>
                  <a:lnTo>
                    <a:pt x="195" y="78"/>
                  </a:lnTo>
                  <a:lnTo>
                    <a:pt x="196" y="79"/>
                  </a:lnTo>
                  <a:lnTo>
                    <a:pt x="198" y="81"/>
                  </a:lnTo>
                  <a:lnTo>
                    <a:pt x="201" y="83"/>
                  </a:lnTo>
                  <a:lnTo>
                    <a:pt x="202" y="84"/>
                  </a:lnTo>
                  <a:lnTo>
                    <a:pt x="205" y="86"/>
                  </a:lnTo>
                  <a:lnTo>
                    <a:pt x="207" y="89"/>
                  </a:lnTo>
                  <a:lnTo>
                    <a:pt x="209" y="91"/>
                  </a:lnTo>
                  <a:lnTo>
                    <a:pt x="211" y="92"/>
                  </a:lnTo>
                  <a:lnTo>
                    <a:pt x="214" y="94"/>
                  </a:lnTo>
                  <a:lnTo>
                    <a:pt x="216" y="95"/>
                  </a:lnTo>
                  <a:lnTo>
                    <a:pt x="219" y="97"/>
                  </a:lnTo>
                  <a:lnTo>
                    <a:pt x="220" y="99"/>
                  </a:lnTo>
                  <a:lnTo>
                    <a:pt x="223" y="101"/>
                  </a:lnTo>
                  <a:lnTo>
                    <a:pt x="224" y="102"/>
                  </a:lnTo>
                  <a:lnTo>
                    <a:pt x="227" y="104"/>
                  </a:lnTo>
                  <a:lnTo>
                    <a:pt x="229" y="106"/>
                  </a:lnTo>
                  <a:lnTo>
                    <a:pt x="230" y="108"/>
                  </a:lnTo>
                  <a:lnTo>
                    <a:pt x="233" y="109"/>
                  </a:lnTo>
                  <a:lnTo>
                    <a:pt x="236" y="112"/>
                  </a:lnTo>
                  <a:lnTo>
                    <a:pt x="237" y="114"/>
                  </a:lnTo>
                  <a:lnTo>
                    <a:pt x="239" y="116"/>
                  </a:lnTo>
                  <a:lnTo>
                    <a:pt x="242" y="118"/>
                  </a:lnTo>
                  <a:lnTo>
                    <a:pt x="243" y="119"/>
                  </a:lnTo>
                  <a:lnTo>
                    <a:pt x="246" y="121"/>
                  </a:lnTo>
                  <a:lnTo>
                    <a:pt x="248" y="123"/>
                  </a:lnTo>
                  <a:lnTo>
                    <a:pt x="250" y="125"/>
                  </a:lnTo>
                  <a:lnTo>
                    <a:pt x="252" y="127"/>
                  </a:lnTo>
                  <a:lnTo>
                    <a:pt x="255" y="129"/>
                  </a:lnTo>
                  <a:lnTo>
                    <a:pt x="256" y="131"/>
                  </a:lnTo>
                  <a:lnTo>
                    <a:pt x="259" y="134"/>
                  </a:lnTo>
                  <a:lnTo>
                    <a:pt x="261" y="136"/>
                  </a:lnTo>
                  <a:lnTo>
                    <a:pt x="262" y="138"/>
                  </a:lnTo>
                  <a:lnTo>
                    <a:pt x="265" y="140"/>
                  </a:lnTo>
                  <a:lnTo>
                    <a:pt x="268" y="142"/>
                  </a:lnTo>
                  <a:lnTo>
                    <a:pt x="269" y="144"/>
                  </a:lnTo>
                  <a:lnTo>
                    <a:pt x="271" y="146"/>
                  </a:lnTo>
                  <a:lnTo>
                    <a:pt x="273" y="148"/>
                  </a:lnTo>
                  <a:lnTo>
                    <a:pt x="275" y="150"/>
                  </a:lnTo>
                  <a:lnTo>
                    <a:pt x="278" y="152"/>
                  </a:lnTo>
                  <a:lnTo>
                    <a:pt x="279" y="154"/>
                  </a:lnTo>
                  <a:lnTo>
                    <a:pt x="282" y="157"/>
                  </a:lnTo>
                  <a:lnTo>
                    <a:pt x="284" y="159"/>
                  </a:lnTo>
                  <a:lnTo>
                    <a:pt x="285" y="161"/>
                  </a:lnTo>
                  <a:lnTo>
                    <a:pt x="288" y="163"/>
                  </a:lnTo>
                  <a:lnTo>
                    <a:pt x="291" y="166"/>
                  </a:lnTo>
                  <a:lnTo>
                    <a:pt x="292" y="168"/>
                  </a:lnTo>
                  <a:lnTo>
                    <a:pt x="294" y="170"/>
                  </a:lnTo>
                  <a:lnTo>
                    <a:pt x="297" y="172"/>
                  </a:lnTo>
                  <a:lnTo>
                    <a:pt x="298" y="174"/>
                  </a:lnTo>
                  <a:lnTo>
                    <a:pt x="301" y="176"/>
                  </a:lnTo>
                  <a:lnTo>
                    <a:pt x="303" y="179"/>
                  </a:lnTo>
                  <a:lnTo>
                    <a:pt x="306" y="182"/>
                  </a:lnTo>
                  <a:lnTo>
                    <a:pt x="307" y="184"/>
                  </a:lnTo>
                  <a:lnTo>
                    <a:pt x="310" y="186"/>
                  </a:lnTo>
                  <a:lnTo>
                    <a:pt x="312" y="189"/>
                  </a:lnTo>
                  <a:lnTo>
                    <a:pt x="314" y="191"/>
                  </a:lnTo>
                  <a:lnTo>
                    <a:pt x="316" y="193"/>
                  </a:lnTo>
                  <a:lnTo>
                    <a:pt x="319" y="195"/>
                  </a:lnTo>
                  <a:lnTo>
                    <a:pt x="320" y="198"/>
                  </a:lnTo>
                  <a:lnTo>
                    <a:pt x="323" y="200"/>
                  </a:lnTo>
                  <a:lnTo>
                    <a:pt x="325" y="203"/>
                  </a:lnTo>
                  <a:lnTo>
                    <a:pt x="326" y="205"/>
                  </a:lnTo>
                  <a:lnTo>
                    <a:pt x="329" y="208"/>
                  </a:lnTo>
                  <a:lnTo>
                    <a:pt x="332" y="210"/>
                  </a:lnTo>
                  <a:lnTo>
                    <a:pt x="333" y="212"/>
                  </a:lnTo>
                  <a:lnTo>
                    <a:pt x="335" y="214"/>
                  </a:lnTo>
                  <a:lnTo>
                    <a:pt x="337" y="217"/>
                  </a:lnTo>
                  <a:lnTo>
                    <a:pt x="339" y="219"/>
                  </a:lnTo>
                  <a:lnTo>
                    <a:pt x="342" y="221"/>
                  </a:lnTo>
                  <a:lnTo>
                    <a:pt x="343" y="225"/>
                  </a:lnTo>
                  <a:lnTo>
                    <a:pt x="346" y="227"/>
                  </a:lnTo>
                  <a:lnTo>
                    <a:pt x="348" y="229"/>
                  </a:lnTo>
                  <a:lnTo>
                    <a:pt x="349" y="232"/>
                  </a:lnTo>
                  <a:lnTo>
                    <a:pt x="352" y="234"/>
                  </a:lnTo>
                  <a:lnTo>
                    <a:pt x="355" y="237"/>
                  </a:lnTo>
                  <a:lnTo>
                    <a:pt x="356" y="239"/>
                  </a:lnTo>
                  <a:lnTo>
                    <a:pt x="358" y="242"/>
                  </a:lnTo>
                  <a:lnTo>
                    <a:pt x="361" y="244"/>
                  </a:lnTo>
                  <a:lnTo>
                    <a:pt x="362" y="247"/>
                  </a:lnTo>
                  <a:lnTo>
                    <a:pt x="365" y="250"/>
                  </a:lnTo>
                  <a:lnTo>
                    <a:pt x="367" y="252"/>
                  </a:lnTo>
                  <a:lnTo>
                    <a:pt x="369" y="254"/>
                  </a:lnTo>
                  <a:lnTo>
                    <a:pt x="371" y="257"/>
                  </a:lnTo>
                  <a:lnTo>
                    <a:pt x="374" y="259"/>
                  </a:lnTo>
                  <a:lnTo>
                    <a:pt x="375" y="262"/>
                  </a:lnTo>
                  <a:lnTo>
                    <a:pt x="378" y="264"/>
                  </a:lnTo>
                  <a:lnTo>
                    <a:pt x="379" y="267"/>
                  </a:lnTo>
                  <a:lnTo>
                    <a:pt x="381" y="270"/>
                  </a:lnTo>
                  <a:lnTo>
                    <a:pt x="384" y="272"/>
                  </a:lnTo>
                  <a:lnTo>
                    <a:pt x="385" y="275"/>
                  </a:lnTo>
                  <a:lnTo>
                    <a:pt x="389" y="277"/>
                  </a:lnTo>
                  <a:lnTo>
                    <a:pt x="390" y="280"/>
                  </a:lnTo>
                  <a:lnTo>
                    <a:pt x="393" y="283"/>
                  </a:lnTo>
                  <a:lnTo>
                    <a:pt x="396" y="285"/>
                  </a:lnTo>
                  <a:lnTo>
                    <a:pt x="397" y="288"/>
                  </a:lnTo>
                  <a:lnTo>
                    <a:pt x="399" y="290"/>
                  </a:lnTo>
                  <a:lnTo>
                    <a:pt x="401" y="294"/>
                  </a:lnTo>
                  <a:lnTo>
                    <a:pt x="403" y="296"/>
                  </a:lnTo>
                  <a:lnTo>
                    <a:pt x="406" y="298"/>
                  </a:lnTo>
                  <a:lnTo>
                    <a:pt x="407" y="301"/>
                  </a:lnTo>
                  <a:lnTo>
                    <a:pt x="410" y="303"/>
                  </a:lnTo>
                  <a:lnTo>
                    <a:pt x="412" y="306"/>
                  </a:lnTo>
                  <a:lnTo>
                    <a:pt x="413" y="308"/>
                  </a:lnTo>
                  <a:lnTo>
                    <a:pt x="416" y="311"/>
                  </a:lnTo>
                  <a:lnTo>
                    <a:pt x="419" y="313"/>
                  </a:lnTo>
                  <a:lnTo>
                    <a:pt x="420" y="317"/>
                  </a:lnTo>
                  <a:lnTo>
                    <a:pt x="422" y="319"/>
                  </a:lnTo>
                  <a:lnTo>
                    <a:pt x="425" y="322"/>
                  </a:lnTo>
                  <a:lnTo>
                    <a:pt x="426" y="324"/>
                  </a:lnTo>
                  <a:lnTo>
                    <a:pt x="429" y="327"/>
                  </a:lnTo>
                  <a:lnTo>
                    <a:pt x="431" y="330"/>
                  </a:lnTo>
                  <a:lnTo>
                    <a:pt x="433" y="332"/>
                  </a:lnTo>
                  <a:lnTo>
                    <a:pt x="435" y="335"/>
                  </a:lnTo>
                  <a:lnTo>
                    <a:pt x="438" y="338"/>
                  </a:lnTo>
                  <a:lnTo>
                    <a:pt x="439" y="341"/>
                  </a:lnTo>
                  <a:lnTo>
                    <a:pt x="442" y="343"/>
                  </a:lnTo>
                  <a:lnTo>
                    <a:pt x="443" y="346"/>
                  </a:lnTo>
                  <a:lnTo>
                    <a:pt x="446" y="348"/>
                  </a:lnTo>
                  <a:lnTo>
                    <a:pt x="448" y="351"/>
                  </a:lnTo>
                  <a:lnTo>
                    <a:pt x="449" y="353"/>
                  </a:lnTo>
                  <a:lnTo>
                    <a:pt x="452" y="356"/>
                  </a:lnTo>
                  <a:lnTo>
                    <a:pt x="454" y="358"/>
                  </a:lnTo>
                  <a:lnTo>
                    <a:pt x="456" y="362"/>
                  </a:lnTo>
                  <a:lnTo>
                    <a:pt x="458" y="364"/>
                  </a:lnTo>
                  <a:lnTo>
                    <a:pt x="461" y="367"/>
                  </a:lnTo>
                  <a:lnTo>
                    <a:pt x="462" y="369"/>
                  </a:lnTo>
                  <a:lnTo>
                    <a:pt x="465" y="372"/>
                  </a:lnTo>
                  <a:lnTo>
                    <a:pt x="467" y="374"/>
                  </a:lnTo>
                  <a:lnTo>
                    <a:pt x="469" y="377"/>
                  </a:lnTo>
                  <a:lnTo>
                    <a:pt x="471" y="379"/>
                  </a:lnTo>
                  <a:lnTo>
                    <a:pt x="474" y="383"/>
                  </a:lnTo>
                  <a:lnTo>
                    <a:pt x="475" y="385"/>
                  </a:lnTo>
                  <a:lnTo>
                    <a:pt x="478" y="388"/>
                  </a:lnTo>
                  <a:lnTo>
                    <a:pt x="480" y="390"/>
                  </a:lnTo>
                  <a:lnTo>
                    <a:pt x="483" y="393"/>
                  </a:lnTo>
                  <a:lnTo>
                    <a:pt x="484" y="395"/>
                  </a:lnTo>
                  <a:lnTo>
                    <a:pt x="486" y="398"/>
                  </a:lnTo>
                  <a:lnTo>
                    <a:pt x="489" y="400"/>
                  </a:lnTo>
                  <a:lnTo>
                    <a:pt x="490" y="403"/>
                  </a:lnTo>
                  <a:lnTo>
                    <a:pt x="493" y="406"/>
                  </a:lnTo>
                  <a:lnTo>
                    <a:pt x="495" y="408"/>
                  </a:lnTo>
                  <a:lnTo>
                    <a:pt x="497" y="411"/>
                  </a:lnTo>
                  <a:lnTo>
                    <a:pt x="499" y="413"/>
                  </a:lnTo>
                  <a:lnTo>
                    <a:pt x="502" y="416"/>
                  </a:lnTo>
                  <a:lnTo>
                    <a:pt x="503" y="418"/>
                  </a:lnTo>
                  <a:lnTo>
                    <a:pt x="506" y="421"/>
                  </a:lnTo>
                  <a:lnTo>
                    <a:pt x="508" y="423"/>
                  </a:lnTo>
                  <a:lnTo>
                    <a:pt x="510" y="426"/>
                  </a:lnTo>
                  <a:lnTo>
                    <a:pt x="512" y="429"/>
                  </a:lnTo>
                  <a:lnTo>
                    <a:pt x="513" y="432"/>
                  </a:lnTo>
                  <a:lnTo>
                    <a:pt x="516" y="434"/>
                  </a:lnTo>
                  <a:lnTo>
                    <a:pt x="519" y="436"/>
                  </a:lnTo>
                  <a:lnTo>
                    <a:pt x="520" y="439"/>
                  </a:lnTo>
                  <a:lnTo>
                    <a:pt x="522" y="441"/>
                  </a:lnTo>
                  <a:lnTo>
                    <a:pt x="525" y="443"/>
                  </a:lnTo>
                  <a:lnTo>
                    <a:pt x="526" y="446"/>
                  </a:lnTo>
                  <a:lnTo>
                    <a:pt x="529" y="448"/>
                  </a:lnTo>
                  <a:lnTo>
                    <a:pt x="531" y="451"/>
                  </a:lnTo>
                  <a:lnTo>
                    <a:pt x="533" y="454"/>
                  </a:lnTo>
                  <a:lnTo>
                    <a:pt x="535" y="456"/>
                  </a:lnTo>
                  <a:lnTo>
                    <a:pt x="538" y="458"/>
                  </a:lnTo>
                  <a:lnTo>
                    <a:pt x="539" y="461"/>
                  </a:lnTo>
                  <a:lnTo>
                    <a:pt x="542" y="463"/>
                  </a:lnTo>
                  <a:lnTo>
                    <a:pt x="544" y="465"/>
                  </a:lnTo>
                  <a:lnTo>
                    <a:pt x="545" y="467"/>
                  </a:lnTo>
                  <a:lnTo>
                    <a:pt x="548" y="470"/>
                  </a:lnTo>
                  <a:lnTo>
                    <a:pt x="551" y="472"/>
                  </a:lnTo>
                  <a:lnTo>
                    <a:pt x="552" y="476"/>
                  </a:lnTo>
                  <a:lnTo>
                    <a:pt x="554" y="478"/>
                  </a:lnTo>
                  <a:lnTo>
                    <a:pt x="557" y="480"/>
                  </a:lnTo>
                  <a:lnTo>
                    <a:pt x="558" y="482"/>
                  </a:lnTo>
                  <a:lnTo>
                    <a:pt x="561" y="485"/>
                  </a:lnTo>
                  <a:lnTo>
                    <a:pt x="563" y="487"/>
                  </a:lnTo>
                  <a:lnTo>
                    <a:pt x="566" y="489"/>
                  </a:lnTo>
                  <a:lnTo>
                    <a:pt x="568" y="491"/>
                  </a:lnTo>
                  <a:lnTo>
                    <a:pt x="570" y="493"/>
                  </a:lnTo>
                  <a:lnTo>
                    <a:pt x="572" y="495"/>
                  </a:lnTo>
                  <a:lnTo>
                    <a:pt x="575" y="498"/>
                  </a:lnTo>
                  <a:lnTo>
                    <a:pt x="576" y="501"/>
                  </a:lnTo>
                  <a:lnTo>
                    <a:pt x="579" y="503"/>
                  </a:lnTo>
                  <a:lnTo>
                    <a:pt x="580" y="505"/>
                  </a:lnTo>
                  <a:lnTo>
                    <a:pt x="583" y="507"/>
                  </a:lnTo>
                  <a:lnTo>
                    <a:pt x="585" y="509"/>
                  </a:lnTo>
                  <a:lnTo>
                    <a:pt x="586" y="511"/>
                  </a:lnTo>
                  <a:lnTo>
                    <a:pt x="589" y="513"/>
                  </a:lnTo>
                  <a:lnTo>
                    <a:pt x="591" y="515"/>
                  </a:lnTo>
                  <a:lnTo>
                    <a:pt x="593" y="517"/>
                  </a:lnTo>
                  <a:lnTo>
                    <a:pt x="595" y="520"/>
                  </a:lnTo>
                  <a:lnTo>
                    <a:pt x="598" y="523"/>
                  </a:lnTo>
                  <a:lnTo>
                    <a:pt x="599" y="525"/>
                  </a:lnTo>
                  <a:lnTo>
                    <a:pt x="602" y="527"/>
                  </a:lnTo>
                  <a:lnTo>
                    <a:pt x="604" y="529"/>
                  </a:lnTo>
                  <a:lnTo>
                    <a:pt x="606" y="531"/>
                  </a:lnTo>
                  <a:lnTo>
                    <a:pt x="608" y="533"/>
                  </a:lnTo>
                  <a:lnTo>
                    <a:pt x="611" y="534"/>
                  </a:lnTo>
                  <a:lnTo>
                    <a:pt x="612" y="536"/>
                  </a:lnTo>
                  <a:lnTo>
                    <a:pt x="615" y="538"/>
                  </a:lnTo>
                  <a:lnTo>
                    <a:pt x="617" y="540"/>
                  </a:lnTo>
                  <a:lnTo>
                    <a:pt x="618" y="543"/>
                  </a:lnTo>
                  <a:lnTo>
                    <a:pt x="621" y="545"/>
                  </a:lnTo>
                  <a:lnTo>
                    <a:pt x="624" y="547"/>
                  </a:lnTo>
                  <a:lnTo>
                    <a:pt x="625" y="549"/>
                  </a:lnTo>
                  <a:lnTo>
                    <a:pt x="627" y="550"/>
                  </a:lnTo>
                  <a:lnTo>
                    <a:pt x="629" y="552"/>
                  </a:lnTo>
                  <a:lnTo>
                    <a:pt x="631" y="554"/>
                  </a:lnTo>
                  <a:lnTo>
                    <a:pt x="634" y="556"/>
                  </a:lnTo>
                  <a:lnTo>
                    <a:pt x="635" y="558"/>
                  </a:lnTo>
                  <a:lnTo>
                    <a:pt x="638" y="559"/>
                  </a:lnTo>
                  <a:lnTo>
                    <a:pt x="640" y="561"/>
                  </a:lnTo>
                  <a:lnTo>
                    <a:pt x="641" y="563"/>
                  </a:lnTo>
                  <a:lnTo>
                    <a:pt x="644" y="566"/>
                  </a:lnTo>
                  <a:lnTo>
                    <a:pt x="647" y="567"/>
                  </a:lnTo>
                  <a:lnTo>
                    <a:pt x="648" y="569"/>
                  </a:lnTo>
                  <a:lnTo>
                    <a:pt x="650" y="571"/>
                  </a:lnTo>
                  <a:lnTo>
                    <a:pt x="653" y="573"/>
                  </a:lnTo>
                  <a:lnTo>
                    <a:pt x="656" y="574"/>
                  </a:lnTo>
                  <a:lnTo>
                    <a:pt x="657" y="576"/>
                  </a:lnTo>
                  <a:lnTo>
                    <a:pt x="659" y="578"/>
                  </a:lnTo>
                  <a:lnTo>
                    <a:pt x="662" y="579"/>
                  </a:lnTo>
                  <a:lnTo>
                    <a:pt x="663" y="581"/>
                  </a:lnTo>
                  <a:lnTo>
                    <a:pt x="666" y="582"/>
                  </a:lnTo>
                  <a:lnTo>
                    <a:pt x="668" y="584"/>
                  </a:lnTo>
                  <a:lnTo>
                    <a:pt x="670" y="585"/>
                  </a:lnTo>
                  <a:lnTo>
                    <a:pt x="672" y="588"/>
                  </a:lnTo>
                  <a:lnTo>
                    <a:pt x="675" y="589"/>
                  </a:lnTo>
                  <a:lnTo>
                    <a:pt x="676" y="591"/>
                  </a:lnTo>
                  <a:lnTo>
                    <a:pt x="679" y="592"/>
                  </a:lnTo>
                  <a:lnTo>
                    <a:pt x="681" y="594"/>
                  </a:lnTo>
                  <a:lnTo>
                    <a:pt x="682" y="595"/>
                  </a:lnTo>
                  <a:lnTo>
                    <a:pt x="685" y="597"/>
                  </a:lnTo>
                  <a:lnTo>
                    <a:pt x="688" y="598"/>
                  </a:lnTo>
                  <a:lnTo>
                    <a:pt x="689" y="599"/>
                  </a:lnTo>
                  <a:lnTo>
                    <a:pt x="691" y="601"/>
                  </a:lnTo>
                  <a:lnTo>
                    <a:pt x="694" y="602"/>
                  </a:lnTo>
                  <a:lnTo>
                    <a:pt x="695" y="603"/>
                  </a:lnTo>
                  <a:lnTo>
                    <a:pt x="698" y="605"/>
                  </a:lnTo>
                  <a:lnTo>
                    <a:pt x="699" y="606"/>
                  </a:lnTo>
                  <a:lnTo>
                    <a:pt x="702" y="607"/>
                  </a:lnTo>
                  <a:lnTo>
                    <a:pt x="704" y="610"/>
                  </a:lnTo>
                  <a:lnTo>
                    <a:pt x="705" y="611"/>
                  </a:lnTo>
                  <a:lnTo>
                    <a:pt x="708" y="612"/>
                  </a:lnTo>
                  <a:lnTo>
                    <a:pt x="711" y="613"/>
                  </a:lnTo>
                  <a:lnTo>
                    <a:pt x="712" y="614"/>
                  </a:lnTo>
                  <a:lnTo>
                    <a:pt x="714" y="616"/>
                  </a:lnTo>
                  <a:lnTo>
                    <a:pt x="717" y="617"/>
                  </a:lnTo>
                  <a:lnTo>
                    <a:pt x="718" y="618"/>
                  </a:lnTo>
                  <a:lnTo>
                    <a:pt x="721" y="620"/>
                  </a:lnTo>
                  <a:lnTo>
                    <a:pt x="723" y="621"/>
                  </a:lnTo>
                  <a:lnTo>
                    <a:pt x="725" y="622"/>
                  </a:lnTo>
                  <a:lnTo>
                    <a:pt x="727" y="623"/>
                  </a:lnTo>
                  <a:lnTo>
                    <a:pt x="730" y="624"/>
                  </a:lnTo>
                  <a:lnTo>
                    <a:pt x="731" y="625"/>
                  </a:lnTo>
                  <a:lnTo>
                    <a:pt x="734" y="626"/>
                  </a:lnTo>
                  <a:lnTo>
                    <a:pt x="736" y="627"/>
                  </a:lnTo>
                  <a:lnTo>
                    <a:pt x="737" y="628"/>
                  </a:lnTo>
                  <a:lnTo>
                    <a:pt x="740" y="629"/>
                  </a:lnTo>
                  <a:lnTo>
                    <a:pt x="743" y="630"/>
                  </a:lnTo>
                  <a:lnTo>
                    <a:pt x="745" y="631"/>
                  </a:lnTo>
                  <a:lnTo>
                    <a:pt x="746" y="633"/>
                  </a:lnTo>
                  <a:lnTo>
                    <a:pt x="749" y="633"/>
                  </a:lnTo>
                  <a:lnTo>
                    <a:pt x="752" y="634"/>
                  </a:lnTo>
                  <a:lnTo>
                    <a:pt x="753" y="635"/>
                  </a:lnTo>
                  <a:lnTo>
                    <a:pt x="755" y="636"/>
                  </a:lnTo>
                  <a:lnTo>
                    <a:pt x="758" y="637"/>
                  </a:lnTo>
                  <a:lnTo>
                    <a:pt x="759" y="638"/>
                  </a:lnTo>
                  <a:lnTo>
                    <a:pt x="762" y="638"/>
                  </a:lnTo>
                  <a:lnTo>
                    <a:pt x="763" y="639"/>
                  </a:lnTo>
                  <a:lnTo>
                    <a:pt x="766" y="640"/>
                  </a:lnTo>
                  <a:lnTo>
                    <a:pt x="768" y="641"/>
                  </a:lnTo>
                  <a:lnTo>
                    <a:pt x="769" y="641"/>
                  </a:lnTo>
                  <a:lnTo>
                    <a:pt x="772" y="642"/>
                  </a:lnTo>
                  <a:lnTo>
                    <a:pt x="775" y="643"/>
                  </a:lnTo>
                  <a:lnTo>
                    <a:pt x="776" y="643"/>
                  </a:lnTo>
                  <a:lnTo>
                    <a:pt x="778" y="644"/>
                  </a:lnTo>
                  <a:lnTo>
                    <a:pt x="781" y="645"/>
                  </a:lnTo>
                  <a:lnTo>
                    <a:pt x="782" y="645"/>
                  </a:lnTo>
                  <a:lnTo>
                    <a:pt x="785" y="646"/>
                  </a:lnTo>
                  <a:lnTo>
                    <a:pt x="787" y="646"/>
                  </a:lnTo>
                  <a:lnTo>
                    <a:pt x="789" y="647"/>
                  </a:lnTo>
                  <a:lnTo>
                    <a:pt x="791" y="647"/>
                  </a:lnTo>
                  <a:lnTo>
                    <a:pt x="794" y="648"/>
                  </a:lnTo>
                  <a:lnTo>
                    <a:pt x="795" y="648"/>
                  </a:lnTo>
                  <a:lnTo>
                    <a:pt x="798" y="649"/>
                  </a:lnTo>
                  <a:lnTo>
                    <a:pt x="800" y="649"/>
                  </a:lnTo>
                  <a:lnTo>
                    <a:pt x="802" y="650"/>
                  </a:lnTo>
                  <a:lnTo>
                    <a:pt x="804" y="650"/>
                  </a:lnTo>
                  <a:lnTo>
                    <a:pt x="805" y="651"/>
                  </a:lnTo>
                  <a:lnTo>
                    <a:pt x="808" y="651"/>
                  </a:lnTo>
                  <a:lnTo>
                    <a:pt x="810" y="651"/>
                  </a:lnTo>
                  <a:lnTo>
                    <a:pt x="812" y="652"/>
                  </a:lnTo>
                  <a:lnTo>
                    <a:pt x="814" y="652"/>
                  </a:lnTo>
                  <a:lnTo>
                    <a:pt x="817" y="652"/>
                  </a:lnTo>
                  <a:lnTo>
                    <a:pt x="818" y="653"/>
                  </a:lnTo>
                  <a:lnTo>
                    <a:pt x="821" y="653"/>
                  </a:lnTo>
                  <a:lnTo>
                    <a:pt x="823" y="653"/>
                  </a:lnTo>
                  <a:lnTo>
                    <a:pt x="825" y="655"/>
                  </a:lnTo>
                  <a:lnTo>
                    <a:pt x="827" y="655"/>
                  </a:lnTo>
                  <a:lnTo>
                    <a:pt x="830" y="655"/>
                  </a:lnTo>
                  <a:lnTo>
                    <a:pt x="832" y="655"/>
                  </a:lnTo>
                  <a:lnTo>
                    <a:pt x="834" y="655"/>
                  </a:lnTo>
                  <a:lnTo>
                    <a:pt x="836" y="656"/>
                  </a:lnTo>
                  <a:lnTo>
                    <a:pt x="839" y="656"/>
                  </a:lnTo>
                  <a:lnTo>
                    <a:pt x="840" y="656"/>
                  </a:lnTo>
                  <a:lnTo>
                    <a:pt x="842" y="656"/>
                  </a:lnTo>
                  <a:lnTo>
                    <a:pt x="845" y="656"/>
                  </a:lnTo>
                  <a:lnTo>
                    <a:pt x="846" y="656"/>
                  </a:lnTo>
                  <a:lnTo>
                    <a:pt x="849" y="656"/>
                  </a:lnTo>
                  <a:lnTo>
                    <a:pt x="851" y="656"/>
                  </a:lnTo>
                  <a:lnTo>
                    <a:pt x="853" y="656"/>
                  </a:lnTo>
                  <a:lnTo>
                    <a:pt x="855" y="656"/>
                  </a:lnTo>
                  <a:lnTo>
                    <a:pt x="858" y="656"/>
                  </a:lnTo>
                  <a:lnTo>
                    <a:pt x="859" y="656"/>
                  </a:lnTo>
                  <a:lnTo>
                    <a:pt x="862" y="656"/>
                  </a:lnTo>
                  <a:lnTo>
                    <a:pt x="864" y="656"/>
                  </a:lnTo>
                  <a:lnTo>
                    <a:pt x="866" y="656"/>
                  </a:lnTo>
                  <a:lnTo>
                    <a:pt x="868" y="656"/>
                  </a:lnTo>
                  <a:lnTo>
                    <a:pt x="869" y="656"/>
                  </a:lnTo>
                  <a:lnTo>
                    <a:pt x="872" y="656"/>
                  </a:lnTo>
                  <a:lnTo>
                    <a:pt x="874" y="656"/>
                  </a:lnTo>
                  <a:lnTo>
                    <a:pt x="876" y="656"/>
                  </a:lnTo>
                  <a:lnTo>
                    <a:pt x="878" y="656"/>
                  </a:lnTo>
                  <a:lnTo>
                    <a:pt x="881" y="656"/>
                  </a:lnTo>
                  <a:lnTo>
                    <a:pt x="882" y="656"/>
                  </a:lnTo>
                  <a:lnTo>
                    <a:pt x="885" y="655"/>
                  </a:lnTo>
                  <a:lnTo>
                    <a:pt x="887" y="655"/>
                  </a:lnTo>
                  <a:lnTo>
                    <a:pt x="889" y="655"/>
                  </a:lnTo>
                  <a:lnTo>
                    <a:pt x="891" y="655"/>
                  </a:lnTo>
                  <a:lnTo>
                    <a:pt x="894" y="655"/>
                  </a:lnTo>
                  <a:lnTo>
                    <a:pt x="895" y="653"/>
                  </a:lnTo>
                  <a:lnTo>
                    <a:pt x="898" y="653"/>
                  </a:lnTo>
                  <a:lnTo>
                    <a:pt x="900" y="653"/>
                  </a:lnTo>
                  <a:lnTo>
                    <a:pt x="901" y="653"/>
                  </a:lnTo>
                  <a:lnTo>
                    <a:pt x="904" y="652"/>
                  </a:lnTo>
                  <a:lnTo>
                    <a:pt x="907" y="652"/>
                  </a:lnTo>
                  <a:lnTo>
                    <a:pt x="908" y="652"/>
                  </a:lnTo>
                  <a:lnTo>
                    <a:pt x="910" y="651"/>
                  </a:lnTo>
                  <a:lnTo>
                    <a:pt x="913" y="651"/>
                  </a:lnTo>
                  <a:lnTo>
                    <a:pt x="914" y="651"/>
                  </a:lnTo>
                  <a:lnTo>
                    <a:pt x="917" y="650"/>
                  </a:lnTo>
                  <a:lnTo>
                    <a:pt x="919" y="650"/>
                  </a:lnTo>
                  <a:lnTo>
                    <a:pt x="922" y="650"/>
                  </a:lnTo>
                  <a:lnTo>
                    <a:pt x="923" y="649"/>
                  </a:lnTo>
                  <a:lnTo>
                    <a:pt x="926" y="649"/>
                  </a:lnTo>
                  <a:lnTo>
                    <a:pt x="928" y="648"/>
                  </a:lnTo>
                  <a:lnTo>
                    <a:pt x="930" y="648"/>
                  </a:lnTo>
                  <a:lnTo>
                    <a:pt x="932" y="647"/>
                  </a:lnTo>
                  <a:lnTo>
                    <a:pt x="935" y="647"/>
                  </a:lnTo>
                  <a:lnTo>
                    <a:pt x="936" y="647"/>
                  </a:lnTo>
                  <a:lnTo>
                    <a:pt x="939" y="646"/>
                  </a:lnTo>
                  <a:lnTo>
                    <a:pt x="941" y="646"/>
                  </a:lnTo>
                  <a:lnTo>
                    <a:pt x="942" y="645"/>
                  </a:lnTo>
                  <a:lnTo>
                    <a:pt x="945" y="645"/>
                  </a:lnTo>
                  <a:lnTo>
                    <a:pt x="947" y="644"/>
                  </a:lnTo>
                  <a:lnTo>
                    <a:pt x="949" y="644"/>
                  </a:lnTo>
                  <a:lnTo>
                    <a:pt x="951" y="643"/>
                  </a:lnTo>
                  <a:lnTo>
                    <a:pt x="954" y="643"/>
                  </a:lnTo>
                  <a:lnTo>
                    <a:pt x="955" y="642"/>
                  </a:lnTo>
                  <a:lnTo>
                    <a:pt x="958" y="641"/>
                  </a:lnTo>
                  <a:lnTo>
                    <a:pt x="960" y="641"/>
                  </a:lnTo>
                  <a:lnTo>
                    <a:pt x="962" y="640"/>
                  </a:lnTo>
                  <a:lnTo>
                    <a:pt x="964" y="640"/>
                  </a:lnTo>
                  <a:lnTo>
                    <a:pt x="967" y="639"/>
                  </a:lnTo>
                  <a:lnTo>
                    <a:pt x="968" y="639"/>
                  </a:lnTo>
                  <a:lnTo>
                    <a:pt x="971" y="638"/>
                  </a:lnTo>
                  <a:lnTo>
                    <a:pt x="973" y="637"/>
                  </a:lnTo>
                  <a:lnTo>
                    <a:pt x="974" y="637"/>
                  </a:lnTo>
                  <a:lnTo>
                    <a:pt x="977" y="636"/>
                  </a:lnTo>
                  <a:lnTo>
                    <a:pt x="980" y="635"/>
                  </a:lnTo>
                  <a:lnTo>
                    <a:pt x="981" y="635"/>
                  </a:lnTo>
                  <a:lnTo>
                    <a:pt x="983" y="634"/>
                  </a:lnTo>
                  <a:lnTo>
                    <a:pt x="986" y="634"/>
                  </a:lnTo>
                  <a:lnTo>
                    <a:pt x="987" y="633"/>
                  </a:lnTo>
                  <a:lnTo>
                    <a:pt x="990" y="631"/>
                  </a:lnTo>
                  <a:lnTo>
                    <a:pt x="991" y="631"/>
                  </a:lnTo>
                  <a:lnTo>
                    <a:pt x="994" y="630"/>
                  </a:lnTo>
                  <a:lnTo>
                    <a:pt x="996" y="629"/>
                  </a:lnTo>
                  <a:lnTo>
                    <a:pt x="997" y="628"/>
                  </a:lnTo>
                  <a:lnTo>
                    <a:pt x="1000" y="628"/>
                  </a:lnTo>
                  <a:lnTo>
                    <a:pt x="1003" y="627"/>
                  </a:lnTo>
                  <a:lnTo>
                    <a:pt x="1004" y="626"/>
                  </a:lnTo>
                  <a:lnTo>
                    <a:pt x="1008" y="626"/>
                  </a:lnTo>
                  <a:lnTo>
                    <a:pt x="1009" y="625"/>
                  </a:lnTo>
                  <a:lnTo>
                    <a:pt x="1012" y="624"/>
                  </a:lnTo>
                  <a:lnTo>
                    <a:pt x="1013" y="623"/>
                  </a:lnTo>
                  <a:lnTo>
                    <a:pt x="1015" y="623"/>
                  </a:lnTo>
                  <a:lnTo>
                    <a:pt x="1018" y="622"/>
                  </a:lnTo>
                  <a:lnTo>
                    <a:pt x="1019" y="621"/>
                  </a:lnTo>
                  <a:lnTo>
                    <a:pt x="1022" y="620"/>
                  </a:lnTo>
                  <a:lnTo>
                    <a:pt x="1024" y="620"/>
                  </a:lnTo>
                  <a:lnTo>
                    <a:pt x="1026" y="619"/>
                  </a:lnTo>
                  <a:lnTo>
                    <a:pt x="1028" y="618"/>
                  </a:lnTo>
                  <a:lnTo>
                    <a:pt x="1031" y="617"/>
                  </a:lnTo>
                  <a:lnTo>
                    <a:pt x="1032" y="617"/>
                  </a:lnTo>
                  <a:lnTo>
                    <a:pt x="1035" y="615"/>
                  </a:lnTo>
                  <a:lnTo>
                    <a:pt x="1037" y="615"/>
                  </a:lnTo>
                  <a:lnTo>
                    <a:pt x="1038" y="614"/>
                  </a:lnTo>
                  <a:lnTo>
                    <a:pt x="1041" y="613"/>
                  </a:lnTo>
                  <a:lnTo>
                    <a:pt x="1044" y="612"/>
                  </a:lnTo>
                  <a:lnTo>
                    <a:pt x="1045" y="611"/>
                  </a:lnTo>
                  <a:lnTo>
                    <a:pt x="1047" y="611"/>
                  </a:lnTo>
                  <a:lnTo>
                    <a:pt x="1050" y="610"/>
                  </a:lnTo>
                  <a:lnTo>
                    <a:pt x="1051" y="608"/>
                  </a:lnTo>
                  <a:lnTo>
                    <a:pt x="1054" y="607"/>
                  </a:lnTo>
                  <a:lnTo>
                    <a:pt x="1056" y="606"/>
                  </a:lnTo>
                  <a:lnTo>
                    <a:pt x="1058" y="606"/>
                  </a:lnTo>
                  <a:lnTo>
                    <a:pt x="1060" y="605"/>
                  </a:lnTo>
                  <a:lnTo>
                    <a:pt x="1061" y="604"/>
                  </a:lnTo>
                  <a:lnTo>
                    <a:pt x="1064" y="603"/>
                  </a:lnTo>
                </a:path>
              </a:pathLst>
            </a:custGeom>
            <a:noFill/>
            <a:ln w="2232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830760" y="2601000"/>
              <a:ext cx="2076480" cy="197640"/>
            </a:xfrm>
            <a:custGeom>
              <a:avLst/>
              <a:gdLst/>
              <a:ahLst/>
              <a:rect l="l" t="t" r="r" b="b"/>
              <a:pathLst>
                <a:path w="1064" h="334">
                  <a:moveTo>
                    <a:pt x="0" y="71"/>
                  </a:moveTo>
                  <a:lnTo>
                    <a:pt x="3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9" y="68"/>
                  </a:lnTo>
                  <a:lnTo>
                    <a:pt x="10" y="67"/>
                  </a:lnTo>
                  <a:lnTo>
                    <a:pt x="13" y="66"/>
                  </a:lnTo>
                  <a:lnTo>
                    <a:pt x="15" y="66"/>
                  </a:lnTo>
                  <a:lnTo>
                    <a:pt x="17" y="65"/>
                  </a:lnTo>
                  <a:lnTo>
                    <a:pt x="19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28" y="61"/>
                  </a:lnTo>
                  <a:lnTo>
                    <a:pt x="31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7" y="58"/>
                  </a:lnTo>
                  <a:lnTo>
                    <a:pt x="38" y="57"/>
                  </a:lnTo>
                  <a:lnTo>
                    <a:pt x="41" y="56"/>
                  </a:lnTo>
                  <a:lnTo>
                    <a:pt x="44" y="55"/>
                  </a:lnTo>
                  <a:lnTo>
                    <a:pt x="45" y="53"/>
                  </a:lnTo>
                  <a:lnTo>
                    <a:pt x="47" y="53"/>
                  </a:lnTo>
                  <a:lnTo>
                    <a:pt x="50" y="52"/>
                  </a:lnTo>
                  <a:lnTo>
                    <a:pt x="51" y="51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8" y="49"/>
                  </a:lnTo>
                  <a:lnTo>
                    <a:pt x="60" y="48"/>
                  </a:lnTo>
                  <a:lnTo>
                    <a:pt x="61" y="47"/>
                  </a:lnTo>
                  <a:lnTo>
                    <a:pt x="64" y="47"/>
                  </a:lnTo>
                  <a:lnTo>
                    <a:pt x="67" y="46"/>
                  </a:lnTo>
                  <a:lnTo>
                    <a:pt x="68" y="45"/>
                  </a:lnTo>
                  <a:lnTo>
                    <a:pt x="70" y="44"/>
                  </a:lnTo>
                  <a:lnTo>
                    <a:pt x="73" y="44"/>
                  </a:lnTo>
                  <a:lnTo>
                    <a:pt x="74" y="43"/>
                  </a:lnTo>
                  <a:lnTo>
                    <a:pt x="77" y="42"/>
                  </a:lnTo>
                  <a:lnTo>
                    <a:pt x="79" y="41"/>
                  </a:lnTo>
                  <a:lnTo>
                    <a:pt x="81" y="41"/>
                  </a:lnTo>
                  <a:lnTo>
                    <a:pt x="83" y="40"/>
                  </a:lnTo>
                  <a:lnTo>
                    <a:pt x="86" y="39"/>
                  </a:lnTo>
                  <a:lnTo>
                    <a:pt x="87" y="38"/>
                  </a:lnTo>
                  <a:lnTo>
                    <a:pt x="90" y="38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6" y="35"/>
                  </a:lnTo>
                  <a:lnTo>
                    <a:pt x="99" y="34"/>
                  </a:lnTo>
                  <a:lnTo>
                    <a:pt x="100" y="34"/>
                  </a:lnTo>
                  <a:lnTo>
                    <a:pt x="102" y="33"/>
                  </a:lnTo>
                  <a:lnTo>
                    <a:pt x="104" y="31"/>
                  </a:lnTo>
                  <a:lnTo>
                    <a:pt x="106" y="31"/>
                  </a:lnTo>
                  <a:lnTo>
                    <a:pt x="109" y="30"/>
                  </a:lnTo>
                  <a:lnTo>
                    <a:pt x="110" y="29"/>
                  </a:lnTo>
                  <a:lnTo>
                    <a:pt x="113" y="29"/>
                  </a:lnTo>
                  <a:lnTo>
                    <a:pt x="115" y="28"/>
                  </a:lnTo>
                  <a:lnTo>
                    <a:pt x="118" y="27"/>
                  </a:lnTo>
                  <a:lnTo>
                    <a:pt x="120" y="27"/>
                  </a:lnTo>
                  <a:lnTo>
                    <a:pt x="122" y="26"/>
                  </a:lnTo>
                  <a:lnTo>
                    <a:pt x="124" y="25"/>
                  </a:lnTo>
                  <a:lnTo>
                    <a:pt x="126" y="25"/>
                  </a:lnTo>
                  <a:lnTo>
                    <a:pt x="128" y="24"/>
                  </a:lnTo>
                  <a:lnTo>
                    <a:pt x="131" y="24"/>
                  </a:lnTo>
                  <a:lnTo>
                    <a:pt x="132" y="23"/>
                  </a:lnTo>
                  <a:lnTo>
                    <a:pt x="134" y="22"/>
                  </a:lnTo>
                  <a:lnTo>
                    <a:pt x="137" y="22"/>
                  </a:lnTo>
                  <a:lnTo>
                    <a:pt x="138" y="21"/>
                  </a:lnTo>
                  <a:lnTo>
                    <a:pt x="141" y="21"/>
                  </a:lnTo>
                  <a:lnTo>
                    <a:pt x="143" y="20"/>
                  </a:lnTo>
                  <a:lnTo>
                    <a:pt x="145" y="20"/>
                  </a:lnTo>
                  <a:lnTo>
                    <a:pt x="147" y="19"/>
                  </a:lnTo>
                  <a:lnTo>
                    <a:pt x="150" y="18"/>
                  </a:lnTo>
                  <a:lnTo>
                    <a:pt x="151" y="18"/>
                  </a:lnTo>
                  <a:lnTo>
                    <a:pt x="154" y="17"/>
                  </a:lnTo>
                  <a:lnTo>
                    <a:pt x="156" y="17"/>
                  </a:lnTo>
                  <a:lnTo>
                    <a:pt x="158" y="16"/>
                  </a:lnTo>
                  <a:lnTo>
                    <a:pt x="160" y="16"/>
                  </a:lnTo>
                  <a:lnTo>
                    <a:pt x="163" y="15"/>
                  </a:lnTo>
                  <a:lnTo>
                    <a:pt x="164" y="15"/>
                  </a:lnTo>
                  <a:lnTo>
                    <a:pt x="166" y="14"/>
                  </a:lnTo>
                  <a:lnTo>
                    <a:pt x="168" y="14"/>
                  </a:lnTo>
                  <a:lnTo>
                    <a:pt x="170" y="13"/>
                  </a:lnTo>
                  <a:lnTo>
                    <a:pt x="173" y="13"/>
                  </a:lnTo>
                  <a:lnTo>
                    <a:pt x="174" y="13"/>
                  </a:lnTo>
                  <a:lnTo>
                    <a:pt x="177" y="12"/>
                  </a:lnTo>
                  <a:lnTo>
                    <a:pt x="179" y="12"/>
                  </a:lnTo>
                  <a:lnTo>
                    <a:pt x="181" y="11"/>
                  </a:lnTo>
                  <a:lnTo>
                    <a:pt x="183" y="11"/>
                  </a:lnTo>
                  <a:lnTo>
                    <a:pt x="186" y="10"/>
                  </a:lnTo>
                  <a:lnTo>
                    <a:pt x="187" y="10"/>
                  </a:lnTo>
                  <a:lnTo>
                    <a:pt x="190" y="10"/>
                  </a:lnTo>
                  <a:lnTo>
                    <a:pt x="192" y="8"/>
                  </a:lnTo>
                  <a:lnTo>
                    <a:pt x="193" y="8"/>
                  </a:lnTo>
                  <a:lnTo>
                    <a:pt x="196" y="7"/>
                  </a:lnTo>
                  <a:lnTo>
                    <a:pt x="199" y="7"/>
                  </a:lnTo>
                  <a:lnTo>
                    <a:pt x="200" y="7"/>
                  </a:lnTo>
                  <a:lnTo>
                    <a:pt x="202" y="6"/>
                  </a:lnTo>
                  <a:lnTo>
                    <a:pt x="205" y="6"/>
                  </a:lnTo>
                  <a:lnTo>
                    <a:pt x="207" y="6"/>
                  </a:lnTo>
                  <a:lnTo>
                    <a:pt x="209" y="5"/>
                  </a:lnTo>
                  <a:lnTo>
                    <a:pt x="211" y="5"/>
                  </a:lnTo>
                  <a:lnTo>
                    <a:pt x="214" y="5"/>
                  </a:lnTo>
                  <a:lnTo>
                    <a:pt x="215" y="5"/>
                  </a:lnTo>
                  <a:lnTo>
                    <a:pt x="218" y="4"/>
                  </a:lnTo>
                  <a:lnTo>
                    <a:pt x="220" y="4"/>
                  </a:lnTo>
                  <a:lnTo>
                    <a:pt x="222" y="4"/>
                  </a:lnTo>
                  <a:lnTo>
                    <a:pt x="224" y="4"/>
                  </a:lnTo>
                  <a:lnTo>
                    <a:pt x="227" y="3"/>
                  </a:lnTo>
                  <a:lnTo>
                    <a:pt x="228" y="3"/>
                  </a:lnTo>
                  <a:lnTo>
                    <a:pt x="231" y="3"/>
                  </a:lnTo>
                  <a:lnTo>
                    <a:pt x="233" y="3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2"/>
                  </a:lnTo>
                  <a:lnTo>
                    <a:pt x="241" y="2"/>
                  </a:lnTo>
                  <a:lnTo>
                    <a:pt x="243" y="2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50" y="1"/>
                  </a:lnTo>
                  <a:lnTo>
                    <a:pt x="252" y="1"/>
                  </a:lnTo>
                  <a:lnTo>
                    <a:pt x="254" y="1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1" y="1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6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2"/>
                  </a:lnTo>
                  <a:lnTo>
                    <a:pt x="330" y="3"/>
                  </a:lnTo>
                  <a:lnTo>
                    <a:pt x="333" y="3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9" y="4"/>
                  </a:lnTo>
                  <a:lnTo>
                    <a:pt x="342" y="4"/>
                  </a:lnTo>
                  <a:lnTo>
                    <a:pt x="343" y="4"/>
                  </a:lnTo>
                  <a:lnTo>
                    <a:pt x="346" y="4"/>
                  </a:lnTo>
                  <a:lnTo>
                    <a:pt x="348" y="5"/>
                  </a:lnTo>
                  <a:lnTo>
                    <a:pt x="350" y="5"/>
                  </a:lnTo>
                  <a:lnTo>
                    <a:pt x="352" y="5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9" y="6"/>
                  </a:lnTo>
                  <a:lnTo>
                    <a:pt x="360" y="6"/>
                  </a:lnTo>
                  <a:lnTo>
                    <a:pt x="362" y="7"/>
                  </a:lnTo>
                  <a:lnTo>
                    <a:pt x="365" y="7"/>
                  </a:lnTo>
                  <a:lnTo>
                    <a:pt x="366" y="8"/>
                  </a:lnTo>
                  <a:lnTo>
                    <a:pt x="369" y="8"/>
                  </a:lnTo>
                  <a:lnTo>
                    <a:pt x="371" y="8"/>
                  </a:lnTo>
                  <a:lnTo>
                    <a:pt x="373" y="10"/>
                  </a:lnTo>
                  <a:lnTo>
                    <a:pt x="375" y="10"/>
                  </a:lnTo>
                  <a:lnTo>
                    <a:pt x="378" y="10"/>
                  </a:lnTo>
                  <a:lnTo>
                    <a:pt x="379" y="11"/>
                  </a:lnTo>
                  <a:lnTo>
                    <a:pt x="382" y="11"/>
                  </a:lnTo>
                  <a:lnTo>
                    <a:pt x="384" y="12"/>
                  </a:lnTo>
                  <a:lnTo>
                    <a:pt x="387" y="12"/>
                  </a:lnTo>
                  <a:lnTo>
                    <a:pt x="388" y="13"/>
                  </a:lnTo>
                  <a:lnTo>
                    <a:pt x="391" y="13"/>
                  </a:lnTo>
                  <a:lnTo>
                    <a:pt x="393" y="13"/>
                  </a:lnTo>
                  <a:lnTo>
                    <a:pt x="394" y="14"/>
                  </a:lnTo>
                  <a:lnTo>
                    <a:pt x="397" y="14"/>
                  </a:lnTo>
                  <a:lnTo>
                    <a:pt x="400" y="15"/>
                  </a:lnTo>
                  <a:lnTo>
                    <a:pt x="401" y="15"/>
                  </a:lnTo>
                  <a:lnTo>
                    <a:pt x="403" y="16"/>
                  </a:lnTo>
                  <a:lnTo>
                    <a:pt x="406" y="16"/>
                  </a:lnTo>
                  <a:lnTo>
                    <a:pt x="407" y="17"/>
                  </a:lnTo>
                  <a:lnTo>
                    <a:pt x="410" y="17"/>
                  </a:lnTo>
                  <a:lnTo>
                    <a:pt x="412" y="18"/>
                  </a:lnTo>
                  <a:lnTo>
                    <a:pt x="414" y="18"/>
                  </a:lnTo>
                  <a:lnTo>
                    <a:pt x="416" y="19"/>
                  </a:lnTo>
                  <a:lnTo>
                    <a:pt x="419" y="19"/>
                  </a:lnTo>
                  <a:lnTo>
                    <a:pt x="420" y="20"/>
                  </a:lnTo>
                  <a:lnTo>
                    <a:pt x="423" y="20"/>
                  </a:lnTo>
                  <a:lnTo>
                    <a:pt x="424" y="21"/>
                  </a:lnTo>
                  <a:lnTo>
                    <a:pt x="426" y="22"/>
                  </a:lnTo>
                  <a:lnTo>
                    <a:pt x="429" y="22"/>
                  </a:lnTo>
                  <a:lnTo>
                    <a:pt x="430" y="23"/>
                  </a:lnTo>
                  <a:lnTo>
                    <a:pt x="433" y="23"/>
                  </a:lnTo>
                  <a:lnTo>
                    <a:pt x="435" y="24"/>
                  </a:lnTo>
                  <a:lnTo>
                    <a:pt x="437" y="24"/>
                  </a:lnTo>
                  <a:lnTo>
                    <a:pt x="439" y="25"/>
                  </a:lnTo>
                  <a:lnTo>
                    <a:pt x="442" y="26"/>
                  </a:lnTo>
                  <a:lnTo>
                    <a:pt x="443" y="26"/>
                  </a:lnTo>
                  <a:lnTo>
                    <a:pt x="446" y="27"/>
                  </a:lnTo>
                  <a:lnTo>
                    <a:pt x="448" y="27"/>
                  </a:lnTo>
                  <a:lnTo>
                    <a:pt x="449" y="28"/>
                  </a:lnTo>
                  <a:lnTo>
                    <a:pt x="452" y="29"/>
                  </a:lnTo>
                  <a:lnTo>
                    <a:pt x="455" y="29"/>
                  </a:lnTo>
                  <a:lnTo>
                    <a:pt x="456" y="30"/>
                  </a:lnTo>
                  <a:lnTo>
                    <a:pt x="458" y="31"/>
                  </a:lnTo>
                  <a:lnTo>
                    <a:pt x="461" y="31"/>
                  </a:lnTo>
                  <a:lnTo>
                    <a:pt x="462" y="33"/>
                  </a:lnTo>
                  <a:lnTo>
                    <a:pt x="465" y="34"/>
                  </a:lnTo>
                  <a:lnTo>
                    <a:pt x="466" y="34"/>
                  </a:lnTo>
                  <a:lnTo>
                    <a:pt x="470" y="35"/>
                  </a:lnTo>
                  <a:lnTo>
                    <a:pt x="471" y="36"/>
                  </a:lnTo>
                  <a:lnTo>
                    <a:pt x="474" y="36"/>
                  </a:lnTo>
                  <a:lnTo>
                    <a:pt x="476" y="38"/>
                  </a:lnTo>
                  <a:lnTo>
                    <a:pt x="478" y="38"/>
                  </a:lnTo>
                  <a:lnTo>
                    <a:pt x="480" y="39"/>
                  </a:lnTo>
                  <a:lnTo>
                    <a:pt x="483" y="40"/>
                  </a:lnTo>
                  <a:lnTo>
                    <a:pt x="484" y="41"/>
                  </a:lnTo>
                  <a:lnTo>
                    <a:pt x="487" y="41"/>
                  </a:lnTo>
                  <a:lnTo>
                    <a:pt x="488" y="42"/>
                  </a:lnTo>
                  <a:lnTo>
                    <a:pt x="490" y="43"/>
                  </a:lnTo>
                  <a:lnTo>
                    <a:pt x="493" y="44"/>
                  </a:lnTo>
                  <a:lnTo>
                    <a:pt x="494" y="44"/>
                  </a:lnTo>
                  <a:lnTo>
                    <a:pt x="497" y="45"/>
                  </a:lnTo>
                  <a:lnTo>
                    <a:pt x="499" y="46"/>
                  </a:lnTo>
                  <a:lnTo>
                    <a:pt x="501" y="47"/>
                  </a:lnTo>
                  <a:lnTo>
                    <a:pt x="503" y="47"/>
                  </a:lnTo>
                  <a:lnTo>
                    <a:pt x="506" y="48"/>
                  </a:lnTo>
                  <a:lnTo>
                    <a:pt x="507" y="49"/>
                  </a:lnTo>
                  <a:lnTo>
                    <a:pt x="510" y="50"/>
                  </a:lnTo>
                  <a:lnTo>
                    <a:pt x="512" y="51"/>
                  </a:lnTo>
                  <a:lnTo>
                    <a:pt x="514" y="51"/>
                  </a:lnTo>
                  <a:lnTo>
                    <a:pt x="516" y="52"/>
                  </a:lnTo>
                  <a:lnTo>
                    <a:pt x="519" y="53"/>
                  </a:lnTo>
                  <a:lnTo>
                    <a:pt x="520" y="55"/>
                  </a:lnTo>
                  <a:lnTo>
                    <a:pt x="522" y="56"/>
                  </a:lnTo>
                  <a:lnTo>
                    <a:pt x="525" y="57"/>
                  </a:lnTo>
                  <a:lnTo>
                    <a:pt x="526" y="57"/>
                  </a:lnTo>
                  <a:lnTo>
                    <a:pt x="529" y="58"/>
                  </a:lnTo>
                  <a:lnTo>
                    <a:pt x="530" y="59"/>
                  </a:lnTo>
                  <a:lnTo>
                    <a:pt x="533" y="60"/>
                  </a:lnTo>
                  <a:lnTo>
                    <a:pt x="535" y="61"/>
                  </a:lnTo>
                  <a:lnTo>
                    <a:pt x="537" y="62"/>
                  </a:lnTo>
                  <a:lnTo>
                    <a:pt x="539" y="63"/>
                  </a:lnTo>
                  <a:lnTo>
                    <a:pt x="542" y="63"/>
                  </a:lnTo>
                  <a:lnTo>
                    <a:pt x="543" y="64"/>
                  </a:lnTo>
                  <a:lnTo>
                    <a:pt x="546" y="65"/>
                  </a:lnTo>
                  <a:lnTo>
                    <a:pt x="548" y="66"/>
                  </a:lnTo>
                  <a:lnTo>
                    <a:pt x="549" y="67"/>
                  </a:lnTo>
                  <a:lnTo>
                    <a:pt x="552" y="68"/>
                  </a:lnTo>
                  <a:lnTo>
                    <a:pt x="554" y="69"/>
                  </a:lnTo>
                  <a:lnTo>
                    <a:pt x="556" y="70"/>
                  </a:lnTo>
                  <a:lnTo>
                    <a:pt x="558" y="71"/>
                  </a:lnTo>
                  <a:lnTo>
                    <a:pt x="561" y="71"/>
                  </a:lnTo>
                  <a:lnTo>
                    <a:pt x="563" y="72"/>
                  </a:lnTo>
                  <a:lnTo>
                    <a:pt x="565" y="73"/>
                  </a:lnTo>
                  <a:lnTo>
                    <a:pt x="567" y="74"/>
                  </a:lnTo>
                  <a:lnTo>
                    <a:pt x="570" y="75"/>
                  </a:lnTo>
                  <a:lnTo>
                    <a:pt x="571" y="76"/>
                  </a:lnTo>
                  <a:lnTo>
                    <a:pt x="574" y="78"/>
                  </a:lnTo>
                  <a:lnTo>
                    <a:pt x="576" y="79"/>
                  </a:lnTo>
                  <a:lnTo>
                    <a:pt x="578" y="80"/>
                  </a:lnTo>
                  <a:lnTo>
                    <a:pt x="580" y="81"/>
                  </a:lnTo>
                  <a:lnTo>
                    <a:pt x="583" y="82"/>
                  </a:lnTo>
                  <a:lnTo>
                    <a:pt x="584" y="83"/>
                  </a:lnTo>
                  <a:lnTo>
                    <a:pt x="587" y="84"/>
                  </a:lnTo>
                  <a:lnTo>
                    <a:pt x="589" y="85"/>
                  </a:lnTo>
                  <a:lnTo>
                    <a:pt x="590" y="86"/>
                  </a:lnTo>
                  <a:lnTo>
                    <a:pt x="593" y="87"/>
                  </a:lnTo>
                  <a:lnTo>
                    <a:pt x="595" y="88"/>
                  </a:lnTo>
                  <a:lnTo>
                    <a:pt x="597" y="89"/>
                  </a:lnTo>
                  <a:lnTo>
                    <a:pt x="599" y="90"/>
                  </a:lnTo>
                  <a:lnTo>
                    <a:pt x="601" y="91"/>
                  </a:lnTo>
                  <a:lnTo>
                    <a:pt x="603" y="92"/>
                  </a:lnTo>
                  <a:lnTo>
                    <a:pt x="606" y="93"/>
                  </a:lnTo>
                  <a:lnTo>
                    <a:pt x="607" y="94"/>
                  </a:lnTo>
                  <a:lnTo>
                    <a:pt x="610" y="95"/>
                  </a:lnTo>
                  <a:lnTo>
                    <a:pt x="612" y="96"/>
                  </a:lnTo>
                  <a:lnTo>
                    <a:pt x="613" y="97"/>
                  </a:lnTo>
                  <a:lnTo>
                    <a:pt x="616" y="98"/>
                  </a:lnTo>
                  <a:lnTo>
                    <a:pt x="619" y="99"/>
                  </a:lnTo>
                  <a:lnTo>
                    <a:pt x="620" y="101"/>
                  </a:lnTo>
                  <a:lnTo>
                    <a:pt x="622" y="102"/>
                  </a:lnTo>
                  <a:lnTo>
                    <a:pt x="625" y="103"/>
                  </a:lnTo>
                  <a:lnTo>
                    <a:pt x="626" y="104"/>
                  </a:lnTo>
                  <a:lnTo>
                    <a:pt x="629" y="105"/>
                  </a:lnTo>
                  <a:lnTo>
                    <a:pt x="631" y="106"/>
                  </a:lnTo>
                  <a:lnTo>
                    <a:pt x="633" y="107"/>
                  </a:lnTo>
                  <a:lnTo>
                    <a:pt x="635" y="108"/>
                  </a:lnTo>
                  <a:lnTo>
                    <a:pt x="638" y="109"/>
                  </a:lnTo>
                  <a:lnTo>
                    <a:pt x="639" y="110"/>
                  </a:lnTo>
                  <a:lnTo>
                    <a:pt x="642" y="111"/>
                  </a:lnTo>
                  <a:lnTo>
                    <a:pt x="644" y="112"/>
                  </a:lnTo>
                  <a:lnTo>
                    <a:pt x="647" y="113"/>
                  </a:lnTo>
                  <a:lnTo>
                    <a:pt x="649" y="114"/>
                  </a:lnTo>
                  <a:lnTo>
                    <a:pt x="651" y="115"/>
                  </a:lnTo>
                  <a:lnTo>
                    <a:pt x="653" y="116"/>
                  </a:lnTo>
                  <a:lnTo>
                    <a:pt x="656" y="117"/>
                  </a:lnTo>
                  <a:lnTo>
                    <a:pt x="657" y="118"/>
                  </a:lnTo>
                  <a:lnTo>
                    <a:pt x="660" y="119"/>
                  </a:lnTo>
                  <a:lnTo>
                    <a:pt x="662" y="121"/>
                  </a:lnTo>
                  <a:lnTo>
                    <a:pt x="663" y="123"/>
                  </a:lnTo>
                  <a:lnTo>
                    <a:pt x="666" y="124"/>
                  </a:lnTo>
                  <a:lnTo>
                    <a:pt x="667" y="125"/>
                  </a:lnTo>
                  <a:lnTo>
                    <a:pt x="670" y="126"/>
                  </a:lnTo>
                  <a:lnTo>
                    <a:pt x="672" y="127"/>
                  </a:lnTo>
                  <a:lnTo>
                    <a:pt x="674" y="128"/>
                  </a:lnTo>
                  <a:lnTo>
                    <a:pt x="676" y="129"/>
                  </a:lnTo>
                  <a:lnTo>
                    <a:pt x="679" y="130"/>
                  </a:lnTo>
                  <a:lnTo>
                    <a:pt x="680" y="131"/>
                  </a:lnTo>
                  <a:lnTo>
                    <a:pt x="683" y="132"/>
                  </a:lnTo>
                  <a:lnTo>
                    <a:pt x="685" y="134"/>
                  </a:lnTo>
                  <a:lnTo>
                    <a:pt x="686" y="135"/>
                  </a:lnTo>
                  <a:lnTo>
                    <a:pt x="689" y="136"/>
                  </a:lnTo>
                  <a:lnTo>
                    <a:pt x="692" y="137"/>
                  </a:lnTo>
                  <a:lnTo>
                    <a:pt x="693" y="138"/>
                  </a:lnTo>
                  <a:lnTo>
                    <a:pt x="695" y="139"/>
                  </a:lnTo>
                  <a:lnTo>
                    <a:pt x="698" y="140"/>
                  </a:lnTo>
                  <a:lnTo>
                    <a:pt x="699" y="142"/>
                  </a:lnTo>
                  <a:lnTo>
                    <a:pt x="702" y="143"/>
                  </a:lnTo>
                  <a:lnTo>
                    <a:pt x="704" y="144"/>
                  </a:lnTo>
                  <a:lnTo>
                    <a:pt x="706" y="146"/>
                  </a:lnTo>
                  <a:lnTo>
                    <a:pt x="708" y="147"/>
                  </a:lnTo>
                  <a:lnTo>
                    <a:pt x="711" y="148"/>
                  </a:lnTo>
                  <a:lnTo>
                    <a:pt x="712" y="149"/>
                  </a:lnTo>
                  <a:lnTo>
                    <a:pt x="715" y="150"/>
                  </a:lnTo>
                  <a:lnTo>
                    <a:pt x="716" y="151"/>
                  </a:lnTo>
                  <a:lnTo>
                    <a:pt x="718" y="153"/>
                  </a:lnTo>
                  <a:lnTo>
                    <a:pt x="721" y="154"/>
                  </a:lnTo>
                  <a:lnTo>
                    <a:pt x="722" y="155"/>
                  </a:lnTo>
                  <a:lnTo>
                    <a:pt x="725" y="156"/>
                  </a:lnTo>
                  <a:lnTo>
                    <a:pt x="727" y="157"/>
                  </a:lnTo>
                  <a:lnTo>
                    <a:pt x="729" y="158"/>
                  </a:lnTo>
                  <a:lnTo>
                    <a:pt x="731" y="159"/>
                  </a:lnTo>
                  <a:lnTo>
                    <a:pt x="734" y="160"/>
                  </a:lnTo>
                  <a:lnTo>
                    <a:pt x="736" y="162"/>
                  </a:lnTo>
                  <a:lnTo>
                    <a:pt x="739" y="163"/>
                  </a:lnTo>
                  <a:lnTo>
                    <a:pt x="740" y="164"/>
                  </a:lnTo>
                  <a:lnTo>
                    <a:pt x="743" y="165"/>
                  </a:lnTo>
                  <a:lnTo>
                    <a:pt x="744" y="166"/>
                  </a:lnTo>
                  <a:lnTo>
                    <a:pt x="747" y="167"/>
                  </a:lnTo>
                  <a:lnTo>
                    <a:pt x="749" y="169"/>
                  </a:lnTo>
                  <a:lnTo>
                    <a:pt x="750" y="170"/>
                  </a:lnTo>
                  <a:lnTo>
                    <a:pt x="753" y="172"/>
                  </a:lnTo>
                  <a:lnTo>
                    <a:pt x="756" y="173"/>
                  </a:lnTo>
                  <a:lnTo>
                    <a:pt x="757" y="174"/>
                  </a:lnTo>
                  <a:lnTo>
                    <a:pt x="759" y="175"/>
                  </a:lnTo>
                  <a:lnTo>
                    <a:pt x="762" y="176"/>
                  </a:lnTo>
                  <a:lnTo>
                    <a:pt x="763" y="177"/>
                  </a:lnTo>
                  <a:lnTo>
                    <a:pt x="766" y="178"/>
                  </a:lnTo>
                  <a:lnTo>
                    <a:pt x="768" y="180"/>
                  </a:lnTo>
                  <a:lnTo>
                    <a:pt x="770" y="181"/>
                  </a:lnTo>
                  <a:lnTo>
                    <a:pt x="772" y="182"/>
                  </a:lnTo>
                  <a:lnTo>
                    <a:pt x="775" y="184"/>
                  </a:lnTo>
                  <a:lnTo>
                    <a:pt x="776" y="185"/>
                  </a:lnTo>
                  <a:lnTo>
                    <a:pt x="779" y="186"/>
                  </a:lnTo>
                  <a:lnTo>
                    <a:pt x="781" y="187"/>
                  </a:lnTo>
                  <a:lnTo>
                    <a:pt x="782" y="188"/>
                  </a:lnTo>
                  <a:lnTo>
                    <a:pt x="785" y="189"/>
                  </a:lnTo>
                  <a:lnTo>
                    <a:pt x="786" y="192"/>
                  </a:lnTo>
                  <a:lnTo>
                    <a:pt x="789" y="193"/>
                  </a:lnTo>
                  <a:lnTo>
                    <a:pt x="791" y="194"/>
                  </a:lnTo>
                  <a:lnTo>
                    <a:pt x="793" y="195"/>
                  </a:lnTo>
                  <a:lnTo>
                    <a:pt x="795" y="196"/>
                  </a:lnTo>
                  <a:lnTo>
                    <a:pt x="798" y="197"/>
                  </a:lnTo>
                  <a:lnTo>
                    <a:pt x="799" y="198"/>
                  </a:lnTo>
                  <a:lnTo>
                    <a:pt x="802" y="200"/>
                  </a:lnTo>
                  <a:lnTo>
                    <a:pt x="804" y="201"/>
                  </a:lnTo>
                  <a:lnTo>
                    <a:pt x="805" y="202"/>
                  </a:lnTo>
                  <a:lnTo>
                    <a:pt x="808" y="203"/>
                  </a:lnTo>
                  <a:lnTo>
                    <a:pt x="811" y="204"/>
                  </a:lnTo>
                  <a:lnTo>
                    <a:pt x="812" y="205"/>
                  </a:lnTo>
                  <a:lnTo>
                    <a:pt x="814" y="207"/>
                  </a:lnTo>
                  <a:lnTo>
                    <a:pt x="817" y="208"/>
                  </a:lnTo>
                  <a:lnTo>
                    <a:pt x="818" y="209"/>
                  </a:lnTo>
                  <a:lnTo>
                    <a:pt x="821" y="210"/>
                  </a:lnTo>
                  <a:lnTo>
                    <a:pt x="823" y="211"/>
                  </a:lnTo>
                  <a:lnTo>
                    <a:pt x="826" y="212"/>
                  </a:lnTo>
                  <a:lnTo>
                    <a:pt x="827" y="215"/>
                  </a:lnTo>
                  <a:lnTo>
                    <a:pt x="830" y="216"/>
                  </a:lnTo>
                  <a:lnTo>
                    <a:pt x="832" y="217"/>
                  </a:lnTo>
                  <a:lnTo>
                    <a:pt x="834" y="218"/>
                  </a:lnTo>
                  <a:lnTo>
                    <a:pt x="836" y="219"/>
                  </a:lnTo>
                  <a:lnTo>
                    <a:pt x="839" y="220"/>
                  </a:lnTo>
                  <a:lnTo>
                    <a:pt x="840" y="222"/>
                  </a:lnTo>
                  <a:lnTo>
                    <a:pt x="843" y="223"/>
                  </a:lnTo>
                  <a:lnTo>
                    <a:pt x="845" y="224"/>
                  </a:lnTo>
                  <a:lnTo>
                    <a:pt x="846" y="225"/>
                  </a:lnTo>
                  <a:lnTo>
                    <a:pt x="849" y="226"/>
                  </a:lnTo>
                  <a:lnTo>
                    <a:pt x="850" y="227"/>
                  </a:lnTo>
                  <a:lnTo>
                    <a:pt x="853" y="229"/>
                  </a:lnTo>
                  <a:lnTo>
                    <a:pt x="855" y="230"/>
                  </a:lnTo>
                  <a:lnTo>
                    <a:pt x="857" y="231"/>
                  </a:lnTo>
                  <a:lnTo>
                    <a:pt x="859" y="232"/>
                  </a:lnTo>
                  <a:lnTo>
                    <a:pt x="862" y="234"/>
                  </a:lnTo>
                  <a:lnTo>
                    <a:pt x="863" y="235"/>
                  </a:lnTo>
                  <a:lnTo>
                    <a:pt x="866" y="237"/>
                  </a:lnTo>
                  <a:lnTo>
                    <a:pt x="868" y="238"/>
                  </a:lnTo>
                  <a:lnTo>
                    <a:pt x="870" y="239"/>
                  </a:lnTo>
                  <a:lnTo>
                    <a:pt x="872" y="240"/>
                  </a:lnTo>
                  <a:lnTo>
                    <a:pt x="875" y="241"/>
                  </a:lnTo>
                  <a:lnTo>
                    <a:pt x="876" y="243"/>
                  </a:lnTo>
                  <a:lnTo>
                    <a:pt x="878" y="244"/>
                  </a:lnTo>
                  <a:lnTo>
                    <a:pt x="881" y="245"/>
                  </a:lnTo>
                  <a:lnTo>
                    <a:pt x="882" y="246"/>
                  </a:lnTo>
                  <a:lnTo>
                    <a:pt x="885" y="247"/>
                  </a:lnTo>
                  <a:lnTo>
                    <a:pt x="887" y="248"/>
                  </a:lnTo>
                  <a:lnTo>
                    <a:pt x="889" y="249"/>
                  </a:lnTo>
                  <a:lnTo>
                    <a:pt x="891" y="250"/>
                  </a:lnTo>
                  <a:lnTo>
                    <a:pt x="893" y="252"/>
                  </a:lnTo>
                  <a:lnTo>
                    <a:pt x="895" y="253"/>
                  </a:lnTo>
                  <a:lnTo>
                    <a:pt x="898" y="254"/>
                  </a:lnTo>
                  <a:lnTo>
                    <a:pt x="899" y="255"/>
                  </a:lnTo>
                  <a:lnTo>
                    <a:pt x="902" y="256"/>
                  </a:lnTo>
                  <a:lnTo>
                    <a:pt x="904" y="257"/>
                  </a:lnTo>
                  <a:lnTo>
                    <a:pt x="905" y="259"/>
                  </a:lnTo>
                  <a:lnTo>
                    <a:pt x="908" y="260"/>
                  </a:lnTo>
                  <a:lnTo>
                    <a:pt x="910" y="261"/>
                  </a:lnTo>
                  <a:lnTo>
                    <a:pt x="913" y="263"/>
                  </a:lnTo>
                  <a:lnTo>
                    <a:pt x="914" y="264"/>
                  </a:lnTo>
                  <a:lnTo>
                    <a:pt x="917" y="265"/>
                  </a:lnTo>
                  <a:lnTo>
                    <a:pt x="919" y="266"/>
                  </a:lnTo>
                  <a:lnTo>
                    <a:pt x="921" y="267"/>
                  </a:lnTo>
                  <a:lnTo>
                    <a:pt x="923" y="268"/>
                  </a:lnTo>
                  <a:lnTo>
                    <a:pt x="926" y="269"/>
                  </a:lnTo>
                  <a:lnTo>
                    <a:pt x="927" y="270"/>
                  </a:lnTo>
                  <a:lnTo>
                    <a:pt x="930" y="271"/>
                  </a:lnTo>
                  <a:lnTo>
                    <a:pt x="932" y="272"/>
                  </a:lnTo>
                  <a:lnTo>
                    <a:pt x="934" y="273"/>
                  </a:lnTo>
                  <a:lnTo>
                    <a:pt x="936" y="274"/>
                  </a:lnTo>
                  <a:lnTo>
                    <a:pt x="939" y="276"/>
                  </a:lnTo>
                  <a:lnTo>
                    <a:pt x="940" y="277"/>
                  </a:lnTo>
                  <a:lnTo>
                    <a:pt x="943" y="278"/>
                  </a:lnTo>
                  <a:lnTo>
                    <a:pt x="945" y="279"/>
                  </a:lnTo>
                  <a:lnTo>
                    <a:pt x="946" y="280"/>
                  </a:lnTo>
                  <a:lnTo>
                    <a:pt x="949" y="282"/>
                  </a:lnTo>
                  <a:lnTo>
                    <a:pt x="951" y="283"/>
                  </a:lnTo>
                  <a:lnTo>
                    <a:pt x="953" y="284"/>
                  </a:lnTo>
                  <a:lnTo>
                    <a:pt x="955" y="285"/>
                  </a:lnTo>
                  <a:lnTo>
                    <a:pt x="957" y="286"/>
                  </a:lnTo>
                  <a:lnTo>
                    <a:pt x="959" y="288"/>
                  </a:lnTo>
                  <a:lnTo>
                    <a:pt x="962" y="289"/>
                  </a:lnTo>
                  <a:lnTo>
                    <a:pt x="963" y="290"/>
                  </a:lnTo>
                  <a:lnTo>
                    <a:pt x="966" y="291"/>
                  </a:lnTo>
                  <a:lnTo>
                    <a:pt x="968" y="292"/>
                  </a:lnTo>
                  <a:lnTo>
                    <a:pt x="969" y="293"/>
                  </a:lnTo>
                  <a:lnTo>
                    <a:pt x="972" y="294"/>
                  </a:lnTo>
                  <a:lnTo>
                    <a:pt x="975" y="295"/>
                  </a:lnTo>
                  <a:lnTo>
                    <a:pt x="976" y="296"/>
                  </a:lnTo>
                  <a:lnTo>
                    <a:pt x="978" y="297"/>
                  </a:lnTo>
                  <a:lnTo>
                    <a:pt x="981" y="298"/>
                  </a:lnTo>
                  <a:lnTo>
                    <a:pt x="982" y="299"/>
                  </a:lnTo>
                  <a:lnTo>
                    <a:pt x="985" y="300"/>
                  </a:lnTo>
                  <a:lnTo>
                    <a:pt x="987" y="301"/>
                  </a:lnTo>
                  <a:lnTo>
                    <a:pt x="989" y="302"/>
                  </a:lnTo>
                  <a:lnTo>
                    <a:pt x="991" y="302"/>
                  </a:lnTo>
                  <a:lnTo>
                    <a:pt x="994" y="303"/>
                  </a:lnTo>
                  <a:lnTo>
                    <a:pt x="995" y="305"/>
                  </a:lnTo>
                  <a:lnTo>
                    <a:pt x="998" y="306"/>
                  </a:lnTo>
                  <a:lnTo>
                    <a:pt x="1000" y="307"/>
                  </a:lnTo>
                  <a:lnTo>
                    <a:pt x="1003" y="308"/>
                  </a:lnTo>
                  <a:lnTo>
                    <a:pt x="1004" y="309"/>
                  </a:lnTo>
                  <a:lnTo>
                    <a:pt x="1007" y="310"/>
                  </a:lnTo>
                  <a:lnTo>
                    <a:pt x="1009" y="311"/>
                  </a:lnTo>
                  <a:lnTo>
                    <a:pt x="1010" y="312"/>
                  </a:lnTo>
                  <a:lnTo>
                    <a:pt x="1013" y="313"/>
                  </a:lnTo>
                  <a:lnTo>
                    <a:pt x="1015" y="314"/>
                  </a:lnTo>
                  <a:lnTo>
                    <a:pt x="1017" y="315"/>
                  </a:lnTo>
                  <a:lnTo>
                    <a:pt x="1019" y="316"/>
                  </a:lnTo>
                  <a:lnTo>
                    <a:pt x="1022" y="316"/>
                  </a:lnTo>
                  <a:lnTo>
                    <a:pt x="1023" y="317"/>
                  </a:lnTo>
                  <a:lnTo>
                    <a:pt x="1026" y="318"/>
                  </a:lnTo>
                  <a:lnTo>
                    <a:pt x="1028" y="319"/>
                  </a:lnTo>
                  <a:lnTo>
                    <a:pt x="1030" y="320"/>
                  </a:lnTo>
                  <a:lnTo>
                    <a:pt x="1032" y="321"/>
                  </a:lnTo>
                  <a:lnTo>
                    <a:pt x="1035" y="322"/>
                  </a:lnTo>
                  <a:lnTo>
                    <a:pt x="1036" y="323"/>
                  </a:lnTo>
                  <a:lnTo>
                    <a:pt x="1039" y="323"/>
                  </a:lnTo>
                  <a:lnTo>
                    <a:pt x="1041" y="325"/>
                  </a:lnTo>
                  <a:lnTo>
                    <a:pt x="1042" y="327"/>
                  </a:lnTo>
                  <a:lnTo>
                    <a:pt x="1045" y="327"/>
                  </a:lnTo>
                  <a:lnTo>
                    <a:pt x="1048" y="328"/>
                  </a:lnTo>
                  <a:lnTo>
                    <a:pt x="1049" y="329"/>
                  </a:lnTo>
                  <a:lnTo>
                    <a:pt x="1051" y="330"/>
                  </a:lnTo>
                  <a:lnTo>
                    <a:pt x="1054" y="331"/>
                  </a:lnTo>
                  <a:lnTo>
                    <a:pt x="1055" y="331"/>
                  </a:lnTo>
                  <a:lnTo>
                    <a:pt x="1058" y="332"/>
                  </a:lnTo>
                  <a:lnTo>
                    <a:pt x="1060" y="333"/>
                  </a:lnTo>
                  <a:lnTo>
                    <a:pt x="1062" y="334"/>
                  </a:lnTo>
                  <a:lnTo>
                    <a:pt x="1064" y="334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5907600" y="2799000"/>
              <a:ext cx="340560" cy="20520"/>
            </a:xfrm>
            <a:custGeom>
              <a:avLst/>
              <a:gdLst/>
              <a:ahLst/>
              <a:rect l="l" t="t" r="r" b="b"/>
              <a:pathLst>
                <a:path w="174" h="35">
                  <a:moveTo>
                    <a:pt x="0" y="0"/>
                  </a:moveTo>
                  <a:lnTo>
                    <a:pt x="3" y="1"/>
                  </a:lnTo>
                  <a:lnTo>
                    <a:pt x="4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1" y="13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8" y="16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7" y="21"/>
                  </a:lnTo>
                  <a:lnTo>
                    <a:pt x="68" y="21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3" y="25"/>
                  </a:lnTo>
                  <a:lnTo>
                    <a:pt x="85" y="25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1" y="26"/>
                  </a:lnTo>
                  <a:lnTo>
                    <a:pt x="94" y="27"/>
                  </a:lnTo>
                  <a:lnTo>
                    <a:pt x="96" y="27"/>
                  </a:lnTo>
                  <a:lnTo>
                    <a:pt x="97" y="27"/>
                  </a:lnTo>
                  <a:lnTo>
                    <a:pt x="100" y="28"/>
                  </a:lnTo>
                  <a:lnTo>
                    <a:pt x="103" y="28"/>
                  </a:lnTo>
                  <a:lnTo>
                    <a:pt x="104" y="28"/>
                  </a:lnTo>
                  <a:lnTo>
                    <a:pt x="106" y="29"/>
                  </a:lnTo>
                  <a:lnTo>
                    <a:pt x="109" y="29"/>
                  </a:lnTo>
                  <a:lnTo>
                    <a:pt x="110" y="29"/>
                  </a:lnTo>
                  <a:lnTo>
                    <a:pt x="113" y="30"/>
                  </a:lnTo>
                  <a:lnTo>
                    <a:pt x="115" y="30"/>
                  </a:lnTo>
                  <a:lnTo>
                    <a:pt x="118" y="30"/>
                  </a:lnTo>
                  <a:lnTo>
                    <a:pt x="119" y="30"/>
                  </a:lnTo>
                  <a:lnTo>
                    <a:pt x="122" y="31"/>
                  </a:lnTo>
                  <a:lnTo>
                    <a:pt x="124" y="31"/>
                  </a:lnTo>
                  <a:lnTo>
                    <a:pt x="126" y="31"/>
                  </a:lnTo>
                  <a:lnTo>
                    <a:pt x="128" y="31"/>
                  </a:lnTo>
                  <a:lnTo>
                    <a:pt x="129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0" y="33"/>
                  </a:lnTo>
                  <a:lnTo>
                    <a:pt x="141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7" y="33"/>
                  </a:lnTo>
                  <a:lnTo>
                    <a:pt x="149" y="33"/>
                  </a:lnTo>
                  <a:lnTo>
                    <a:pt x="150" y="33"/>
                  </a:lnTo>
                  <a:lnTo>
                    <a:pt x="153" y="34"/>
                  </a:lnTo>
                  <a:lnTo>
                    <a:pt x="154" y="34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8" y="34"/>
                  </a:lnTo>
                  <a:lnTo>
                    <a:pt x="159" y="34"/>
                  </a:lnTo>
                  <a:lnTo>
                    <a:pt x="160" y="34"/>
                  </a:lnTo>
                  <a:lnTo>
                    <a:pt x="162" y="34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74" y="35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"/>
          <p:cNvSpPr/>
          <p:nvPr/>
        </p:nvSpPr>
        <p:spPr>
          <a:xfrm>
            <a:off x="4740120" y="165744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740120" y="13525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5128920" y="1459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5077080" y="114300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 ini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 rot="16200000">
            <a:off x="181080" y="19951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rot="16200000">
            <a:off x="26280" y="472644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/ 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863280" y="5715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863280" y="5332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836280" y="4923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8362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035360" y="27432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035360" y="21337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1035360" y="15238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1981080" y="0"/>
            <a:ext cx="54864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ison of potent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um energy path a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 flipV="1">
            <a:off x="1403280" y="3141360"/>
            <a:ext cx="32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 flipV="1">
            <a:off x="2054160" y="3141360"/>
            <a:ext cx="180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 flipV="1">
            <a:off x="2705040" y="3141360"/>
            <a:ext cx="180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 flipV="1">
            <a:off x="3354480" y="3141360"/>
            <a:ext cx="144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 flipV="1">
            <a:off x="4005360" y="3141360"/>
            <a:ext cx="14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 flipV="1">
            <a:off x="4654440" y="3141360"/>
            <a:ext cx="180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 flipV="1">
            <a:off x="5307120" y="3141360"/>
            <a:ext cx="14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1403280" y="3141720"/>
            <a:ext cx="39038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1366920" y="314172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1328760" y="221940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1328760" y="160344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 flipV="1">
            <a:off x="1403280" y="1143000"/>
            <a:ext cx="3240" cy="1998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1403280" y="3149280"/>
            <a:ext cx="32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2052720" y="3149280"/>
            <a:ext cx="144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2703600" y="3149280"/>
            <a:ext cx="14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 flipV="1">
            <a:off x="3352680" y="3149280"/>
            <a:ext cx="180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 flipV="1">
            <a:off x="4000680" y="3149280"/>
            <a:ext cx="14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4649760" y="3149280"/>
            <a:ext cx="1440" cy="2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 flipV="1">
            <a:off x="5300640" y="3149280"/>
            <a:ext cx="1440" cy="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1366920" y="314964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1328760" y="222408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1366920" y="1903320"/>
            <a:ext cx="363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1328760" y="160020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1325520" y="1600200"/>
            <a:ext cx="76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2" name=""/>
          <p:cNvGrpSpPr/>
          <p:nvPr/>
        </p:nvGrpSpPr>
        <p:grpSpPr>
          <a:xfrm>
            <a:off x="1403280" y="1417680"/>
            <a:ext cx="3900600" cy="1430280"/>
            <a:chOff x="1403280" y="1417680"/>
            <a:chExt cx="3900600" cy="1430280"/>
          </a:xfrm>
        </p:grpSpPr>
        <p:sp>
          <p:nvSpPr>
            <p:cNvPr id="4583" name=""/>
            <p:cNvSpPr/>
            <p:nvPr/>
          </p:nvSpPr>
          <p:spPr>
            <a:xfrm>
              <a:off x="1403280" y="1417680"/>
              <a:ext cx="1803240" cy="1041480"/>
            </a:xfrm>
            <a:custGeom>
              <a:avLst/>
              <a:gdLst/>
              <a:ahLst/>
              <a:rect l="l" t="t" r="r" b="b"/>
              <a:pathLst>
                <a:path w="1064" h="656">
                  <a:moveTo>
                    <a:pt x="0" y="0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4" y="8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0" y="10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9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79" y="15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3" y="21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0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6" y="26"/>
                  </a:lnTo>
                  <a:lnTo>
                    <a:pt x="109" y="27"/>
                  </a:lnTo>
                  <a:lnTo>
                    <a:pt x="111" y="28"/>
                  </a:lnTo>
                  <a:lnTo>
                    <a:pt x="113" y="28"/>
                  </a:lnTo>
                  <a:lnTo>
                    <a:pt x="115" y="29"/>
                  </a:lnTo>
                  <a:lnTo>
                    <a:pt x="118" y="30"/>
                  </a:lnTo>
                  <a:lnTo>
                    <a:pt x="119" y="31"/>
                  </a:lnTo>
                  <a:lnTo>
                    <a:pt x="122" y="32"/>
                  </a:lnTo>
                  <a:lnTo>
                    <a:pt x="124" y="33"/>
                  </a:lnTo>
                  <a:lnTo>
                    <a:pt x="127" y="34"/>
                  </a:lnTo>
                  <a:lnTo>
                    <a:pt x="128" y="35"/>
                  </a:lnTo>
                  <a:lnTo>
                    <a:pt x="130" y="36"/>
                  </a:lnTo>
                  <a:lnTo>
                    <a:pt x="133" y="37"/>
                  </a:lnTo>
                  <a:lnTo>
                    <a:pt x="134" y="39"/>
                  </a:lnTo>
                  <a:lnTo>
                    <a:pt x="137" y="40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3" y="45"/>
                  </a:lnTo>
                  <a:lnTo>
                    <a:pt x="146" y="46"/>
                  </a:lnTo>
                  <a:lnTo>
                    <a:pt x="147" y="47"/>
                  </a:lnTo>
                  <a:lnTo>
                    <a:pt x="150" y="48"/>
                  </a:lnTo>
                  <a:lnTo>
                    <a:pt x="152" y="49"/>
                  </a:lnTo>
                  <a:lnTo>
                    <a:pt x="154" y="51"/>
                  </a:lnTo>
                  <a:lnTo>
                    <a:pt x="156" y="52"/>
                  </a:lnTo>
                  <a:lnTo>
                    <a:pt x="159" y="53"/>
                  </a:lnTo>
                  <a:lnTo>
                    <a:pt x="160" y="54"/>
                  </a:lnTo>
                  <a:lnTo>
                    <a:pt x="163" y="56"/>
                  </a:lnTo>
                  <a:lnTo>
                    <a:pt x="165" y="57"/>
                  </a:lnTo>
                  <a:lnTo>
                    <a:pt x="166" y="58"/>
                  </a:lnTo>
                  <a:lnTo>
                    <a:pt x="169" y="60"/>
                  </a:lnTo>
                  <a:lnTo>
                    <a:pt x="171" y="61"/>
                  </a:lnTo>
                  <a:lnTo>
                    <a:pt x="173" y="62"/>
                  </a:lnTo>
                  <a:lnTo>
                    <a:pt x="175" y="64"/>
                  </a:lnTo>
                  <a:lnTo>
                    <a:pt x="178" y="66"/>
                  </a:lnTo>
                  <a:lnTo>
                    <a:pt x="179" y="68"/>
                  </a:lnTo>
                  <a:lnTo>
                    <a:pt x="182" y="69"/>
                  </a:lnTo>
                  <a:lnTo>
                    <a:pt x="184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91" y="75"/>
                  </a:lnTo>
                  <a:lnTo>
                    <a:pt x="192" y="76"/>
                  </a:lnTo>
                  <a:lnTo>
                    <a:pt x="195" y="78"/>
                  </a:lnTo>
                  <a:lnTo>
                    <a:pt x="196" y="79"/>
                  </a:lnTo>
                  <a:lnTo>
                    <a:pt x="198" y="81"/>
                  </a:lnTo>
                  <a:lnTo>
                    <a:pt x="201" y="83"/>
                  </a:lnTo>
                  <a:lnTo>
                    <a:pt x="202" y="84"/>
                  </a:lnTo>
                  <a:lnTo>
                    <a:pt x="205" y="86"/>
                  </a:lnTo>
                  <a:lnTo>
                    <a:pt x="207" y="89"/>
                  </a:lnTo>
                  <a:lnTo>
                    <a:pt x="209" y="91"/>
                  </a:lnTo>
                  <a:lnTo>
                    <a:pt x="211" y="92"/>
                  </a:lnTo>
                  <a:lnTo>
                    <a:pt x="214" y="94"/>
                  </a:lnTo>
                  <a:lnTo>
                    <a:pt x="216" y="95"/>
                  </a:lnTo>
                  <a:lnTo>
                    <a:pt x="219" y="97"/>
                  </a:lnTo>
                  <a:lnTo>
                    <a:pt x="220" y="99"/>
                  </a:lnTo>
                  <a:lnTo>
                    <a:pt x="223" y="101"/>
                  </a:lnTo>
                  <a:lnTo>
                    <a:pt x="224" y="102"/>
                  </a:lnTo>
                  <a:lnTo>
                    <a:pt x="227" y="104"/>
                  </a:lnTo>
                  <a:lnTo>
                    <a:pt x="229" y="106"/>
                  </a:lnTo>
                  <a:lnTo>
                    <a:pt x="230" y="108"/>
                  </a:lnTo>
                  <a:lnTo>
                    <a:pt x="233" y="109"/>
                  </a:lnTo>
                  <a:lnTo>
                    <a:pt x="236" y="112"/>
                  </a:lnTo>
                  <a:lnTo>
                    <a:pt x="237" y="114"/>
                  </a:lnTo>
                  <a:lnTo>
                    <a:pt x="239" y="116"/>
                  </a:lnTo>
                  <a:lnTo>
                    <a:pt x="242" y="118"/>
                  </a:lnTo>
                  <a:lnTo>
                    <a:pt x="243" y="119"/>
                  </a:lnTo>
                  <a:lnTo>
                    <a:pt x="246" y="121"/>
                  </a:lnTo>
                  <a:lnTo>
                    <a:pt x="248" y="123"/>
                  </a:lnTo>
                  <a:lnTo>
                    <a:pt x="250" y="125"/>
                  </a:lnTo>
                  <a:lnTo>
                    <a:pt x="252" y="127"/>
                  </a:lnTo>
                  <a:lnTo>
                    <a:pt x="255" y="129"/>
                  </a:lnTo>
                  <a:lnTo>
                    <a:pt x="256" y="131"/>
                  </a:lnTo>
                  <a:lnTo>
                    <a:pt x="259" y="134"/>
                  </a:lnTo>
                  <a:lnTo>
                    <a:pt x="261" y="136"/>
                  </a:lnTo>
                  <a:lnTo>
                    <a:pt x="262" y="138"/>
                  </a:lnTo>
                  <a:lnTo>
                    <a:pt x="265" y="140"/>
                  </a:lnTo>
                  <a:lnTo>
                    <a:pt x="268" y="142"/>
                  </a:lnTo>
                  <a:lnTo>
                    <a:pt x="269" y="144"/>
                  </a:lnTo>
                  <a:lnTo>
                    <a:pt x="271" y="146"/>
                  </a:lnTo>
                  <a:lnTo>
                    <a:pt x="273" y="148"/>
                  </a:lnTo>
                  <a:lnTo>
                    <a:pt x="275" y="150"/>
                  </a:lnTo>
                  <a:lnTo>
                    <a:pt x="278" y="152"/>
                  </a:lnTo>
                  <a:lnTo>
                    <a:pt x="279" y="154"/>
                  </a:lnTo>
                  <a:lnTo>
                    <a:pt x="282" y="157"/>
                  </a:lnTo>
                  <a:lnTo>
                    <a:pt x="284" y="159"/>
                  </a:lnTo>
                  <a:lnTo>
                    <a:pt x="285" y="161"/>
                  </a:lnTo>
                  <a:lnTo>
                    <a:pt x="288" y="163"/>
                  </a:lnTo>
                  <a:lnTo>
                    <a:pt x="291" y="166"/>
                  </a:lnTo>
                  <a:lnTo>
                    <a:pt x="292" y="168"/>
                  </a:lnTo>
                  <a:lnTo>
                    <a:pt x="294" y="170"/>
                  </a:lnTo>
                  <a:lnTo>
                    <a:pt x="297" y="172"/>
                  </a:lnTo>
                  <a:lnTo>
                    <a:pt x="298" y="174"/>
                  </a:lnTo>
                  <a:lnTo>
                    <a:pt x="301" y="176"/>
                  </a:lnTo>
                  <a:lnTo>
                    <a:pt x="303" y="179"/>
                  </a:lnTo>
                  <a:lnTo>
                    <a:pt x="306" y="182"/>
                  </a:lnTo>
                  <a:lnTo>
                    <a:pt x="307" y="184"/>
                  </a:lnTo>
                  <a:lnTo>
                    <a:pt x="310" y="186"/>
                  </a:lnTo>
                  <a:lnTo>
                    <a:pt x="312" y="189"/>
                  </a:lnTo>
                  <a:lnTo>
                    <a:pt x="314" y="191"/>
                  </a:lnTo>
                  <a:lnTo>
                    <a:pt x="316" y="193"/>
                  </a:lnTo>
                  <a:lnTo>
                    <a:pt x="319" y="195"/>
                  </a:lnTo>
                  <a:lnTo>
                    <a:pt x="320" y="198"/>
                  </a:lnTo>
                  <a:lnTo>
                    <a:pt x="323" y="200"/>
                  </a:lnTo>
                  <a:lnTo>
                    <a:pt x="325" y="203"/>
                  </a:lnTo>
                  <a:lnTo>
                    <a:pt x="326" y="205"/>
                  </a:lnTo>
                  <a:lnTo>
                    <a:pt x="329" y="208"/>
                  </a:lnTo>
                  <a:lnTo>
                    <a:pt x="332" y="210"/>
                  </a:lnTo>
                  <a:lnTo>
                    <a:pt x="333" y="212"/>
                  </a:lnTo>
                  <a:lnTo>
                    <a:pt x="335" y="214"/>
                  </a:lnTo>
                  <a:lnTo>
                    <a:pt x="337" y="217"/>
                  </a:lnTo>
                  <a:lnTo>
                    <a:pt x="339" y="219"/>
                  </a:lnTo>
                  <a:lnTo>
                    <a:pt x="342" y="221"/>
                  </a:lnTo>
                  <a:lnTo>
                    <a:pt x="343" y="225"/>
                  </a:lnTo>
                  <a:lnTo>
                    <a:pt x="346" y="227"/>
                  </a:lnTo>
                  <a:lnTo>
                    <a:pt x="348" y="229"/>
                  </a:lnTo>
                  <a:lnTo>
                    <a:pt x="349" y="232"/>
                  </a:lnTo>
                  <a:lnTo>
                    <a:pt x="352" y="234"/>
                  </a:lnTo>
                  <a:lnTo>
                    <a:pt x="355" y="237"/>
                  </a:lnTo>
                  <a:lnTo>
                    <a:pt x="356" y="239"/>
                  </a:lnTo>
                  <a:lnTo>
                    <a:pt x="358" y="242"/>
                  </a:lnTo>
                  <a:lnTo>
                    <a:pt x="361" y="244"/>
                  </a:lnTo>
                  <a:lnTo>
                    <a:pt x="362" y="247"/>
                  </a:lnTo>
                  <a:lnTo>
                    <a:pt x="365" y="250"/>
                  </a:lnTo>
                  <a:lnTo>
                    <a:pt x="367" y="252"/>
                  </a:lnTo>
                  <a:lnTo>
                    <a:pt x="369" y="254"/>
                  </a:lnTo>
                  <a:lnTo>
                    <a:pt x="371" y="257"/>
                  </a:lnTo>
                  <a:lnTo>
                    <a:pt x="374" y="259"/>
                  </a:lnTo>
                  <a:lnTo>
                    <a:pt x="375" y="262"/>
                  </a:lnTo>
                  <a:lnTo>
                    <a:pt x="378" y="264"/>
                  </a:lnTo>
                  <a:lnTo>
                    <a:pt x="379" y="267"/>
                  </a:lnTo>
                  <a:lnTo>
                    <a:pt x="381" y="270"/>
                  </a:lnTo>
                  <a:lnTo>
                    <a:pt x="384" y="272"/>
                  </a:lnTo>
                  <a:lnTo>
                    <a:pt x="385" y="275"/>
                  </a:lnTo>
                  <a:lnTo>
                    <a:pt x="389" y="277"/>
                  </a:lnTo>
                  <a:lnTo>
                    <a:pt x="390" y="280"/>
                  </a:lnTo>
                  <a:lnTo>
                    <a:pt x="393" y="283"/>
                  </a:lnTo>
                  <a:lnTo>
                    <a:pt x="396" y="285"/>
                  </a:lnTo>
                  <a:lnTo>
                    <a:pt x="397" y="288"/>
                  </a:lnTo>
                  <a:lnTo>
                    <a:pt x="399" y="290"/>
                  </a:lnTo>
                  <a:lnTo>
                    <a:pt x="401" y="294"/>
                  </a:lnTo>
                  <a:lnTo>
                    <a:pt x="403" y="296"/>
                  </a:lnTo>
                  <a:lnTo>
                    <a:pt x="406" y="298"/>
                  </a:lnTo>
                  <a:lnTo>
                    <a:pt x="407" y="301"/>
                  </a:lnTo>
                  <a:lnTo>
                    <a:pt x="410" y="303"/>
                  </a:lnTo>
                  <a:lnTo>
                    <a:pt x="412" y="306"/>
                  </a:lnTo>
                  <a:lnTo>
                    <a:pt x="413" y="308"/>
                  </a:lnTo>
                  <a:lnTo>
                    <a:pt x="416" y="311"/>
                  </a:lnTo>
                  <a:lnTo>
                    <a:pt x="419" y="313"/>
                  </a:lnTo>
                  <a:lnTo>
                    <a:pt x="420" y="317"/>
                  </a:lnTo>
                  <a:lnTo>
                    <a:pt x="422" y="319"/>
                  </a:lnTo>
                  <a:lnTo>
                    <a:pt x="425" y="322"/>
                  </a:lnTo>
                  <a:lnTo>
                    <a:pt x="426" y="324"/>
                  </a:lnTo>
                  <a:lnTo>
                    <a:pt x="429" y="327"/>
                  </a:lnTo>
                  <a:lnTo>
                    <a:pt x="431" y="330"/>
                  </a:lnTo>
                  <a:lnTo>
                    <a:pt x="433" y="332"/>
                  </a:lnTo>
                  <a:lnTo>
                    <a:pt x="435" y="335"/>
                  </a:lnTo>
                  <a:lnTo>
                    <a:pt x="438" y="338"/>
                  </a:lnTo>
                  <a:lnTo>
                    <a:pt x="439" y="341"/>
                  </a:lnTo>
                  <a:lnTo>
                    <a:pt x="442" y="343"/>
                  </a:lnTo>
                  <a:lnTo>
                    <a:pt x="443" y="346"/>
                  </a:lnTo>
                  <a:lnTo>
                    <a:pt x="446" y="348"/>
                  </a:lnTo>
                  <a:lnTo>
                    <a:pt x="448" y="351"/>
                  </a:lnTo>
                  <a:lnTo>
                    <a:pt x="449" y="353"/>
                  </a:lnTo>
                  <a:lnTo>
                    <a:pt x="452" y="356"/>
                  </a:lnTo>
                  <a:lnTo>
                    <a:pt x="454" y="358"/>
                  </a:lnTo>
                  <a:lnTo>
                    <a:pt x="456" y="362"/>
                  </a:lnTo>
                  <a:lnTo>
                    <a:pt x="458" y="364"/>
                  </a:lnTo>
                  <a:lnTo>
                    <a:pt x="461" y="367"/>
                  </a:lnTo>
                  <a:lnTo>
                    <a:pt x="462" y="369"/>
                  </a:lnTo>
                  <a:lnTo>
                    <a:pt x="465" y="372"/>
                  </a:lnTo>
                  <a:lnTo>
                    <a:pt x="467" y="374"/>
                  </a:lnTo>
                  <a:lnTo>
                    <a:pt x="469" y="377"/>
                  </a:lnTo>
                  <a:lnTo>
                    <a:pt x="471" y="379"/>
                  </a:lnTo>
                  <a:lnTo>
                    <a:pt x="474" y="383"/>
                  </a:lnTo>
                  <a:lnTo>
                    <a:pt x="475" y="385"/>
                  </a:lnTo>
                  <a:lnTo>
                    <a:pt x="478" y="388"/>
                  </a:lnTo>
                  <a:lnTo>
                    <a:pt x="480" y="390"/>
                  </a:lnTo>
                  <a:lnTo>
                    <a:pt x="483" y="393"/>
                  </a:lnTo>
                  <a:lnTo>
                    <a:pt x="484" y="395"/>
                  </a:lnTo>
                  <a:lnTo>
                    <a:pt x="486" y="398"/>
                  </a:lnTo>
                  <a:lnTo>
                    <a:pt x="489" y="400"/>
                  </a:lnTo>
                  <a:lnTo>
                    <a:pt x="490" y="403"/>
                  </a:lnTo>
                  <a:lnTo>
                    <a:pt x="493" y="406"/>
                  </a:lnTo>
                  <a:lnTo>
                    <a:pt x="495" y="408"/>
                  </a:lnTo>
                  <a:lnTo>
                    <a:pt x="497" y="411"/>
                  </a:lnTo>
                  <a:lnTo>
                    <a:pt x="499" y="413"/>
                  </a:lnTo>
                  <a:lnTo>
                    <a:pt x="502" y="416"/>
                  </a:lnTo>
                  <a:lnTo>
                    <a:pt x="503" y="418"/>
                  </a:lnTo>
                  <a:lnTo>
                    <a:pt x="506" y="421"/>
                  </a:lnTo>
                  <a:lnTo>
                    <a:pt x="508" y="423"/>
                  </a:lnTo>
                  <a:lnTo>
                    <a:pt x="510" y="426"/>
                  </a:lnTo>
                  <a:lnTo>
                    <a:pt x="512" y="429"/>
                  </a:lnTo>
                  <a:lnTo>
                    <a:pt x="513" y="432"/>
                  </a:lnTo>
                  <a:lnTo>
                    <a:pt x="516" y="434"/>
                  </a:lnTo>
                  <a:lnTo>
                    <a:pt x="519" y="436"/>
                  </a:lnTo>
                  <a:lnTo>
                    <a:pt x="520" y="439"/>
                  </a:lnTo>
                  <a:lnTo>
                    <a:pt x="522" y="441"/>
                  </a:lnTo>
                  <a:lnTo>
                    <a:pt x="525" y="443"/>
                  </a:lnTo>
                  <a:lnTo>
                    <a:pt x="526" y="446"/>
                  </a:lnTo>
                  <a:lnTo>
                    <a:pt x="529" y="448"/>
                  </a:lnTo>
                  <a:lnTo>
                    <a:pt x="531" y="451"/>
                  </a:lnTo>
                  <a:lnTo>
                    <a:pt x="533" y="454"/>
                  </a:lnTo>
                  <a:lnTo>
                    <a:pt x="535" y="456"/>
                  </a:lnTo>
                  <a:lnTo>
                    <a:pt x="538" y="458"/>
                  </a:lnTo>
                  <a:lnTo>
                    <a:pt x="539" y="461"/>
                  </a:lnTo>
                  <a:lnTo>
                    <a:pt x="542" y="463"/>
                  </a:lnTo>
                  <a:lnTo>
                    <a:pt x="544" y="465"/>
                  </a:lnTo>
                  <a:lnTo>
                    <a:pt x="545" y="467"/>
                  </a:lnTo>
                  <a:lnTo>
                    <a:pt x="548" y="470"/>
                  </a:lnTo>
                  <a:lnTo>
                    <a:pt x="551" y="472"/>
                  </a:lnTo>
                  <a:lnTo>
                    <a:pt x="552" y="476"/>
                  </a:lnTo>
                  <a:lnTo>
                    <a:pt x="554" y="478"/>
                  </a:lnTo>
                  <a:lnTo>
                    <a:pt x="557" y="480"/>
                  </a:lnTo>
                  <a:lnTo>
                    <a:pt x="558" y="482"/>
                  </a:lnTo>
                  <a:lnTo>
                    <a:pt x="561" y="485"/>
                  </a:lnTo>
                  <a:lnTo>
                    <a:pt x="563" y="487"/>
                  </a:lnTo>
                  <a:lnTo>
                    <a:pt x="566" y="489"/>
                  </a:lnTo>
                  <a:lnTo>
                    <a:pt x="568" y="491"/>
                  </a:lnTo>
                  <a:lnTo>
                    <a:pt x="570" y="493"/>
                  </a:lnTo>
                  <a:lnTo>
                    <a:pt x="572" y="495"/>
                  </a:lnTo>
                  <a:lnTo>
                    <a:pt x="575" y="498"/>
                  </a:lnTo>
                  <a:lnTo>
                    <a:pt x="576" y="501"/>
                  </a:lnTo>
                  <a:lnTo>
                    <a:pt x="579" y="503"/>
                  </a:lnTo>
                  <a:lnTo>
                    <a:pt x="580" y="505"/>
                  </a:lnTo>
                  <a:lnTo>
                    <a:pt x="583" y="507"/>
                  </a:lnTo>
                  <a:lnTo>
                    <a:pt x="585" y="509"/>
                  </a:lnTo>
                  <a:lnTo>
                    <a:pt x="586" y="511"/>
                  </a:lnTo>
                  <a:lnTo>
                    <a:pt x="589" y="513"/>
                  </a:lnTo>
                  <a:lnTo>
                    <a:pt x="591" y="515"/>
                  </a:lnTo>
                  <a:lnTo>
                    <a:pt x="593" y="517"/>
                  </a:lnTo>
                  <a:lnTo>
                    <a:pt x="595" y="520"/>
                  </a:lnTo>
                  <a:lnTo>
                    <a:pt x="598" y="523"/>
                  </a:lnTo>
                  <a:lnTo>
                    <a:pt x="599" y="525"/>
                  </a:lnTo>
                  <a:lnTo>
                    <a:pt x="602" y="527"/>
                  </a:lnTo>
                  <a:lnTo>
                    <a:pt x="604" y="529"/>
                  </a:lnTo>
                  <a:lnTo>
                    <a:pt x="606" y="531"/>
                  </a:lnTo>
                  <a:lnTo>
                    <a:pt x="608" y="533"/>
                  </a:lnTo>
                  <a:lnTo>
                    <a:pt x="611" y="534"/>
                  </a:lnTo>
                  <a:lnTo>
                    <a:pt x="612" y="536"/>
                  </a:lnTo>
                  <a:lnTo>
                    <a:pt x="615" y="538"/>
                  </a:lnTo>
                  <a:lnTo>
                    <a:pt x="617" y="540"/>
                  </a:lnTo>
                  <a:lnTo>
                    <a:pt x="618" y="543"/>
                  </a:lnTo>
                  <a:lnTo>
                    <a:pt x="621" y="545"/>
                  </a:lnTo>
                  <a:lnTo>
                    <a:pt x="624" y="547"/>
                  </a:lnTo>
                  <a:lnTo>
                    <a:pt x="625" y="549"/>
                  </a:lnTo>
                  <a:lnTo>
                    <a:pt x="627" y="550"/>
                  </a:lnTo>
                  <a:lnTo>
                    <a:pt x="629" y="552"/>
                  </a:lnTo>
                  <a:lnTo>
                    <a:pt x="631" y="554"/>
                  </a:lnTo>
                  <a:lnTo>
                    <a:pt x="634" y="556"/>
                  </a:lnTo>
                  <a:lnTo>
                    <a:pt x="635" y="558"/>
                  </a:lnTo>
                  <a:lnTo>
                    <a:pt x="638" y="559"/>
                  </a:lnTo>
                  <a:lnTo>
                    <a:pt x="640" y="561"/>
                  </a:lnTo>
                  <a:lnTo>
                    <a:pt x="641" y="563"/>
                  </a:lnTo>
                  <a:lnTo>
                    <a:pt x="644" y="566"/>
                  </a:lnTo>
                  <a:lnTo>
                    <a:pt x="647" y="567"/>
                  </a:lnTo>
                  <a:lnTo>
                    <a:pt x="648" y="569"/>
                  </a:lnTo>
                  <a:lnTo>
                    <a:pt x="650" y="571"/>
                  </a:lnTo>
                  <a:lnTo>
                    <a:pt x="653" y="573"/>
                  </a:lnTo>
                  <a:lnTo>
                    <a:pt x="656" y="574"/>
                  </a:lnTo>
                  <a:lnTo>
                    <a:pt x="657" y="576"/>
                  </a:lnTo>
                  <a:lnTo>
                    <a:pt x="659" y="578"/>
                  </a:lnTo>
                  <a:lnTo>
                    <a:pt x="662" y="579"/>
                  </a:lnTo>
                  <a:lnTo>
                    <a:pt x="663" y="581"/>
                  </a:lnTo>
                  <a:lnTo>
                    <a:pt x="666" y="582"/>
                  </a:lnTo>
                  <a:lnTo>
                    <a:pt x="668" y="584"/>
                  </a:lnTo>
                  <a:lnTo>
                    <a:pt x="670" y="585"/>
                  </a:lnTo>
                  <a:lnTo>
                    <a:pt x="672" y="588"/>
                  </a:lnTo>
                  <a:lnTo>
                    <a:pt x="675" y="589"/>
                  </a:lnTo>
                  <a:lnTo>
                    <a:pt x="676" y="591"/>
                  </a:lnTo>
                  <a:lnTo>
                    <a:pt x="679" y="592"/>
                  </a:lnTo>
                  <a:lnTo>
                    <a:pt x="681" y="594"/>
                  </a:lnTo>
                  <a:lnTo>
                    <a:pt x="682" y="595"/>
                  </a:lnTo>
                  <a:lnTo>
                    <a:pt x="685" y="597"/>
                  </a:lnTo>
                  <a:lnTo>
                    <a:pt x="688" y="598"/>
                  </a:lnTo>
                  <a:lnTo>
                    <a:pt x="689" y="599"/>
                  </a:lnTo>
                  <a:lnTo>
                    <a:pt x="691" y="601"/>
                  </a:lnTo>
                  <a:lnTo>
                    <a:pt x="694" y="602"/>
                  </a:lnTo>
                  <a:lnTo>
                    <a:pt x="695" y="603"/>
                  </a:lnTo>
                  <a:lnTo>
                    <a:pt x="698" y="605"/>
                  </a:lnTo>
                  <a:lnTo>
                    <a:pt x="699" y="606"/>
                  </a:lnTo>
                  <a:lnTo>
                    <a:pt x="702" y="607"/>
                  </a:lnTo>
                  <a:lnTo>
                    <a:pt x="704" y="610"/>
                  </a:lnTo>
                  <a:lnTo>
                    <a:pt x="705" y="611"/>
                  </a:lnTo>
                  <a:lnTo>
                    <a:pt x="708" y="612"/>
                  </a:lnTo>
                  <a:lnTo>
                    <a:pt x="711" y="613"/>
                  </a:lnTo>
                  <a:lnTo>
                    <a:pt x="712" y="614"/>
                  </a:lnTo>
                  <a:lnTo>
                    <a:pt x="714" y="616"/>
                  </a:lnTo>
                  <a:lnTo>
                    <a:pt x="717" y="617"/>
                  </a:lnTo>
                  <a:lnTo>
                    <a:pt x="718" y="618"/>
                  </a:lnTo>
                  <a:lnTo>
                    <a:pt x="721" y="620"/>
                  </a:lnTo>
                  <a:lnTo>
                    <a:pt x="723" y="621"/>
                  </a:lnTo>
                  <a:lnTo>
                    <a:pt x="725" y="622"/>
                  </a:lnTo>
                  <a:lnTo>
                    <a:pt x="727" y="623"/>
                  </a:lnTo>
                  <a:lnTo>
                    <a:pt x="730" y="624"/>
                  </a:lnTo>
                  <a:lnTo>
                    <a:pt x="731" y="625"/>
                  </a:lnTo>
                  <a:lnTo>
                    <a:pt x="734" y="626"/>
                  </a:lnTo>
                  <a:lnTo>
                    <a:pt x="736" y="627"/>
                  </a:lnTo>
                  <a:lnTo>
                    <a:pt x="737" y="628"/>
                  </a:lnTo>
                  <a:lnTo>
                    <a:pt x="740" y="629"/>
                  </a:lnTo>
                  <a:lnTo>
                    <a:pt x="743" y="630"/>
                  </a:lnTo>
                  <a:lnTo>
                    <a:pt x="745" y="631"/>
                  </a:lnTo>
                  <a:lnTo>
                    <a:pt x="746" y="633"/>
                  </a:lnTo>
                  <a:lnTo>
                    <a:pt x="749" y="633"/>
                  </a:lnTo>
                  <a:lnTo>
                    <a:pt x="752" y="634"/>
                  </a:lnTo>
                  <a:lnTo>
                    <a:pt x="753" y="635"/>
                  </a:lnTo>
                  <a:lnTo>
                    <a:pt x="755" y="636"/>
                  </a:lnTo>
                  <a:lnTo>
                    <a:pt x="758" y="637"/>
                  </a:lnTo>
                  <a:lnTo>
                    <a:pt x="759" y="638"/>
                  </a:lnTo>
                  <a:lnTo>
                    <a:pt x="762" y="638"/>
                  </a:lnTo>
                  <a:lnTo>
                    <a:pt x="763" y="639"/>
                  </a:lnTo>
                  <a:lnTo>
                    <a:pt x="766" y="640"/>
                  </a:lnTo>
                  <a:lnTo>
                    <a:pt x="768" y="641"/>
                  </a:lnTo>
                  <a:lnTo>
                    <a:pt x="769" y="641"/>
                  </a:lnTo>
                  <a:lnTo>
                    <a:pt x="772" y="642"/>
                  </a:lnTo>
                  <a:lnTo>
                    <a:pt x="775" y="643"/>
                  </a:lnTo>
                  <a:lnTo>
                    <a:pt x="776" y="643"/>
                  </a:lnTo>
                  <a:lnTo>
                    <a:pt x="778" y="644"/>
                  </a:lnTo>
                  <a:lnTo>
                    <a:pt x="781" y="645"/>
                  </a:lnTo>
                  <a:lnTo>
                    <a:pt x="782" y="645"/>
                  </a:lnTo>
                  <a:lnTo>
                    <a:pt x="785" y="646"/>
                  </a:lnTo>
                  <a:lnTo>
                    <a:pt x="787" y="646"/>
                  </a:lnTo>
                  <a:lnTo>
                    <a:pt x="789" y="647"/>
                  </a:lnTo>
                  <a:lnTo>
                    <a:pt x="791" y="647"/>
                  </a:lnTo>
                  <a:lnTo>
                    <a:pt x="794" y="648"/>
                  </a:lnTo>
                  <a:lnTo>
                    <a:pt x="795" y="648"/>
                  </a:lnTo>
                  <a:lnTo>
                    <a:pt x="798" y="649"/>
                  </a:lnTo>
                  <a:lnTo>
                    <a:pt x="800" y="649"/>
                  </a:lnTo>
                  <a:lnTo>
                    <a:pt x="802" y="650"/>
                  </a:lnTo>
                  <a:lnTo>
                    <a:pt x="804" y="650"/>
                  </a:lnTo>
                  <a:lnTo>
                    <a:pt x="805" y="651"/>
                  </a:lnTo>
                  <a:lnTo>
                    <a:pt x="808" y="651"/>
                  </a:lnTo>
                  <a:lnTo>
                    <a:pt x="810" y="651"/>
                  </a:lnTo>
                  <a:lnTo>
                    <a:pt x="812" y="652"/>
                  </a:lnTo>
                  <a:lnTo>
                    <a:pt x="814" y="652"/>
                  </a:lnTo>
                  <a:lnTo>
                    <a:pt x="817" y="652"/>
                  </a:lnTo>
                  <a:lnTo>
                    <a:pt x="818" y="653"/>
                  </a:lnTo>
                  <a:lnTo>
                    <a:pt x="821" y="653"/>
                  </a:lnTo>
                  <a:lnTo>
                    <a:pt x="823" y="653"/>
                  </a:lnTo>
                  <a:lnTo>
                    <a:pt x="825" y="655"/>
                  </a:lnTo>
                  <a:lnTo>
                    <a:pt x="827" y="655"/>
                  </a:lnTo>
                  <a:lnTo>
                    <a:pt x="830" y="655"/>
                  </a:lnTo>
                  <a:lnTo>
                    <a:pt x="832" y="655"/>
                  </a:lnTo>
                  <a:lnTo>
                    <a:pt x="834" y="655"/>
                  </a:lnTo>
                  <a:lnTo>
                    <a:pt x="836" y="656"/>
                  </a:lnTo>
                  <a:lnTo>
                    <a:pt x="839" y="656"/>
                  </a:lnTo>
                  <a:lnTo>
                    <a:pt x="840" y="656"/>
                  </a:lnTo>
                  <a:lnTo>
                    <a:pt x="842" y="656"/>
                  </a:lnTo>
                  <a:lnTo>
                    <a:pt x="845" y="656"/>
                  </a:lnTo>
                  <a:lnTo>
                    <a:pt x="846" y="656"/>
                  </a:lnTo>
                  <a:lnTo>
                    <a:pt x="849" y="656"/>
                  </a:lnTo>
                  <a:lnTo>
                    <a:pt x="851" y="656"/>
                  </a:lnTo>
                  <a:lnTo>
                    <a:pt x="853" y="656"/>
                  </a:lnTo>
                  <a:lnTo>
                    <a:pt x="855" y="656"/>
                  </a:lnTo>
                  <a:lnTo>
                    <a:pt x="858" y="656"/>
                  </a:lnTo>
                  <a:lnTo>
                    <a:pt x="859" y="656"/>
                  </a:lnTo>
                  <a:lnTo>
                    <a:pt x="862" y="656"/>
                  </a:lnTo>
                  <a:lnTo>
                    <a:pt x="864" y="656"/>
                  </a:lnTo>
                  <a:lnTo>
                    <a:pt x="866" y="656"/>
                  </a:lnTo>
                  <a:lnTo>
                    <a:pt x="868" y="656"/>
                  </a:lnTo>
                  <a:lnTo>
                    <a:pt x="869" y="656"/>
                  </a:lnTo>
                  <a:lnTo>
                    <a:pt x="872" y="656"/>
                  </a:lnTo>
                  <a:lnTo>
                    <a:pt x="874" y="656"/>
                  </a:lnTo>
                  <a:lnTo>
                    <a:pt x="876" y="656"/>
                  </a:lnTo>
                  <a:lnTo>
                    <a:pt x="878" y="656"/>
                  </a:lnTo>
                  <a:lnTo>
                    <a:pt x="881" y="656"/>
                  </a:lnTo>
                  <a:lnTo>
                    <a:pt x="882" y="656"/>
                  </a:lnTo>
                  <a:lnTo>
                    <a:pt x="885" y="655"/>
                  </a:lnTo>
                  <a:lnTo>
                    <a:pt x="887" y="655"/>
                  </a:lnTo>
                  <a:lnTo>
                    <a:pt x="889" y="655"/>
                  </a:lnTo>
                  <a:lnTo>
                    <a:pt x="891" y="655"/>
                  </a:lnTo>
                  <a:lnTo>
                    <a:pt x="894" y="655"/>
                  </a:lnTo>
                  <a:lnTo>
                    <a:pt x="895" y="653"/>
                  </a:lnTo>
                  <a:lnTo>
                    <a:pt x="898" y="653"/>
                  </a:lnTo>
                  <a:lnTo>
                    <a:pt x="900" y="653"/>
                  </a:lnTo>
                  <a:lnTo>
                    <a:pt x="901" y="653"/>
                  </a:lnTo>
                  <a:lnTo>
                    <a:pt x="904" y="652"/>
                  </a:lnTo>
                  <a:lnTo>
                    <a:pt x="907" y="652"/>
                  </a:lnTo>
                  <a:lnTo>
                    <a:pt x="908" y="652"/>
                  </a:lnTo>
                  <a:lnTo>
                    <a:pt x="910" y="651"/>
                  </a:lnTo>
                  <a:lnTo>
                    <a:pt x="913" y="651"/>
                  </a:lnTo>
                  <a:lnTo>
                    <a:pt x="914" y="651"/>
                  </a:lnTo>
                  <a:lnTo>
                    <a:pt x="917" y="650"/>
                  </a:lnTo>
                  <a:lnTo>
                    <a:pt x="919" y="650"/>
                  </a:lnTo>
                  <a:lnTo>
                    <a:pt x="922" y="650"/>
                  </a:lnTo>
                  <a:lnTo>
                    <a:pt x="923" y="649"/>
                  </a:lnTo>
                  <a:lnTo>
                    <a:pt x="926" y="649"/>
                  </a:lnTo>
                  <a:lnTo>
                    <a:pt x="928" y="648"/>
                  </a:lnTo>
                  <a:lnTo>
                    <a:pt x="930" y="648"/>
                  </a:lnTo>
                  <a:lnTo>
                    <a:pt x="932" y="647"/>
                  </a:lnTo>
                  <a:lnTo>
                    <a:pt x="935" y="647"/>
                  </a:lnTo>
                  <a:lnTo>
                    <a:pt x="936" y="647"/>
                  </a:lnTo>
                  <a:lnTo>
                    <a:pt x="939" y="646"/>
                  </a:lnTo>
                  <a:lnTo>
                    <a:pt x="941" y="646"/>
                  </a:lnTo>
                  <a:lnTo>
                    <a:pt x="942" y="645"/>
                  </a:lnTo>
                  <a:lnTo>
                    <a:pt x="945" y="645"/>
                  </a:lnTo>
                  <a:lnTo>
                    <a:pt x="947" y="644"/>
                  </a:lnTo>
                  <a:lnTo>
                    <a:pt x="949" y="644"/>
                  </a:lnTo>
                  <a:lnTo>
                    <a:pt x="951" y="643"/>
                  </a:lnTo>
                  <a:lnTo>
                    <a:pt x="954" y="643"/>
                  </a:lnTo>
                  <a:lnTo>
                    <a:pt x="955" y="642"/>
                  </a:lnTo>
                  <a:lnTo>
                    <a:pt x="958" y="641"/>
                  </a:lnTo>
                  <a:lnTo>
                    <a:pt x="960" y="641"/>
                  </a:lnTo>
                  <a:lnTo>
                    <a:pt x="962" y="640"/>
                  </a:lnTo>
                  <a:lnTo>
                    <a:pt x="964" y="640"/>
                  </a:lnTo>
                  <a:lnTo>
                    <a:pt x="967" y="639"/>
                  </a:lnTo>
                  <a:lnTo>
                    <a:pt x="968" y="639"/>
                  </a:lnTo>
                  <a:lnTo>
                    <a:pt x="971" y="638"/>
                  </a:lnTo>
                  <a:lnTo>
                    <a:pt x="973" y="637"/>
                  </a:lnTo>
                  <a:lnTo>
                    <a:pt x="974" y="637"/>
                  </a:lnTo>
                  <a:lnTo>
                    <a:pt x="977" y="636"/>
                  </a:lnTo>
                  <a:lnTo>
                    <a:pt x="980" y="635"/>
                  </a:lnTo>
                  <a:lnTo>
                    <a:pt x="981" y="635"/>
                  </a:lnTo>
                  <a:lnTo>
                    <a:pt x="983" y="634"/>
                  </a:lnTo>
                  <a:lnTo>
                    <a:pt x="986" y="634"/>
                  </a:lnTo>
                  <a:lnTo>
                    <a:pt x="987" y="633"/>
                  </a:lnTo>
                  <a:lnTo>
                    <a:pt x="990" y="631"/>
                  </a:lnTo>
                  <a:lnTo>
                    <a:pt x="991" y="631"/>
                  </a:lnTo>
                  <a:lnTo>
                    <a:pt x="994" y="630"/>
                  </a:lnTo>
                  <a:lnTo>
                    <a:pt x="996" y="629"/>
                  </a:lnTo>
                  <a:lnTo>
                    <a:pt x="997" y="628"/>
                  </a:lnTo>
                  <a:lnTo>
                    <a:pt x="1000" y="628"/>
                  </a:lnTo>
                  <a:lnTo>
                    <a:pt x="1003" y="627"/>
                  </a:lnTo>
                  <a:lnTo>
                    <a:pt x="1004" y="626"/>
                  </a:lnTo>
                  <a:lnTo>
                    <a:pt x="1008" y="626"/>
                  </a:lnTo>
                  <a:lnTo>
                    <a:pt x="1009" y="625"/>
                  </a:lnTo>
                  <a:lnTo>
                    <a:pt x="1012" y="624"/>
                  </a:lnTo>
                  <a:lnTo>
                    <a:pt x="1013" y="623"/>
                  </a:lnTo>
                  <a:lnTo>
                    <a:pt x="1015" y="623"/>
                  </a:lnTo>
                  <a:lnTo>
                    <a:pt x="1018" y="622"/>
                  </a:lnTo>
                  <a:lnTo>
                    <a:pt x="1019" y="621"/>
                  </a:lnTo>
                  <a:lnTo>
                    <a:pt x="1022" y="620"/>
                  </a:lnTo>
                  <a:lnTo>
                    <a:pt x="1024" y="620"/>
                  </a:lnTo>
                  <a:lnTo>
                    <a:pt x="1026" y="619"/>
                  </a:lnTo>
                  <a:lnTo>
                    <a:pt x="1028" y="618"/>
                  </a:lnTo>
                  <a:lnTo>
                    <a:pt x="1031" y="617"/>
                  </a:lnTo>
                  <a:lnTo>
                    <a:pt x="1032" y="617"/>
                  </a:lnTo>
                  <a:lnTo>
                    <a:pt x="1035" y="615"/>
                  </a:lnTo>
                  <a:lnTo>
                    <a:pt x="1037" y="615"/>
                  </a:lnTo>
                  <a:lnTo>
                    <a:pt x="1038" y="614"/>
                  </a:lnTo>
                  <a:lnTo>
                    <a:pt x="1041" y="613"/>
                  </a:lnTo>
                  <a:lnTo>
                    <a:pt x="1044" y="612"/>
                  </a:lnTo>
                  <a:lnTo>
                    <a:pt x="1045" y="611"/>
                  </a:lnTo>
                  <a:lnTo>
                    <a:pt x="1047" y="611"/>
                  </a:lnTo>
                  <a:lnTo>
                    <a:pt x="1050" y="610"/>
                  </a:lnTo>
                  <a:lnTo>
                    <a:pt x="1051" y="608"/>
                  </a:lnTo>
                  <a:lnTo>
                    <a:pt x="1054" y="607"/>
                  </a:lnTo>
                  <a:lnTo>
                    <a:pt x="1056" y="606"/>
                  </a:lnTo>
                  <a:lnTo>
                    <a:pt x="1058" y="606"/>
                  </a:lnTo>
                  <a:lnTo>
                    <a:pt x="1060" y="605"/>
                  </a:lnTo>
                  <a:lnTo>
                    <a:pt x="1061" y="604"/>
                  </a:lnTo>
                  <a:lnTo>
                    <a:pt x="1064" y="603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206520" y="2262240"/>
              <a:ext cx="1801800" cy="530280"/>
            </a:xfrm>
            <a:custGeom>
              <a:avLst/>
              <a:gdLst/>
              <a:ahLst/>
              <a:rect l="l" t="t" r="r" b="b"/>
              <a:pathLst>
                <a:path w="1064" h="334">
                  <a:moveTo>
                    <a:pt x="0" y="71"/>
                  </a:moveTo>
                  <a:lnTo>
                    <a:pt x="3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9" y="68"/>
                  </a:lnTo>
                  <a:lnTo>
                    <a:pt x="10" y="67"/>
                  </a:lnTo>
                  <a:lnTo>
                    <a:pt x="13" y="66"/>
                  </a:lnTo>
                  <a:lnTo>
                    <a:pt x="15" y="66"/>
                  </a:lnTo>
                  <a:lnTo>
                    <a:pt x="17" y="65"/>
                  </a:lnTo>
                  <a:lnTo>
                    <a:pt x="19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28" y="61"/>
                  </a:lnTo>
                  <a:lnTo>
                    <a:pt x="31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7" y="58"/>
                  </a:lnTo>
                  <a:lnTo>
                    <a:pt x="38" y="57"/>
                  </a:lnTo>
                  <a:lnTo>
                    <a:pt x="41" y="56"/>
                  </a:lnTo>
                  <a:lnTo>
                    <a:pt x="44" y="55"/>
                  </a:lnTo>
                  <a:lnTo>
                    <a:pt x="45" y="53"/>
                  </a:lnTo>
                  <a:lnTo>
                    <a:pt x="47" y="53"/>
                  </a:lnTo>
                  <a:lnTo>
                    <a:pt x="50" y="52"/>
                  </a:lnTo>
                  <a:lnTo>
                    <a:pt x="51" y="51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8" y="49"/>
                  </a:lnTo>
                  <a:lnTo>
                    <a:pt x="60" y="48"/>
                  </a:lnTo>
                  <a:lnTo>
                    <a:pt x="61" y="47"/>
                  </a:lnTo>
                  <a:lnTo>
                    <a:pt x="64" y="47"/>
                  </a:lnTo>
                  <a:lnTo>
                    <a:pt x="67" y="46"/>
                  </a:lnTo>
                  <a:lnTo>
                    <a:pt x="68" y="45"/>
                  </a:lnTo>
                  <a:lnTo>
                    <a:pt x="70" y="44"/>
                  </a:lnTo>
                  <a:lnTo>
                    <a:pt x="73" y="44"/>
                  </a:lnTo>
                  <a:lnTo>
                    <a:pt x="74" y="43"/>
                  </a:lnTo>
                  <a:lnTo>
                    <a:pt x="77" y="42"/>
                  </a:lnTo>
                  <a:lnTo>
                    <a:pt x="79" y="41"/>
                  </a:lnTo>
                  <a:lnTo>
                    <a:pt x="81" y="41"/>
                  </a:lnTo>
                  <a:lnTo>
                    <a:pt x="83" y="40"/>
                  </a:lnTo>
                  <a:lnTo>
                    <a:pt x="86" y="39"/>
                  </a:lnTo>
                  <a:lnTo>
                    <a:pt x="87" y="38"/>
                  </a:lnTo>
                  <a:lnTo>
                    <a:pt x="90" y="38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6" y="35"/>
                  </a:lnTo>
                  <a:lnTo>
                    <a:pt x="99" y="34"/>
                  </a:lnTo>
                  <a:lnTo>
                    <a:pt x="100" y="34"/>
                  </a:lnTo>
                  <a:lnTo>
                    <a:pt x="102" y="33"/>
                  </a:lnTo>
                  <a:lnTo>
                    <a:pt x="104" y="31"/>
                  </a:lnTo>
                  <a:lnTo>
                    <a:pt x="106" y="31"/>
                  </a:lnTo>
                  <a:lnTo>
                    <a:pt x="109" y="30"/>
                  </a:lnTo>
                  <a:lnTo>
                    <a:pt x="110" y="29"/>
                  </a:lnTo>
                  <a:lnTo>
                    <a:pt x="113" y="29"/>
                  </a:lnTo>
                  <a:lnTo>
                    <a:pt x="115" y="28"/>
                  </a:lnTo>
                  <a:lnTo>
                    <a:pt x="118" y="27"/>
                  </a:lnTo>
                  <a:lnTo>
                    <a:pt x="120" y="27"/>
                  </a:lnTo>
                  <a:lnTo>
                    <a:pt x="122" y="26"/>
                  </a:lnTo>
                  <a:lnTo>
                    <a:pt x="124" y="25"/>
                  </a:lnTo>
                  <a:lnTo>
                    <a:pt x="126" y="25"/>
                  </a:lnTo>
                  <a:lnTo>
                    <a:pt x="128" y="24"/>
                  </a:lnTo>
                  <a:lnTo>
                    <a:pt x="131" y="24"/>
                  </a:lnTo>
                  <a:lnTo>
                    <a:pt x="132" y="23"/>
                  </a:lnTo>
                  <a:lnTo>
                    <a:pt x="134" y="22"/>
                  </a:lnTo>
                  <a:lnTo>
                    <a:pt x="137" y="22"/>
                  </a:lnTo>
                  <a:lnTo>
                    <a:pt x="138" y="21"/>
                  </a:lnTo>
                  <a:lnTo>
                    <a:pt x="141" y="21"/>
                  </a:lnTo>
                  <a:lnTo>
                    <a:pt x="143" y="20"/>
                  </a:lnTo>
                  <a:lnTo>
                    <a:pt x="145" y="20"/>
                  </a:lnTo>
                  <a:lnTo>
                    <a:pt x="147" y="19"/>
                  </a:lnTo>
                  <a:lnTo>
                    <a:pt x="150" y="18"/>
                  </a:lnTo>
                  <a:lnTo>
                    <a:pt x="151" y="18"/>
                  </a:lnTo>
                  <a:lnTo>
                    <a:pt x="154" y="17"/>
                  </a:lnTo>
                  <a:lnTo>
                    <a:pt x="156" y="17"/>
                  </a:lnTo>
                  <a:lnTo>
                    <a:pt x="158" y="16"/>
                  </a:lnTo>
                  <a:lnTo>
                    <a:pt x="160" y="16"/>
                  </a:lnTo>
                  <a:lnTo>
                    <a:pt x="163" y="15"/>
                  </a:lnTo>
                  <a:lnTo>
                    <a:pt x="164" y="15"/>
                  </a:lnTo>
                  <a:lnTo>
                    <a:pt x="166" y="14"/>
                  </a:lnTo>
                  <a:lnTo>
                    <a:pt x="168" y="14"/>
                  </a:lnTo>
                  <a:lnTo>
                    <a:pt x="170" y="13"/>
                  </a:lnTo>
                  <a:lnTo>
                    <a:pt x="173" y="13"/>
                  </a:lnTo>
                  <a:lnTo>
                    <a:pt x="174" y="13"/>
                  </a:lnTo>
                  <a:lnTo>
                    <a:pt x="177" y="12"/>
                  </a:lnTo>
                  <a:lnTo>
                    <a:pt x="179" y="12"/>
                  </a:lnTo>
                  <a:lnTo>
                    <a:pt x="181" y="11"/>
                  </a:lnTo>
                  <a:lnTo>
                    <a:pt x="183" y="11"/>
                  </a:lnTo>
                  <a:lnTo>
                    <a:pt x="186" y="10"/>
                  </a:lnTo>
                  <a:lnTo>
                    <a:pt x="187" y="10"/>
                  </a:lnTo>
                  <a:lnTo>
                    <a:pt x="190" y="10"/>
                  </a:lnTo>
                  <a:lnTo>
                    <a:pt x="192" y="8"/>
                  </a:lnTo>
                  <a:lnTo>
                    <a:pt x="193" y="8"/>
                  </a:lnTo>
                  <a:lnTo>
                    <a:pt x="196" y="7"/>
                  </a:lnTo>
                  <a:lnTo>
                    <a:pt x="199" y="7"/>
                  </a:lnTo>
                  <a:lnTo>
                    <a:pt x="200" y="7"/>
                  </a:lnTo>
                  <a:lnTo>
                    <a:pt x="202" y="6"/>
                  </a:lnTo>
                  <a:lnTo>
                    <a:pt x="205" y="6"/>
                  </a:lnTo>
                  <a:lnTo>
                    <a:pt x="207" y="6"/>
                  </a:lnTo>
                  <a:lnTo>
                    <a:pt x="209" y="5"/>
                  </a:lnTo>
                  <a:lnTo>
                    <a:pt x="211" y="5"/>
                  </a:lnTo>
                  <a:lnTo>
                    <a:pt x="214" y="5"/>
                  </a:lnTo>
                  <a:lnTo>
                    <a:pt x="215" y="5"/>
                  </a:lnTo>
                  <a:lnTo>
                    <a:pt x="218" y="4"/>
                  </a:lnTo>
                  <a:lnTo>
                    <a:pt x="220" y="4"/>
                  </a:lnTo>
                  <a:lnTo>
                    <a:pt x="222" y="4"/>
                  </a:lnTo>
                  <a:lnTo>
                    <a:pt x="224" y="4"/>
                  </a:lnTo>
                  <a:lnTo>
                    <a:pt x="227" y="3"/>
                  </a:lnTo>
                  <a:lnTo>
                    <a:pt x="228" y="3"/>
                  </a:lnTo>
                  <a:lnTo>
                    <a:pt x="231" y="3"/>
                  </a:lnTo>
                  <a:lnTo>
                    <a:pt x="233" y="3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2"/>
                  </a:lnTo>
                  <a:lnTo>
                    <a:pt x="241" y="2"/>
                  </a:lnTo>
                  <a:lnTo>
                    <a:pt x="243" y="2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50" y="1"/>
                  </a:lnTo>
                  <a:lnTo>
                    <a:pt x="252" y="1"/>
                  </a:lnTo>
                  <a:lnTo>
                    <a:pt x="254" y="1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1" y="1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6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2"/>
                  </a:lnTo>
                  <a:lnTo>
                    <a:pt x="330" y="3"/>
                  </a:lnTo>
                  <a:lnTo>
                    <a:pt x="333" y="3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9" y="4"/>
                  </a:lnTo>
                  <a:lnTo>
                    <a:pt x="342" y="4"/>
                  </a:lnTo>
                  <a:lnTo>
                    <a:pt x="343" y="4"/>
                  </a:lnTo>
                  <a:lnTo>
                    <a:pt x="346" y="4"/>
                  </a:lnTo>
                  <a:lnTo>
                    <a:pt x="348" y="5"/>
                  </a:lnTo>
                  <a:lnTo>
                    <a:pt x="350" y="5"/>
                  </a:lnTo>
                  <a:lnTo>
                    <a:pt x="352" y="5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9" y="6"/>
                  </a:lnTo>
                  <a:lnTo>
                    <a:pt x="360" y="6"/>
                  </a:lnTo>
                  <a:lnTo>
                    <a:pt x="362" y="7"/>
                  </a:lnTo>
                  <a:lnTo>
                    <a:pt x="365" y="7"/>
                  </a:lnTo>
                  <a:lnTo>
                    <a:pt x="366" y="8"/>
                  </a:lnTo>
                  <a:lnTo>
                    <a:pt x="369" y="8"/>
                  </a:lnTo>
                  <a:lnTo>
                    <a:pt x="371" y="8"/>
                  </a:lnTo>
                  <a:lnTo>
                    <a:pt x="373" y="10"/>
                  </a:lnTo>
                  <a:lnTo>
                    <a:pt x="375" y="10"/>
                  </a:lnTo>
                  <a:lnTo>
                    <a:pt x="378" y="10"/>
                  </a:lnTo>
                  <a:lnTo>
                    <a:pt x="379" y="11"/>
                  </a:lnTo>
                  <a:lnTo>
                    <a:pt x="382" y="11"/>
                  </a:lnTo>
                  <a:lnTo>
                    <a:pt x="384" y="12"/>
                  </a:lnTo>
                  <a:lnTo>
                    <a:pt x="387" y="12"/>
                  </a:lnTo>
                  <a:lnTo>
                    <a:pt x="388" y="13"/>
                  </a:lnTo>
                  <a:lnTo>
                    <a:pt x="391" y="13"/>
                  </a:lnTo>
                  <a:lnTo>
                    <a:pt x="393" y="13"/>
                  </a:lnTo>
                  <a:lnTo>
                    <a:pt x="394" y="14"/>
                  </a:lnTo>
                  <a:lnTo>
                    <a:pt x="397" y="14"/>
                  </a:lnTo>
                  <a:lnTo>
                    <a:pt x="400" y="15"/>
                  </a:lnTo>
                  <a:lnTo>
                    <a:pt x="401" y="15"/>
                  </a:lnTo>
                  <a:lnTo>
                    <a:pt x="403" y="16"/>
                  </a:lnTo>
                  <a:lnTo>
                    <a:pt x="406" y="16"/>
                  </a:lnTo>
                  <a:lnTo>
                    <a:pt x="407" y="17"/>
                  </a:lnTo>
                  <a:lnTo>
                    <a:pt x="410" y="17"/>
                  </a:lnTo>
                  <a:lnTo>
                    <a:pt x="412" y="18"/>
                  </a:lnTo>
                  <a:lnTo>
                    <a:pt x="414" y="18"/>
                  </a:lnTo>
                  <a:lnTo>
                    <a:pt x="416" y="19"/>
                  </a:lnTo>
                  <a:lnTo>
                    <a:pt x="419" y="19"/>
                  </a:lnTo>
                  <a:lnTo>
                    <a:pt x="420" y="20"/>
                  </a:lnTo>
                  <a:lnTo>
                    <a:pt x="423" y="20"/>
                  </a:lnTo>
                  <a:lnTo>
                    <a:pt x="424" y="21"/>
                  </a:lnTo>
                  <a:lnTo>
                    <a:pt x="426" y="22"/>
                  </a:lnTo>
                  <a:lnTo>
                    <a:pt x="429" y="22"/>
                  </a:lnTo>
                  <a:lnTo>
                    <a:pt x="430" y="23"/>
                  </a:lnTo>
                  <a:lnTo>
                    <a:pt x="433" y="23"/>
                  </a:lnTo>
                  <a:lnTo>
                    <a:pt x="435" y="24"/>
                  </a:lnTo>
                  <a:lnTo>
                    <a:pt x="437" y="24"/>
                  </a:lnTo>
                  <a:lnTo>
                    <a:pt x="439" y="25"/>
                  </a:lnTo>
                  <a:lnTo>
                    <a:pt x="442" y="26"/>
                  </a:lnTo>
                  <a:lnTo>
                    <a:pt x="443" y="26"/>
                  </a:lnTo>
                  <a:lnTo>
                    <a:pt x="446" y="27"/>
                  </a:lnTo>
                  <a:lnTo>
                    <a:pt x="448" y="27"/>
                  </a:lnTo>
                  <a:lnTo>
                    <a:pt x="449" y="28"/>
                  </a:lnTo>
                  <a:lnTo>
                    <a:pt x="452" y="29"/>
                  </a:lnTo>
                  <a:lnTo>
                    <a:pt x="455" y="29"/>
                  </a:lnTo>
                  <a:lnTo>
                    <a:pt x="456" y="30"/>
                  </a:lnTo>
                  <a:lnTo>
                    <a:pt x="458" y="31"/>
                  </a:lnTo>
                  <a:lnTo>
                    <a:pt x="461" y="31"/>
                  </a:lnTo>
                  <a:lnTo>
                    <a:pt x="462" y="33"/>
                  </a:lnTo>
                  <a:lnTo>
                    <a:pt x="465" y="34"/>
                  </a:lnTo>
                  <a:lnTo>
                    <a:pt x="466" y="34"/>
                  </a:lnTo>
                  <a:lnTo>
                    <a:pt x="470" y="35"/>
                  </a:lnTo>
                  <a:lnTo>
                    <a:pt x="471" y="36"/>
                  </a:lnTo>
                  <a:lnTo>
                    <a:pt x="474" y="36"/>
                  </a:lnTo>
                  <a:lnTo>
                    <a:pt x="476" y="38"/>
                  </a:lnTo>
                  <a:lnTo>
                    <a:pt x="478" y="38"/>
                  </a:lnTo>
                  <a:lnTo>
                    <a:pt x="480" y="39"/>
                  </a:lnTo>
                  <a:lnTo>
                    <a:pt x="483" y="40"/>
                  </a:lnTo>
                  <a:lnTo>
                    <a:pt x="484" y="41"/>
                  </a:lnTo>
                  <a:lnTo>
                    <a:pt x="487" y="41"/>
                  </a:lnTo>
                  <a:lnTo>
                    <a:pt x="488" y="42"/>
                  </a:lnTo>
                  <a:lnTo>
                    <a:pt x="490" y="43"/>
                  </a:lnTo>
                  <a:lnTo>
                    <a:pt x="493" y="44"/>
                  </a:lnTo>
                  <a:lnTo>
                    <a:pt x="494" y="44"/>
                  </a:lnTo>
                  <a:lnTo>
                    <a:pt x="497" y="45"/>
                  </a:lnTo>
                  <a:lnTo>
                    <a:pt x="499" y="46"/>
                  </a:lnTo>
                  <a:lnTo>
                    <a:pt x="501" y="47"/>
                  </a:lnTo>
                  <a:lnTo>
                    <a:pt x="503" y="47"/>
                  </a:lnTo>
                  <a:lnTo>
                    <a:pt x="506" y="48"/>
                  </a:lnTo>
                  <a:lnTo>
                    <a:pt x="507" y="49"/>
                  </a:lnTo>
                  <a:lnTo>
                    <a:pt x="510" y="50"/>
                  </a:lnTo>
                  <a:lnTo>
                    <a:pt x="512" y="51"/>
                  </a:lnTo>
                  <a:lnTo>
                    <a:pt x="514" y="51"/>
                  </a:lnTo>
                  <a:lnTo>
                    <a:pt x="516" y="52"/>
                  </a:lnTo>
                  <a:lnTo>
                    <a:pt x="519" y="53"/>
                  </a:lnTo>
                  <a:lnTo>
                    <a:pt x="520" y="55"/>
                  </a:lnTo>
                  <a:lnTo>
                    <a:pt x="522" y="56"/>
                  </a:lnTo>
                  <a:lnTo>
                    <a:pt x="525" y="57"/>
                  </a:lnTo>
                  <a:lnTo>
                    <a:pt x="526" y="57"/>
                  </a:lnTo>
                  <a:lnTo>
                    <a:pt x="529" y="58"/>
                  </a:lnTo>
                  <a:lnTo>
                    <a:pt x="530" y="59"/>
                  </a:lnTo>
                  <a:lnTo>
                    <a:pt x="533" y="60"/>
                  </a:lnTo>
                  <a:lnTo>
                    <a:pt x="535" y="61"/>
                  </a:lnTo>
                  <a:lnTo>
                    <a:pt x="537" y="62"/>
                  </a:lnTo>
                  <a:lnTo>
                    <a:pt x="539" y="63"/>
                  </a:lnTo>
                  <a:lnTo>
                    <a:pt x="542" y="63"/>
                  </a:lnTo>
                  <a:lnTo>
                    <a:pt x="543" y="64"/>
                  </a:lnTo>
                  <a:lnTo>
                    <a:pt x="546" y="65"/>
                  </a:lnTo>
                  <a:lnTo>
                    <a:pt x="548" y="66"/>
                  </a:lnTo>
                  <a:lnTo>
                    <a:pt x="549" y="67"/>
                  </a:lnTo>
                  <a:lnTo>
                    <a:pt x="552" y="68"/>
                  </a:lnTo>
                  <a:lnTo>
                    <a:pt x="554" y="69"/>
                  </a:lnTo>
                  <a:lnTo>
                    <a:pt x="556" y="70"/>
                  </a:lnTo>
                  <a:lnTo>
                    <a:pt x="558" y="71"/>
                  </a:lnTo>
                  <a:lnTo>
                    <a:pt x="561" y="71"/>
                  </a:lnTo>
                  <a:lnTo>
                    <a:pt x="563" y="72"/>
                  </a:lnTo>
                  <a:lnTo>
                    <a:pt x="565" y="73"/>
                  </a:lnTo>
                  <a:lnTo>
                    <a:pt x="567" y="74"/>
                  </a:lnTo>
                  <a:lnTo>
                    <a:pt x="570" y="75"/>
                  </a:lnTo>
                  <a:lnTo>
                    <a:pt x="571" y="76"/>
                  </a:lnTo>
                  <a:lnTo>
                    <a:pt x="574" y="78"/>
                  </a:lnTo>
                  <a:lnTo>
                    <a:pt x="576" y="79"/>
                  </a:lnTo>
                  <a:lnTo>
                    <a:pt x="578" y="80"/>
                  </a:lnTo>
                  <a:lnTo>
                    <a:pt x="580" y="81"/>
                  </a:lnTo>
                  <a:lnTo>
                    <a:pt x="583" y="82"/>
                  </a:lnTo>
                  <a:lnTo>
                    <a:pt x="584" y="83"/>
                  </a:lnTo>
                  <a:lnTo>
                    <a:pt x="587" y="84"/>
                  </a:lnTo>
                  <a:lnTo>
                    <a:pt x="589" y="85"/>
                  </a:lnTo>
                  <a:lnTo>
                    <a:pt x="590" y="86"/>
                  </a:lnTo>
                  <a:lnTo>
                    <a:pt x="593" y="87"/>
                  </a:lnTo>
                  <a:lnTo>
                    <a:pt x="595" y="88"/>
                  </a:lnTo>
                  <a:lnTo>
                    <a:pt x="597" y="89"/>
                  </a:lnTo>
                  <a:lnTo>
                    <a:pt x="599" y="90"/>
                  </a:lnTo>
                  <a:lnTo>
                    <a:pt x="601" y="91"/>
                  </a:lnTo>
                  <a:lnTo>
                    <a:pt x="603" y="92"/>
                  </a:lnTo>
                  <a:lnTo>
                    <a:pt x="606" y="93"/>
                  </a:lnTo>
                  <a:lnTo>
                    <a:pt x="607" y="94"/>
                  </a:lnTo>
                  <a:lnTo>
                    <a:pt x="610" y="95"/>
                  </a:lnTo>
                  <a:lnTo>
                    <a:pt x="612" y="96"/>
                  </a:lnTo>
                  <a:lnTo>
                    <a:pt x="613" y="97"/>
                  </a:lnTo>
                  <a:lnTo>
                    <a:pt x="616" y="98"/>
                  </a:lnTo>
                  <a:lnTo>
                    <a:pt x="619" y="99"/>
                  </a:lnTo>
                  <a:lnTo>
                    <a:pt x="620" y="101"/>
                  </a:lnTo>
                  <a:lnTo>
                    <a:pt x="622" y="102"/>
                  </a:lnTo>
                  <a:lnTo>
                    <a:pt x="625" y="103"/>
                  </a:lnTo>
                  <a:lnTo>
                    <a:pt x="626" y="104"/>
                  </a:lnTo>
                  <a:lnTo>
                    <a:pt x="629" y="105"/>
                  </a:lnTo>
                  <a:lnTo>
                    <a:pt x="631" y="106"/>
                  </a:lnTo>
                  <a:lnTo>
                    <a:pt x="633" y="107"/>
                  </a:lnTo>
                  <a:lnTo>
                    <a:pt x="635" y="108"/>
                  </a:lnTo>
                  <a:lnTo>
                    <a:pt x="638" y="109"/>
                  </a:lnTo>
                  <a:lnTo>
                    <a:pt x="639" y="110"/>
                  </a:lnTo>
                  <a:lnTo>
                    <a:pt x="642" y="111"/>
                  </a:lnTo>
                  <a:lnTo>
                    <a:pt x="644" y="112"/>
                  </a:lnTo>
                  <a:lnTo>
                    <a:pt x="647" y="113"/>
                  </a:lnTo>
                  <a:lnTo>
                    <a:pt x="649" y="114"/>
                  </a:lnTo>
                  <a:lnTo>
                    <a:pt x="651" y="115"/>
                  </a:lnTo>
                  <a:lnTo>
                    <a:pt x="653" y="116"/>
                  </a:lnTo>
                  <a:lnTo>
                    <a:pt x="656" y="117"/>
                  </a:lnTo>
                  <a:lnTo>
                    <a:pt x="657" y="118"/>
                  </a:lnTo>
                  <a:lnTo>
                    <a:pt x="660" y="119"/>
                  </a:lnTo>
                  <a:lnTo>
                    <a:pt x="662" y="121"/>
                  </a:lnTo>
                  <a:lnTo>
                    <a:pt x="663" y="123"/>
                  </a:lnTo>
                  <a:lnTo>
                    <a:pt x="666" y="124"/>
                  </a:lnTo>
                  <a:lnTo>
                    <a:pt x="667" y="125"/>
                  </a:lnTo>
                  <a:lnTo>
                    <a:pt x="670" y="126"/>
                  </a:lnTo>
                  <a:lnTo>
                    <a:pt x="672" y="127"/>
                  </a:lnTo>
                  <a:lnTo>
                    <a:pt x="674" y="128"/>
                  </a:lnTo>
                  <a:lnTo>
                    <a:pt x="676" y="129"/>
                  </a:lnTo>
                  <a:lnTo>
                    <a:pt x="679" y="130"/>
                  </a:lnTo>
                  <a:lnTo>
                    <a:pt x="680" y="131"/>
                  </a:lnTo>
                  <a:lnTo>
                    <a:pt x="683" y="132"/>
                  </a:lnTo>
                  <a:lnTo>
                    <a:pt x="685" y="134"/>
                  </a:lnTo>
                  <a:lnTo>
                    <a:pt x="686" y="135"/>
                  </a:lnTo>
                  <a:lnTo>
                    <a:pt x="689" y="136"/>
                  </a:lnTo>
                  <a:lnTo>
                    <a:pt x="692" y="137"/>
                  </a:lnTo>
                  <a:lnTo>
                    <a:pt x="693" y="138"/>
                  </a:lnTo>
                  <a:lnTo>
                    <a:pt x="695" y="139"/>
                  </a:lnTo>
                  <a:lnTo>
                    <a:pt x="698" y="140"/>
                  </a:lnTo>
                  <a:lnTo>
                    <a:pt x="699" y="142"/>
                  </a:lnTo>
                  <a:lnTo>
                    <a:pt x="702" y="143"/>
                  </a:lnTo>
                  <a:lnTo>
                    <a:pt x="704" y="144"/>
                  </a:lnTo>
                  <a:lnTo>
                    <a:pt x="706" y="146"/>
                  </a:lnTo>
                  <a:lnTo>
                    <a:pt x="708" y="147"/>
                  </a:lnTo>
                  <a:lnTo>
                    <a:pt x="711" y="148"/>
                  </a:lnTo>
                  <a:lnTo>
                    <a:pt x="712" y="149"/>
                  </a:lnTo>
                  <a:lnTo>
                    <a:pt x="715" y="150"/>
                  </a:lnTo>
                  <a:lnTo>
                    <a:pt x="716" y="151"/>
                  </a:lnTo>
                  <a:lnTo>
                    <a:pt x="718" y="153"/>
                  </a:lnTo>
                  <a:lnTo>
                    <a:pt x="721" y="154"/>
                  </a:lnTo>
                  <a:lnTo>
                    <a:pt x="722" y="155"/>
                  </a:lnTo>
                  <a:lnTo>
                    <a:pt x="725" y="156"/>
                  </a:lnTo>
                  <a:lnTo>
                    <a:pt x="727" y="157"/>
                  </a:lnTo>
                  <a:lnTo>
                    <a:pt x="729" y="158"/>
                  </a:lnTo>
                  <a:lnTo>
                    <a:pt x="731" y="159"/>
                  </a:lnTo>
                  <a:lnTo>
                    <a:pt x="734" y="160"/>
                  </a:lnTo>
                  <a:lnTo>
                    <a:pt x="736" y="162"/>
                  </a:lnTo>
                  <a:lnTo>
                    <a:pt x="739" y="163"/>
                  </a:lnTo>
                  <a:lnTo>
                    <a:pt x="740" y="164"/>
                  </a:lnTo>
                  <a:lnTo>
                    <a:pt x="743" y="165"/>
                  </a:lnTo>
                  <a:lnTo>
                    <a:pt x="744" y="166"/>
                  </a:lnTo>
                  <a:lnTo>
                    <a:pt x="747" y="167"/>
                  </a:lnTo>
                  <a:lnTo>
                    <a:pt x="749" y="169"/>
                  </a:lnTo>
                  <a:lnTo>
                    <a:pt x="750" y="170"/>
                  </a:lnTo>
                  <a:lnTo>
                    <a:pt x="753" y="172"/>
                  </a:lnTo>
                  <a:lnTo>
                    <a:pt x="756" y="173"/>
                  </a:lnTo>
                  <a:lnTo>
                    <a:pt x="757" y="174"/>
                  </a:lnTo>
                  <a:lnTo>
                    <a:pt x="759" y="175"/>
                  </a:lnTo>
                  <a:lnTo>
                    <a:pt x="762" y="176"/>
                  </a:lnTo>
                  <a:lnTo>
                    <a:pt x="763" y="177"/>
                  </a:lnTo>
                  <a:lnTo>
                    <a:pt x="766" y="178"/>
                  </a:lnTo>
                  <a:lnTo>
                    <a:pt x="768" y="180"/>
                  </a:lnTo>
                  <a:lnTo>
                    <a:pt x="770" y="181"/>
                  </a:lnTo>
                  <a:lnTo>
                    <a:pt x="772" y="182"/>
                  </a:lnTo>
                  <a:lnTo>
                    <a:pt x="775" y="184"/>
                  </a:lnTo>
                  <a:lnTo>
                    <a:pt x="776" y="185"/>
                  </a:lnTo>
                  <a:lnTo>
                    <a:pt x="779" y="186"/>
                  </a:lnTo>
                  <a:lnTo>
                    <a:pt x="781" y="187"/>
                  </a:lnTo>
                  <a:lnTo>
                    <a:pt x="782" y="188"/>
                  </a:lnTo>
                  <a:lnTo>
                    <a:pt x="785" y="189"/>
                  </a:lnTo>
                  <a:lnTo>
                    <a:pt x="786" y="192"/>
                  </a:lnTo>
                  <a:lnTo>
                    <a:pt x="789" y="193"/>
                  </a:lnTo>
                  <a:lnTo>
                    <a:pt x="791" y="194"/>
                  </a:lnTo>
                  <a:lnTo>
                    <a:pt x="793" y="195"/>
                  </a:lnTo>
                  <a:lnTo>
                    <a:pt x="795" y="196"/>
                  </a:lnTo>
                  <a:lnTo>
                    <a:pt x="798" y="197"/>
                  </a:lnTo>
                  <a:lnTo>
                    <a:pt x="799" y="198"/>
                  </a:lnTo>
                  <a:lnTo>
                    <a:pt x="802" y="200"/>
                  </a:lnTo>
                  <a:lnTo>
                    <a:pt x="804" y="201"/>
                  </a:lnTo>
                  <a:lnTo>
                    <a:pt x="805" y="202"/>
                  </a:lnTo>
                  <a:lnTo>
                    <a:pt x="808" y="203"/>
                  </a:lnTo>
                  <a:lnTo>
                    <a:pt x="811" y="204"/>
                  </a:lnTo>
                  <a:lnTo>
                    <a:pt x="812" y="205"/>
                  </a:lnTo>
                  <a:lnTo>
                    <a:pt x="814" y="207"/>
                  </a:lnTo>
                  <a:lnTo>
                    <a:pt x="817" y="208"/>
                  </a:lnTo>
                  <a:lnTo>
                    <a:pt x="818" y="209"/>
                  </a:lnTo>
                  <a:lnTo>
                    <a:pt x="821" y="210"/>
                  </a:lnTo>
                  <a:lnTo>
                    <a:pt x="823" y="211"/>
                  </a:lnTo>
                  <a:lnTo>
                    <a:pt x="826" y="212"/>
                  </a:lnTo>
                  <a:lnTo>
                    <a:pt x="827" y="215"/>
                  </a:lnTo>
                  <a:lnTo>
                    <a:pt x="830" y="216"/>
                  </a:lnTo>
                  <a:lnTo>
                    <a:pt x="832" y="217"/>
                  </a:lnTo>
                  <a:lnTo>
                    <a:pt x="834" y="218"/>
                  </a:lnTo>
                  <a:lnTo>
                    <a:pt x="836" y="219"/>
                  </a:lnTo>
                  <a:lnTo>
                    <a:pt x="839" y="220"/>
                  </a:lnTo>
                  <a:lnTo>
                    <a:pt x="840" y="222"/>
                  </a:lnTo>
                  <a:lnTo>
                    <a:pt x="843" y="223"/>
                  </a:lnTo>
                  <a:lnTo>
                    <a:pt x="845" y="224"/>
                  </a:lnTo>
                  <a:lnTo>
                    <a:pt x="846" y="225"/>
                  </a:lnTo>
                  <a:lnTo>
                    <a:pt x="849" y="226"/>
                  </a:lnTo>
                  <a:lnTo>
                    <a:pt x="850" y="227"/>
                  </a:lnTo>
                  <a:lnTo>
                    <a:pt x="853" y="229"/>
                  </a:lnTo>
                  <a:lnTo>
                    <a:pt x="855" y="230"/>
                  </a:lnTo>
                  <a:lnTo>
                    <a:pt x="857" y="231"/>
                  </a:lnTo>
                  <a:lnTo>
                    <a:pt x="859" y="232"/>
                  </a:lnTo>
                  <a:lnTo>
                    <a:pt x="862" y="234"/>
                  </a:lnTo>
                  <a:lnTo>
                    <a:pt x="863" y="235"/>
                  </a:lnTo>
                  <a:lnTo>
                    <a:pt x="866" y="237"/>
                  </a:lnTo>
                  <a:lnTo>
                    <a:pt x="868" y="238"/>
                  </a:lnTo>
                  <a:lnTo>
                    <a:pt x="870" y="239"/>
                  </a:lnTo>
                  <a:lnTo>
                    <a:pt x="872" y="240"/>
                  </a:lnTo>
                  <a:lnTo>
                    <a:pt x="875" y="241"/>
                  </a:lnTo>
                  <a:lnTo>
                    <a:pt x="876" y="243"/>
                  </a:lnTo>
                  <a:lnTo>
                    <a:pt x="878" y="244"/>
                  </a:lnTo>
                  <a:lnTo>
                    <a:pt x="881" y="245"/>
                  </a:lnTo>
                  <a:lnTo>
                    <a:pt x="882" y="246"/>
                  </a:lnTo>
                  <a:lnTo>
                    <a:pt x="885" y="247"/>
                  </a:lnTo>
                  <a:lnTo>
                    <a:pt x="887" y="248"/>
                  </a:lnTo>
                  <a:lnTo>
                    <a:pt x="889" y="249"/>
                  </a:lnTo>
                  <a:lnTo>
                    <a:pt x="891" y="250"/>
                  </a:lnTo>
                  <a:lnTo>
                    <a:pt x="893" y="252"/>
                  </a:lnTo>
                  <a:lnTo>
                    <a:pt x="895" y="253"/>
                  </a:lnTo>
                  <a:lnTo>
                    <a:pt x="898" y="254"/>
                  </a:lnTo>
                  <a:lnTo>
                    <a:pt x="899" y="255"/>
                  </a:lnTo>
                  <a:lnTo>
                    <a:pt x="902" y="256"/>
                  </a:lnTo>
                  <a:lnTo>
                    <a:pt x="904" y="257"/>
                  </a:lnTo>
                  <a:lnTo>
                    <a:pt x="905" y="259"/>
                  </a:lnTo>
                  <a:lnTo>
                    <a:pt x="908" y="260"/>
                  </a:lnTo>
                  <a:lnTo>
                    <a:pt x="910" y="261"/>
                  </a:lnTo>
                  <a:lnTo>
                    <a:pt x="913" y="263"/>
                  </a:lnTo>
                  <a:lnTo>
                    <a:pt x="914" y="264"/>
                  </a:lnTo>
                  <a:lnTo>
                    <a:pt x="917" y="265"/>
                  </a:lnTo>
                  <a:lnTo>
                    <a:pt x="919" y="266"/>
                  </a:lnTo>
                  <a:lnTo>
                    <a:pt x="921" y="267"/>
                  </a:lnTo>
                  <a:lnTo>
                    <a:pt x="923" y="268"/>
                  </a:lnTo>
                  <a:lnTo>
                    <a:pt x="926" y="269"/>
                  </a:lnTo>
                  <a:lnTo>
                    <a:pt x="927" y="270"/>
                  </a:lnTo>
                  <a:lnTo>
                    <a:pt x="930" y="271"/>
                  </a:lnTo>
                  <a:lnTo>
                    <a:pt x="932" y="272"/>
                  </a:lnTo>
                  <a:lnTo>
                    <a:pt x="934" y="273"/>
                  </a:lnTo>
                  <a:lnTo>
                    <a:pt x="936" y="274"/>
                  </a:lnTo>
                  <a:lnTo>
                    <a:pt x="939" y="276"/>
                  </a:lnTo>
                  <a:lnTo>
                    <a:pt x="940" y="277"/>
                  </a:lnTo>
                  <a:lnTo>
                    <a:pt x="943" y="278"/>
                  </a:lnTo>
                  <a:lnTo>
                    <a:pt x="945" y="279"/>
                  </a:lnTo>
                  <a:lnTo>
                    <a:pt x="946" y="280"/>
                  </a:lnTo>
                  <a:lnTo>
                    <a:pt x="949" y="282"/>
                  </a:lnTo>
                  <a:lnTo>
                    <a:pt x="951" y="283"/>
                  </a:lnTo>
                  <a:lnTo>
                    <a:pt x="953" y="284"/>
                  </a:lnTo>
                  <a:lnTo>
                    <a:pt x="955" y="285"/>
                  </a:lnTo>
                  <a:lnTo>
                    <a:pt x="957" y="286"/>
                  </a:lnTo>
                  <a:lnTo>
                    <a:pt x="959" y="288"/>
                  </a:lnTo>
                  <a:lnTo>
                    <a:pt x="962" y="289"/>
                  </a:lnTo>
                  <a:lnTo>
                    <a:pt x="963" y="290"/>
                  </a:lnTo>
                  <a:lnTo>
                    <a:pt x="966" y="291"/>
                  </a:lnTo>
                  <a:lnTo>
                    <a:pt x="968" y="292"/>
                  </a:lnTo>
                  <a:lnTo>
                    <a:pt x="969" y="293"/>
                  </a:lnTo>
                  <a:lnTo>
                    <a:pt x="972" y="294"/>
                  </a:lnTo>
                  <a:lnTo>
                    <a:pt x="975" y="295"/>
                  </a:lnTo>
                  <a:lnTo>
                    <a:pt x="976" y="296"/>
                  </a:lnTo>
                  <a:lnTo>
                    <a:pt x="978" y="297"/>
                  </a:lnTo>
                  <a:lnTo>
                    <a:pt x="981" y="298"/>
                  </a:lnTo>
                  <a:lnTo>
                    <a:pt x="982" y="299"/>
                  </a:lnTo>
                  <a:lnTo>
                    <a:pt x="985" y="300"/>
                  </a:lnTo>
                  <a:lnTo>
                    <a:pt x="987" y="301"/>
                  </a:lnTo>
                  <a:lnTo>
                    <a:pt x="989" y="302"/>
                  </a:lnTo>
                  <a:lnTo>
                    <a:pt x="991" y="302"/>
                  </a:lnTo>
                  <a:lnTo>
                    <a:pt x="994" y="303"/>
                  </a:lnTo>
                  <a:lnTo>
                    <a:pt x="995" y="305"/>
                  </a:lnTo>
                  <a:lnTo>
                    <a:pt x="998" y="306"/>
                  </a:lnTo>
                  <a:lnTo>
                    <a:pt x="1000" y="307"/>
                  </a:lnTo>
                  <a:lnTo>
                    <a:pt x="1003" y="308"/>
                  </a:lnTo>
                  <a:lnTo>
                    <a:pt x="1004" y="309"/>
                  </a:lnTo>
                  <a:lnTo>
                    <a:pt x="1007" y="310"/>
                  </a:lnTo>
                  <a:lnTo>
                    <a:pt x="1009" y="311"/>
                  </a:lnTo>
                  <a:lnTo>
                    <a:pt x="1010" y="312"/>
                  </a:lnTo>
                  <a:lnTo>
                    <a:pt x="1013" y="313"/>
                  </a:lnTo>
                  <a:lnTo>
                    <a:pt x="1015" y="314"/>
                  </a:lnTo>
                  <a:lnTo>
                    <a:pt x="1017" y="315"/>
                  </a:lnTo>
                  <a:lnTo>
                    <a:pt x="1019" y="316"/>
                  </a:lnTo>
                  <a:lnTo>
                    <a:pt x="1022" y="316"/>
                  </a:lnTo>
                  <a:lnTo>
                    <a:pt x="1023" y="317"/>
                  </a:lnTo>
                  <a:lnTo>
                    <a:pt x="1026" y="318"/>
                  </a:lnTo>
                  <a:lnTo>
                    <a:pt x="1028" y="319"/>
                  </a:lnTo>
                  <a:lnTo>
                    <a:pt x="1030" y="320"/>
                  </a:lnTo>
                  <a:lnTo>
                    <a:pt x="1032" y="321"/>
                  </a:lnTo>
                  <a:lnTo>
                    <a:pt x="1035" y="322"/>
                  </a:lnTo>
                  <a:lnTo>
                    <a:pt x="1036" y="323"/>
                  </a:lnTo>
                  <a:lnTo>
                    <a:pt x="1039" y="323"/>
                  </a:lnTo>
                  <a:lnTo>
                    <a:pt x="1041" y="325"/>
                  </a:lnTo>
                  <a:lnTo>
                    <a:pt x="1042" y="327"/>
                  </a:lnTo>
                  <a:lnTo>
                    <a:pt x="1045" y="327"/>
                  </a:lnTo>
                  <a:lnTo>
                    <a:pt x="1048" y="328"/>
                  </a:lnTo>
                  <a:lnTo>
                    <a:pt x="1049" y="329"/>
                  </a:lnTo>
                  <a:lnTo>
                    <a:pt x="1051" y="330"/>
                  </a:lnTo>
                  <a:lnTo>
                    <a:pt x="1054" y="331"/>
                  </a:lnTo>
                  <a:lnTo>
                    <a:pt x="1055" y="331"/>
                  </a:lnTo>
                  <a:lnTo>
                    <a:pt x="1058" y="332"/>
                  </a:lnTo>
                  <a:lnTo>
                    <a:pt x="1060" y="333"/>
                  </a:lnTo>
                  <a:lnTo>
                    <a:pt x="1062" y="334"/>
                  </a:lnTo>
                  <a:lnTo>
                    <a:pt x="1064" y="33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008320" y="2792520"/>
              <a:ext cx="295560" cy="55440"/>
            </a:xfrm>
            <a:custGeom>
              <a:avLst/>
              <a:gdLst/>
              <a:ahLst/>
              <a:rect l="l" t="t" r="r" b="b"/>
              <a:pathLst>
                <a:path w="174" h="35">
                  <a:moveTo>
                    <a:pt x="0" y="0"/>
                  </a:moveTo>
                  <a:lnTo>
                    <a:pt x="3" y="1"/>
                  </a:lnTo>
                  <a:lnTo>
                    <a:pt x="4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1" y="13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8" y="16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8" y="19"/>
                  </a:lnTo>
                  <a:lnTo>
                    <a:pt x="60" y="19"/>
                  </a:lnTo>
                  <a:lnTo>
                    <a:pt x="62" y="20"/>
                  </a:lnTo>
                  <a:lnTo>
                    <a:pt x="64" y="20"/>
                  </a:lnTo>
                  <a:lnTo>
                    <a:pt x="67" y="21"/>
                  </a:lnTo>
                  <a:lnTo>
                    <a:pt x="68" y="21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3" y="25"/>
                  </a:lnTo>
                  <a:lnTo>
                    <a:pt x="85" y="25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1" y="26"/>
                  </a:lnTo>
                  <a:lnTo>
                    <a:pt x="94" y="27"/>
                  </a:lnTo>
                  <a:lnTo>
                    <a:pt x="96" y="27"/>
                  </a:lnTo>
                  <a:lnTo>
                    <a:pt x="97" y="27"/>
                  </a:lnTo>
                  <a:lnTo>
                    <a:pt x="100" y="28"/>
                  </a:lnTo>
                  <a:lnTo>
                    <a:pt x="103" y="28"/>
                  </a:lnTo>
                  <a:lnTo>
                    <a:pt x="104" y="28"/>
                  </a:lnTo>
                  <a:lnTo>
                    <a:pt x="106" y="29"/>
                  </a:lnTo>
                  <a:lnTo>
                    <a:pt x="109" y="29"/>
                  </a:lnTo>
                  <a:lnTo>
                    <a:pt x="110" y="29"/>
                  </a:lnTo>
                  <a:lnTo>
                    <a:pt x="113" y="30"/>
                  </a:lnTo>
                  <a:lnTo>
                    <a:pt x="115" y="30"/>
                  </a:lnTo>
                  <a:lnTo>
                    <a:pt x="118" y="30"/>
                  </a:lnTo>
                  <a:lnTo>
                    <a:pt x="119" y="30"/>
                  </a:lnTo>
                  <a:lnTo>
                    <a:pt x="122" y="31"/>
                  </a:lnTo>
                  <a:lnTo>
                    <a:pt x="124" y="31"/>
                  </a:lnTo>
                  <a:lnTo>
                    <a:pt x="126" y="31"/>
                  </a:lnTo>
                  <a:lnTo>
                    <a:pt x="128" y="31"/>
                  </a:lnTo>
                  <a:lnTo>
                    <a:pt x="129" y="32"/>
                  </a:lnTo>
                  <a:lnTo>
                    <a:pt x="132" y="32"/>
                  </a:lnTo>
                  <a:lnTo>
                    <a:pt x="133" y="32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0" y="33"/>
                  </a:lnTo>
                  <a:lnTo>
                    <a:pt x="141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7" y="33"/>
                  </a:lnTo>
                  <a:lnTo>
                    <a:pt x="149" y="33"/>
                  </a:lnTo>
                  <a:lnTo>
                    <a:pt x="150" y="33"/>
                  </a:lnTo>
                  <a:lnTo>
                    <a:pt x="153" y="34"/>
                  </a:lnTo>
                  <a:lnTo>
                    <a:pt x="154" y="34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8" y="34"/>
                  </a:lnTo>
                  <a:lnTo>
                    <a:pt x="159" y="34"/>
                  </a:lnTo>
                  <a:lnTo>
                    <a:pt x="160" y="34"/>
                  </a:lnTo>
                  <a:lnTo>
                    <a:pt x="162" y="34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74" y="35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6" name=""/>
          <p:cNvSpPr/>
          <p:nvPr/>
        </p:nvSpPr>
        <p:spPr>
          <a:xfrm>
            <a:off x="1403280" y="1327320"/>
            <a:ext cx="19080" cy="28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1422360" y="133020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1425600" y="133020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1427040" y="133020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1428840" y="133020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1433520" y="133020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1434960" y="133020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1436760" y="13320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1438200" y="13320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1441440" y="13320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1444680" y="13320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1446120" y="13320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1449360" y="13334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1452600" y="13334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1457280" y="13334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1460520" y="13352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1461960" y="13352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1467000" y="13352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1468440" y="13366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1473120" y="13366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1476360" y="13366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1479600" y="133812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1589040" y="137016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1590840" y="137160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1595520" y="13716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1596960" y="13730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1600200" y="137484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1604880" y="13780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1606680" y="1379520"/>
            <a:ext cx="6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614600" y="13809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1616040" y="13827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1620720" y="138420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1622520" y="138600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627200" y="138744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1630440" y="13906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1635120" y="139212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1638360" y="13939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1643040" y="13953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1644480" y="139716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1649520" y="13986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1652760" y="14018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1654200" y="1403280"/>
            <a:ext cx="64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1660680" y="14065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1665360" y="14079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1666800" y="140976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1773360" y="14828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1773360" y="1482840"/>
            <a:ext cx="28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1776240" y="148752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1778040" y="149076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1782720" y="1492200"/>
            <a:ext cx="64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789200" y="1495440"/>
            <a:ext cx="1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790640" y="149868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793880" y="15019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1798560" y="150336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1800360" y="150660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805040" y="1509840"/>
            <a:ext cx="32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1808280" y="151272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1812960" y="151596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1816200" y="151920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1817640" y="152388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1822320" y="152568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1827360" y="1528920"/>
            <a:ext cx="14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1828800" y="15318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1832040" y="1535040"/>
            <a:ext cx="61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1838160" y="15382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1922400" y="162072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1924200" y="162252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1928880" y="162576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30320" y="1630440"/>
            <a:ext cx="64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36800" y="1635120"/>
            <a:ext cx="1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1938240" y="163836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1941480" y="164304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1946160" y="164628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1947960" y="1649520"/>
            <a:ext cx="46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1952640" y="16542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1955880" y="165744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959120" y="1660680"/>
            <a:ext cx="468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1963800" y="1663560"/>
            <a:ext cx="468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1968480" y="1670040"/>
            <a:ext cx="1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1969920" y="167328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1974960" y="167652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1978200" y="168120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2052720" y="17636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052720" y="1765440"/>
            <a:ext cx="32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2055960" y="1768320"/>
            <a:ext cx="468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2060640" y="17748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2065320" y="177804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2068560" y="178272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2071800" y="178740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2076480" y="179064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2077920" y="179532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2082960" y="1798560"/>
            <a:ext cx="28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2085840" y="180324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2090880" y="1806480"/>
            <a:ext cx="288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2093760" y="181296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2098800" y="181620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2100240" y="182088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2173320" y="1905120"/>
            <a:ext cx="32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2176560" y="1908000"/>
            <a:ext cx="324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2179800" y="1913040"/>
            <a:ext cx="28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2182680" y="191772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185920" y="19224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2189160" y="1925640"/>
            <a:ext cx="46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2193840" y="193032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2198520" y="1933560"/>
            <a:ext cx="180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2200320" y="1938240"/>
            <a:ext cx="324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2203560" y="1943280"/>
            <a:ext cx="468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2208240" y="1946160"/>
            <a:ext cx="144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2214720" y="195120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2217600" y="1955880"/>
            <a:ext cx="180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2219400" y="196056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2224080" y="1963800"/>
            <a:ext cx="1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2297160" y="20480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2300400" y="2048040"/>
            <a:ext cx="14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2301840" y="205272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2306520" y="2055960"/>
            <a:ext cx="32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2309760" y="2058840"/>
            <a:ext cx="180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2311560" y="2065320"/>
            <a:ext cx="61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2317680" y="206856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2322360" y="207180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2324160" y="207504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2327400" y="207972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2332080" y="2082960"/>
            <a:ext cx="14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2333520" y="2085840"/>
            <a:ext cx="648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2340000" y="208908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2343240" y="2093760"/>
            <a:ext cx="324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2346480" y="2098800"/>
            <a:ext cx="28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2349360" y="210348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2354400" y="210672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441520" y="218916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2441520" y="218916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443320" y="219240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2448000" y="2195640"/>
            <a:ext cx="32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2451240" y="2198520"/>
            <a:ext cx="28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2454120" y="2201760"/>
            <a:ext cx="324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2457360" y="220680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462040" y="220824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2463840" y="2211480"/>
            <a:ext cx="64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2470320" y="2214720"/>
            <a:ext cx="288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2473200" y="221760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2475000" y="22208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2479680" y="2222640"/>
            <a:ext cx="468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2484360" y="222552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2486160" y="2228760"/>
            <a:ext cx="28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2489040" y="2232000"/>
            <a:ext cx="6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1" name=""/>
          <p:cNvGrpSpPr/>
          <p:nvPr/>
        </p:nvGrpSpPr>
        <p:grpSpPr>
          <a:xfrm>
            <a:off x="2495520" y="2166840"/>
            <a:ext cx="1528560" cy="212760"/>
            <a:chOff x="2495520" y="2166840"/>
            <a:chExt cx="1528560" cy="212760"/>
          </a:xfrm>
        </p:grpSpPr>
        <p:sp>
          <p:nvSpPr>
            <p:cNvPr id="4732" name=""/>
            <p:cNvSpPr/>
            <p:nvPr/>
          </p:nvSpPr>
          <p:spPr>
            <a:xfrm>
              <a:off x="2495520" y="2233440"/>
              <a:ext cx="14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496960" y="2236680"/>
              <a:ext cx="504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502360" y="2241360"/>
              <a:ext cx="32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505600" y="2244600"/>
              <a:ext cx="288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510640" y="224784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617560" y="231588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617560" y="231768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620440" y="23191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624040" y="232056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2627280" y="2322360"/>
              <a:ext cx="468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632320" y="232560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634480" y="232704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2639160" y="232848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642760" y="23302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644200" y="23317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649240" y="2333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652840" y="23349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2657880" y="233640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2659680" y="233640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2664720" y="233820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2667960" y="23396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671560" y="234144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2674800" y="234288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2680200" y="234432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2681640" y="2346120"/>
              <a:ext cx="468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686680" y="2349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689920" y="2349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2693520" y="235080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2801880" y="237456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2801880" y="237456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2803680" y="2374560"/>
              <a:ext cx="28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2810160" y="237636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811960" y="23763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817000" y="2376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820600" y="23763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822040" y="23763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2827080" y="2376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2830680" y="2376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2833920" y="237780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837520" y="237780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840760" y="2377800"/>
              <a:ext cx="28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844000" y="237780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2849400" y="237780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2850840" y="237780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2855880" y="237780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2859480" y="237780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2861280" y="237780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866320" y="237780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2871360" y="237780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 flipV="1">
              <a:off x="2872800" y="2376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2876400" y="2376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2984400" y="236196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2984400" y="236196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flipV="1">
              <a:off x="2989800" y="236052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2994840" y="23605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 flipV="1">
              <a:off x="2996280" y="235836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2999880" y="23587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flipV="1">
              <a:off x="3004920" y="235728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flipV="1">
              <a:off x="3006720" y="23551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3011760" y="235548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V="1">
              <a:off x="3015360" y="23540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3018600" y="235404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flipV="1">
              <a:off x="3021840" y="235260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3027240" y="23526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 flipV="1">
              <a:off x="3028680" y="235044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V="1">
              <a:off x="3033720" y="234936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3035520" y="2349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flipV="1">
              <a:off x="3039120" y="2345760"/>
              <a:ext cx="468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3044160" y="23461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3045600" y="23439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 flipV="1">
              <a:off x="3050640" y="23428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053880" y="23428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V="1">
              <a:off x="3057480" y="23414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061080" y="23414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3169080" y="230328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V="1">
              <a:off x="3169080" y="23011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3174120" y="230004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3175920" y="229860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V="1">
              <a:off x="3180960" y="22964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V="1">
              <a:off x="3184560" y="22953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3186000" y="22953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V="1">
              <a:off x="3191040" y="229320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flipV="1">
              <a:off x="3196440" y="22921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3197880" y="22906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V="1">
              <a:off x="3201480" y="22885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V="1">
              <a:off x="3206520" y="228744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 flipV="1">
              <a:off x="3208320" y="228528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3213360" y="22856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flipV="1">
              <a:off x="3216960" y="228420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flipV="1">
              <a:off x="3219840" y="22827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V="1">
              <a:off x="3223440" y="228060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 flipV="1">
              <a:off x="3228480" y="227952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V="1">
              <a:off x="3230280" y="22773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3235320" y="2274120"/>
              <a:ext cx="180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237120" y="227448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V="1">
              <a:off x="3242160" y="22730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flipV="1">
              <a:off x="3245760" y="22716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 flipV="1">
              <a:off x="3247200" y="226944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3254040" y="22683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V="1">
              <a:off x="3255480" y="226620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260520" y="22665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3265560" y="226512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V="1">
              <a:off x="3267360" y="22636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 flipV="1">
              <a:off x="3270960" y="226152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3274200" y="226044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3277440" y="225828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3282840" y="22572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284280" y="22572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V="1">
              <a:off x="3391200" y="22176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392640" y="221760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 flipV="1">
              <a:off x="3397680" y="221544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V="1">
              <a:off x="3399480" y="22143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404520" y="22143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3408120" y="221220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3413160" y="221112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3414960" y="221112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V="1">
              <a:off x="3420000" y="22096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V="1">
              <a:off x="3423240" y="220752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3425040" y="220788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3429720" y="22064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3433320" y="2202840"/>
              <a:ext cx="32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436920" y="220320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V="1">
              <a:off x="3440160" y="22017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V="1">
              <a:off x="3445200" y="219960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3446640" y="219996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V="1">
              <a:off x="3452040" y="21985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53840" y="219852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3458520" y="219636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62120" y="219672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3463560" y="219528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3468960" y="21952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3577320" y="21747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577320" y="21747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582360" y="217476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3584160" y="2172600"/>
              <a:ext cx="28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3587400" y="217296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3592800" y="217296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3594240" y="21729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3599280" y="2171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3602520" y="2171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3606120" y="2171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3609720" y="217152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flipV="1">
              <a:off x="3614400" y="216936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616200" y="216972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3621600" y="2169720"/>
              <a:ext cx="28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3624480" y="216972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3626640" y="21697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3631320" y="21697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636360" y="2169720"/>
              <a:ext cx="1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3638520" y="2166840"/>
              <a:ext cx="2880" cy="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641400" y="216684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646800" y="216684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3648240" y="216684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3653280" y="216684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3762000" y="216972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3762000" y="217152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3765240" y="2171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3768480" y="21715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772080" y="217152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777120" y="217152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778920" y="21729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783960" y="217296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787200" y="217296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789000" y="21729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794040" y="217476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799080" y="21747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800880" y="217476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804120" y="217476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809160" y="21762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810600" y="2176200"/>
              <a:ext cx="50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816000" y="2176200"/>
              <a:ext cx="2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819240" y="21776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3822840" y="21776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3826080" y="217764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3831120" y="217944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832920" y="217944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3837960" y="217944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3946320" y="220320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946320" y="2203200"/>
              <a:ext cx="32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3949920" y="220644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3953160" y="220788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3956760" y="2207880"/>
              <a:ext cx="1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3958200" y="220968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963240" y="22096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966480" y="221112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970080" y="221256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973680" y="221256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978720" y="22143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980160" y="221580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985560" y="2215800"/>
              <a:ext cx="28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988440" y="221760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992040" y="221904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95280" y="2220840"/>
              <a:ext cx="46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000320" y="2220840"/>
              <a:ext cx="1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003920" y="2222280"/>
              <a:ext cx="3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007520" y="2223720"/>
              <a:ext cx="32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010760" y="2223720"/>
              <a:ext cx="46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015800" y="22255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017240" y="2226960"/>
              <a:ext cx="50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022640" y="22287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2" name=""/>
          <p:cNvSpPr/>
          <p:nvPr/>
        </p:nvSpPr>
        <p:spPr>
          <a:xfrm>
            <a:off x="4132440" y="22701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4132440" y="22701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4133880" y="227160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4137120" y="22734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4140360" y="2274840"/>
            <a:ext cx="28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4143240" y="227808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4148280" y="227952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4151160" y="228132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4157640" y="22827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4159080" y="228456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4164120" y="22845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4167360" y="228600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4170240" y="22874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4173480" y="228924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4175280" y="229068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4179960" y="2292480"/>
            <a:ext cx="6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4186080" y="229392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4187880" y="229536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4191120" y="229716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4195800" y="229860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197240" y="230040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4202280" y="2301840"/>
            <a:ext cx="28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4205160" y="230364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4314960" y="235728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4314960" y="235728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4319640" y="2359080"/>
            <a:ext cx="14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4321080" y="23623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4325760" y="23637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4329000" y="236520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4334040" y="236700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4336920" y="236844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4341960" y="23702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4343400" y="237168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4348080" y="237492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4351320" y="23763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4352760" y="2378160"/>
            <a:ext cx="6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4359240" y="237960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4363920" y="238140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4365720" y="238284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4368960" y="238608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4373640" y="238932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4375080" y="239076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4379760" y="239220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4381560" y="2394000"/>
            <a:ext cx="61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4387680" y="239544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4390920" y="239868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4498920" y="24591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4502160" y="24606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4505400" y="2462040"/>
            <a:ext cx="6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4511520" y="246384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4513320" y="24670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4516560" y="246852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4521240" y="2470320"/>
            <a:ext cx="144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4522680" y="247176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4527720" y="247500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4530600" y="247644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4535640" y="247824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4538520" y="2479680"/>
            <a:ext cx="50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4543560" y="248292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4545000" y="248436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4549680" y="24861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4552920" y="24876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4556160" y="249084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4560840" y="24940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4565520" y="249552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4567320" y="249696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570560" y="2498760"/>
            <a:ext cx="28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573440" y="25020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4683240" y="256212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686480" y="256536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4691160" y="25671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4692600" y="2568600"/>
            <a:ext cx="46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4697280" y="25718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4700520" y="257328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4703760" y="25750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4707000" y="2576520"/>
            <a:ext cx="6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4713120" y="2577960"/>
            <a:ext cx="1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4714920" y="258120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4719600" y="25830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4722840" y="25844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4724280" y="258588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4729320" y="25876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4734000" y="258912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4737240" y="259236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4740120" y="259380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4745160" y="25956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4748040" y="25970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4751280" y="2598840"/>
            <a:ext cx="32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4754520" y="26035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4759200" y="260496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4762440" y="260676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4869000" y="26607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4870440" y="266220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4871880" y="266400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4876920" y="266544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4881600" y="266688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4883040" y="26686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4886280" y="2670120"/>
            <a:ext cx="64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4892760" y="26733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4897440" y="267480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4900680" y="26766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4902120" y="26780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4906800" y="267984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>
            <a:off x="4911840" y="268128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4915080" y="2682720"/>
            <a:ext cx="28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4917960" y="2684520"/>
            <a:ext cx="5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4923000" y="26859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4924440" y="268776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4929120" y="26892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4932360" y="26892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4935600" y="26906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4940280" y="269244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4944960" y="269388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4946760" y="269568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5008680" y="272268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5010120" y="2722680"/>
            <a:ext cx="64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5016600" y="272412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5018040" y="272556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5022720" y="272556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5025960" y="272736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5029200" y="272880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5032440" y="273060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5037120" y="27306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5040360" y="27320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5045040" y="27338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5048280" y="273528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5052960" y="27352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5054760" y="273672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5059440" y="273852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5062680" y="2738520"/>
            <a:ext cx="2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5065560" y="2739960"/>
            <a:ext cx="5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5070600" y="274176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5075280" y="274176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5076720" y="2743200"/>
            <a:ext cx="32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5079960" y="274644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5084640" y="274644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5194440" y="277020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5195880" y="27702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5200560" y="277020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5203800" y="27716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5207040" y="27716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5210280" y="27716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5213520" y="277344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5218200" y="277344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5222880" y="27734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5224320" y="27734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5227560" y="277488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5230800" y="277488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5234040" y="277488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5238720" y="277488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5241960" y="277488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5246640" y="27766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5248440" y="277668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5249880" y="27766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5254560" y="27766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5256360" y="277668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5261040" y="277668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5262480" y="277668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5264280" y="2778120"/>
            <a:ext cx="4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5268960" y="277812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5270400" y="2778120"/>
            <a:ext cx="1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V="1">
            <a:off x="1403280" y="3144960"/>
            <a:ext cx="3240" cy="56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 flipV="1">
            <a:off x="5303880" y="3144960"/>
            <a:ext cx="1440" cy="56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1366920" y="129384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1277280" y="634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2527560" y="6345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3787920" y="6345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5068800" y="633564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1344600" y="287496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1344600" y="287964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1363680" y="253368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021480" y="635472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e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6458040" y="43117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-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5796720" y="562284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3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6096960" y="50036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3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6087600" y="46227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6153480" y="529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6629400" y="5832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6629400" y="54324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629400" y="52610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6629400" y="48229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 flipV="1">
            <a:off x="1403280" y="6268680"/>
            <a:ext cx="3240" cy="44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 flipV="1">
            <a:off x="2054160" y="6269040"/>
            <a:ext cx="1800" cy="22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2705040" y="6268680"/>
            <a:ext cx="1800" cy="44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V="1">
            <a:off x="3354480" y="6269040"/>
            <a:ext cx="1440" cy="22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 flipV="1">
            <a:off x="4005360" y="6268680"/>
            <a:ext cx="1440" cy="44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 flipV="1">
            <a:off x="4654440" y="6269040"/>
            <a:ext cx="1800" cy="22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 flipV="1">
            <a:off x="5307120" y="6268680"/>
            <a:ext cx="1440" cy="44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1403280" y="6261120"/>
            <a:ext cx="39038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1328760" y="626904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1366920" y="5805360"/>
            <a:ext cx="363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328760" y="5608800"/>
            <a:ext cx="74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1366920" y="5411880"/>
            <a:ext cx="363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1328760" y="521352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1366920" y="5014800"/>
            <a:ext cx="363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1328760" y="481824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1366920" y="462132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1328760" y="442260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 flipV="1">
            <a:off x="1403280" y="3504960"/>
            <a:ext cx="6480" cy="275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 flipV="1">
            <a:off x="1403280" y="6269040"/>
            <a:ext cx="324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 flipV="1">
            <a:off x="2054160" y="6269040"/>
            <a:ext cx="1800" cy="23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 flipV="1">
            <a:off x="2705040" y="6269040"/>
            <a:ext cx="180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V="1">
            <a:off x="3355920" y="6269040"/>
            <a:ext cx="1800" cy="23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V="1">
            <a:off x="4008600" y="6269040"/>
            <a:ext cx="144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V="1">
            <a:off x="4657680" y="6269040"/>
            <a:ext cx="1800" cy="23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 flipV="1">
            <a:off x="5308560" y="6269040"/>
            <a:ext cx="180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1328760" y="626904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366920" y="5805360"/>
            <a:ext cx="363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1328760" y="5608800"/>
            <a:ext cx="74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1366920" y="5410080"/>
            <a:ext cx="363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1328760" y="521172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1366920" y="501336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1328760" y="4816440"/>
            <a:ext cx="74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1366920" y="461808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1328760" y="441972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1325520" y="5607000"/>
            <a:ext cx="76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 flipV="1">
            <a:off x="1411200" y="6265800"/>
            <a:ext cx="180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V="1">
            <a:off x="5303880" y="6265800"/>
            <a:ext cx="1440" cy="46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1335240" y="5607000"/>
            <a:ext cx="7596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1371600" y="5410080"/>
            <a:ext cx="3960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1411200" y="4937040"/>
            <a:ext cx="1797120" cy="652680"/>
          </a:xfrm>
          <a:custGeom>
            <a:avLst/>
            <a:gdLst/>
            <a:ahLst/>
            <a:rect l="l" t="t" r="r" b="b"/>
            <a:pathLst>
              <a:path w="1061" h="520">
                <a:moveTo>
                  <a:pt x="0" y="482"/>
                </a:moveTo>
                <a:lnTo>
                  <a:pt x="11" y="482"/>
                </a:lnTo>
                <a:lnTo>
                  <a:pt x="13" y="482"/>
                </a:lnTo>
                <a:lnTo>
                  <a:pt x="14" y="482"/>
                </a:lnTo>
                <a:lnTo>
                  <a:pt x="15" y="482"/>
                </a:lnTo>
                <a:lnTo>
                  <a:pt x="16" y="482"/>
                </a:lnTo>
                <a:lnTo>
                  <a:pt x="18" y="482"/>
                </a:lnTo>
                <a:lnTo>
                  <a:pt x="19" y="482"/>
                </a:lnTo>
                <a:lnTo>
                  <a:pt x="20" y="482"/>
                </a:lnTo>
                <a:lnTo>
                  <a:pt x="21" y="482"/>
                </a:lnTo>
                <a:lnTo>
                  <a:pt x="24" y="482"/>
                </a:lnTo>
                <a:lnTo>
                  <a:pt x="25" y="482"/>
                </a:lnTo>
                <a:lnTo>
                  <a:pt x="27" y="482"/>
                </a:lnTo>
                <a:lnTo>
                  <a:pt x="29" y="482"/>
                </a:lnTo>
                <a:lnTo>
                  <a:pt x="30" y="482"/>
                </a:lnTo>
                <a:lnTo>
                  <a:pt x="33" y="482"/>
                </a:lnTo>
                <a:lnTo>
                  <a:pt x="34" y="482"/>
                </a:lnTo>
                <a:lnTo>
                  <a:pt x="36" y="482"/>
                </a:lnTo>
                <a:lnTo>
                  <a:pt x="38" y="482"/>
                </a:lnTo>
                <a:lnTo>
                  <a:pt x="41" y="482"/>
                </a:lnTo>
                <a:lnTo>
                  <a:pt x="42" y="482"/>
                </a:lnTo>
                <a:lnTo>
                  <a:pt x="45" y="482"/>
                </a:lnTo>
                <a:lnTo>
                  <a:pt x="46" y="482"/>
                </a:lnTo>
                <a:lnTo>
                  <a:pt x="48" y="482"/>
                </a:lnTo>
                <a:lnTo>
                  <a:pt x="50" y="482"/>
                </a:lnTo>
                <a:lnTo>
                  <a:pt x="52" y="482"/>
                </a:lnTo>
                <a:lnTo>
                  <a:pt x="55" y="482"/>
                </a:lnTo>
                <a:lnTo>
                  <a:pt x="56" y="482"/>
                </a:lnTo>
                <a:lnTo>
                  <a:pt x="59" y="482"/>
                </a:lnTo>
                <a:lnTo>
                  <a:pt x="61" y="482"/>
                </a:lnTo>
                <a:lnTo>
                  <a:pt x="62" y="482"/>
                </a:lnTo>
                <a:lnTo>
                  <a:pt x="65" y="482"/>
                </a:lnTo>
                <a:lnTo>
                  <a:pt x="68" y="482"/>
                </a:lnTo>
                <a:lnTo>
                  <a:pt x="69" y="482"/>
                </a:lnTo>
                <a:lnTo>
                  <a:pt x="71" y="482"/>
                </a:lnTo>
                <a:lnTo>
                  <a:pt x="74" y="482"/>
                </a:lnTo>
                <a:lnTo>
                  <a:pt x="75" y="482"/>
                </a:lnTo>
                <a:lnTo>
                  <a:pt x="78" y="481"/>
                </a:lnTo>
                <a:lnTo>
                  <a:pt x="80" y="481"/>
                </a:lnTo>
                <a:lnTo>
                  <a:pt x="83" y="481"/>
                </a:lnTo>
                <a:lnTo>
                  <a:pt x="84" y="481"/>
                </a:lnTo>
                <a:lnTo>
                  <a:pt x="87" y="481"/>
                </a:lnTo>
                <a:lnTo>
                  <a:pt x="89" y="481"/>
                </a:lnTo>
                <a:lnTo>
                  <a:pt x="91" y="481"/>
                </a:lnTo>
                <a:lnTo>
                  <a:pt x="93" y="481"/>
                </a:lnTo>
                <a:lnTo>
                  <a:pt x="96" y="481"/>
                </a:lnTo>
                <a:lnTo>
                  <a:pt x="97" y="481"/>
                </a:lnTo>
                <a:lnTo>
                  <a:pt x="100" y="481"/>
                </a:lnTo>
                <a:lnTo>
                  <a:pt x="101" y="481"/>
                </a:lnTo>
                <a:lnTo>
                  <a:pt x="103" y="481"/>
                </a:lnTo>
                <a:lnTo>
                  <a:pt x="106" y="481"/>
                </a:lnTo>
                <a:lnTo>
                  <a:pt x="107" y="481"/>
                </a:lnTo>
                <a:lnTo>
                  <a:pt x="110" y="481"/>
                </a:lnTo>
                <a:lnTo>
                  <a:pt x="112" y="481"/>
                </a:lnTo>
                <a:lnTo>
                  <a:pt x="114" y="481"/>
                </a:lnTo>
                <a:lnTo>
                  <a:pt x="116" y="481"/>
                </a:lnTo>
                <a:lnTo>
                  <a:pt x="119" y="481"/>
                </a:lnTo>
                <a:lnTo>
                  <a:pt x="120" y="481"/>
                </a:lnTo>
                <a:lnTo>
                  <a:pt x="123" y="481"/>
                </a:lnTo>
                <a:lnTo>
                  <a:pt x="125" y="481"/>
                </a:lnTo>
                <a:lnTo>
                  <a:pt x="126" y="481"/>
                </a:lnTo>
                <a:lnTo>
                  <a:pt x="129" y="481"/>
                </a:lnTo>
                <a:lnTo>
                  <a:pt x="132" y="481"/>
                </a:lnTo>
                <a:lnTo>
                  <a:pt x="133" y="481"/>
                </a:lnTo>
                <a:lnTo>
                  <a:pt x="135" y="481"/>
                </a:lnTo>
                <a:lnTo>
                  <a:pt x="138" y="481"/>
                </a:lnTo>
                <a:lnTo>
                  <a:pt x="139" y="481"/>
                </a:lnTo>
                <a:lnTo>
                  <a:pt x="142" y="481"/>
                </a:lnTo>
                <a:lnTo>
                  <a:pt x="144" y="481"/>
                </a:lnTo>
                <a:lnTo>
                  <a:pt x="146" y="481"/>
                </a:lnTo>
                <a:lnTo>
                  <a:pt x="148" y="481"/>
                </a:lnTo>
                <a:lnTo>
                  <a:pt x="151" y="481"/>
                </a:lnTo>
                <a:lnTo>
                  <a:pt x="152" y="481"/>
                </a:lnTo>
                <a:lnTo>
                  <a:pt x="155" y="481"/>
                </a:lnTo>
                <a:lnTo>
                  <a:pt x="157" y="481"/>
                </a:lnTo>
                <a:lnTo>
                  <a:pt x="159" y="481"/>
                </a:lnTo>
                <a:lnTo>
                  <a:pt x="161" y="481"/>
                </a:lnTo>
                <a:lnTo>
                  <a:pt x="164" y="481"/>
                </a:lnTo>
                <a:lnTo>
                  <a:pt x="165" y="481"/>
                </a:lnTo>
                <a:lnTo>
                  <a:pt x="167" y="481"/>
                </a:lnTo>
                <a:lnTo>
                  <a:pt x="170" y="481"/>
                </a:lnTo>
                <a:lnTo>
                  <a:pt x="171" y="481"/>
                </a:lnTo>
                <a:lnTo>
                  <a:pt x="174" y="481"/>
                </a:lnTo>
                <a:lnTo>
                  <a:pt x="176" y="481"/>
                </a:lnTo>
                <a:lnTo>
                  <a:pt x="178" y="481"/>
                </a:lnTo>
                <a:lnTo>
                  <a:pt x="180" y="481"/>
                </a:lnTo>
                <a:lnTo>
                  <a:pt x="183" y="481"/>
                </a:lnTo>
                <a:lnTo>
                  <a:pt x="184" y="481"/>
                </a:lnTo>
                <a:lnTo>
                  <a:pt x="187" y="481"/>
                </a:lnTo>
                <a:lnTo>
                  <a:pt x="189" y="481"/>
                </a:lnTo>
                <a:lnTo>
                  <a:pt x="191" y="481"/>
                </a:lnTo>
                <a:lnTo>
                  <a:pt x="193" y="481"/>
                </a:lnTo>
                <a:lnTo>
                  <a:pt x="194" y="481"/>
                </a:lnTo>
                <a:lnTo>
                  <a:pt x="198" y="481"/>
                </a:lnTo>
                <a:lnTo>
                  <a:pt x="199" y="481"/>
                </a:lnTo>
                <a:lnTo>
                  <a:pt x="202" y="481"/>
                </a:lnTo>
                <a:lnTo>
                  <a:pt x="205" y="481"/>
                </a:lnTo>
                <a:lnTo>
                  <a:pt x="206" y="482"/>
                </a:lnTo>
                <a:lnTo>
                  <a:pt x="208" y="482"/>
                </a:lnTo>
                <a:lnTo>
                  <a:pt x="211" y="482"/>
                </a:lnTo>
                <a:lnTo>
                  <a:pt x="212" y="482"/>
                </a:lnTo>
                <a:lnTo>
                  <a:pt x="215" y="482"/>
                </a:lnTo>
                <a:lnTo>
                  <a:pt x="217" y="482"/>
                </a:lnTo>
                <a:lnTo>
                  <a:pt x="219" y="482"/>
                </a:lnTo>
                <a:lnTo>
                  <a:pt x="221" y="482"/>
                </a:lnTo>
                <a:lnTo>
                  <a:pt x="223" y="482"/>
                </a:lnTo>
                <a:lnTo>
                  <a:pt x="225" y="482"/>
                </a:lnTo>
                <a:lnTo>
                  <a:pt x="228" y="482"/>
                </a:lnTo>
                <a:lnTo>
                  <a:pt x="229" y="482"/>
                </a:lnTo>
                <a:lnTo>
                  <a:pt x="232" y="483"/>
                </a:lnTo>
                <a:lnTo>
                  <a:pt x="234" y="483"/>
                </a:lnTo>
                <a:lnTo>
                  <a:pt x="235" y="483"/>
                </a:lnTo>
                <a:lnTo>
                  <a:pt x="238" y="483"/>
                </a:lnTo>
                <a:lnTo>
                  <a:pt x="240" y="483"/>
                </a:lnTo>
                <a:lnTo>
                  <a:pt x="242" y="483"/>
                </a:lnTo>
                <a:lnTo>
                  <a:pt x="244" y="483"/>
                </a:lnTo>
                <a:lnTo>
                  <a:pt x="247" y="483"/>
                </a:lnTo>
                <a:lnTo>
                  <a:pt x="248" y="483"/>
                </a:lnTo>
                <a:lnTo>
                  <a:pt x="251" y="484"/>
                </a:lnTo>
                <a:lnTo>
                  <a:pt x="253" y="484"/>
                </a:lnTo>
                <a:lnTo>
                  <a:pt x="255" y="484"/>
                </a:lnTo>
                <a:lnTo>
                  <a:pt x="257" y="484"/>
                </a:lnTo>
                <a:lnTo>
                  <a:pt x="260" y="484"/>
                </a:lnTo>
                <a:lnTo>
                  <a:pt x="261" y="484"/>
                </a:lnTo>
                <a:lnTo>
                  <a:pt x="264" y="484"/>
                </a:lnTo>
                <a:lnTo>
                  <a:pt x="266" y="485"/>
                </a:lnTo>
                <a:lnTo>
                  <a:pt x="267" y="485"/>
                </a:lnTo>
                <a:lnTo>
                  <a:pt x="270" y="485"/>
                </a:lnTo>
                <a:lnTo>
                  <a:pt x="271" y="485"/>
                </a:lnTo>
                <a:lnTo>
                  <a:pt x="274" y="485"/>
                </a:lnTo>
                <a:lnTo>
                  <a:pt x="276" y="485"/>
                </a:lnTo>
                <a:lnTo>
                  <a:pt x="278" y="486"/>
                </a:lnTo>
                <a:lnTo>
                  <a:pt x="280" y="486"/>
                </a:lnTo>
                <a:lnTo>
                  <a:pt x="283" y="486"/>
                </a:lnTo>
                <a:lnTo>
                  <a:pt x="284" y="486"/>
                </a:lnTo>
                <a:lnTo>
                  <a:pt x="287" y="486"/>
                </a:lnTo>
                <a:lnTo>
                  <a:pt x="289" y="488"/>
                </a:lnTo>
                <a:lnTo>
                  <a:pt x="290" y="488"/>
                </a:lnTo>
                <a:lnTo>
                  <a:pt x="293" y="488"/>
                </a:lnTo>
                <a:lnTo>
                  <a:pt x="296" y="488"/>
                </a:lnTo>
                <a:lnTo>
                  <a:pt x="297" y="488"/>
                </a:lnTo>
                <a:lnTo>
                  <a:pt x="299" y="489"/>
                </a:lnTo>
                <a:lnTo>
                  <a:pt x="302" y="489"/>
                </a:lnTo>
                <a:lnTo>
                  <a:pt x="303" y="489"/>
                </a:lnTo>
                <a:lnTo>
                  <a:pt x="306" y="489"/>
                </a:lnTo>
                <a:lnTo>
                  <a:pt x="308" y="490"/>
                </a:lnTo>
                <a:lnTo>
                  <a:pt x="310" y="490"/>
                </a:lnTo>
                <a:lnTo>
                  <a:pt x="312" y="490"/>
                </a:lnTo>
                <a:lnTo>
                  <a:pt x="315" y="490"/>
                </a:lnTo>
                <a:lnTo>
                  <a:pt x="317" y="491"/>
                </a:lnTo>
                <a:lnTo>
                  <a:pt x="319" y="491"/>
                </a:lnTo>
                <a:lnTo>
                  <a:pt x="321" y="491"/>
                </a:lnTo>
                <a:lnTo>
                  <a:pt x="324" y="491"/>
                </a:lnTo>
                <a:lnTo>
                  <a:pt x="325" y="492"/>
                </a:lnTo>
                <a:lnTo>
                  <a:pt x="328" y="492"/>
                </a:lnTo>
                <a:lnTo>
                  <a:pt x="330" y="492"/>
                </a:lnTo>
                <a:lnTo>
                  <a:pt x="331" y="492"/>
                </a:lnTo>
                <a:lnTo>
                  <a:pt x="334" y="493"/>
                </a:lnTo>
                <a:lnTo>
                  <a:pt x="335" y="493"/>
                </a:lnTo>
                <a:lnTo>
                  <a:pt x="338" y="493"/>
                </a:lnTo>
                <a:lnTo>
                  <a:pt x="340" y="494"/>
                </a:lnTo>
                <a:lnTo>
                  <a:pt x="342" y="494"/>
                </a:lnTo>
                <a:lnTo>
                  <a:pt x="344" y="494"/>
                </a:lnTo>
                <a:lnTo>
                  <a:pt x="347" y="494"/>
                </a:lnTo>
                <a:lnTo>
                  <a:pt x="348" y="495"/>
                </a:lnTo>
                <a:lnTo>
                  <a:pt x="351" y="495"/>
                </a:lnTo>
                <a:lnTo>
                  <a:pt x="353" y="495"/>
                </a:lnTo>
                <a:lnTo>
                  <a:pt x="354" y="496"/>
                </a:lnTo>
                <a:lnTo>
                  <a:pt x="357" y="496"/>
                </a:lnTo>
                <a:lnTo>
                  <a:pt x="360" y="496"/>
                </a:lnTo>
                <a:lnTo>
                  <a:pt x="361" y="497"/>
                </a:lnTo>
                <a:lnTo>
                  <a:pt x="363" y="497"/>
                </a:lnTo>
                <a:lnTo>
                  <a:pt x="366" y="497"/>
                </a:lnTo>
                <a:lnTo>
                  <a:pt x="367" y="498"/>
                </a:lnTo>
                <a:lnTo>
                  <a:pt x="370" y="498"/>
                </a:lnTo>
                <a:lnTo>
                  <a:pt x="372" y="498"/>
                </a:lnTo>
                <a:lnTo>
                  <a:pt x="374" y="499"/>
                </a:lnTo>
                <a:lnTo>
                  <a:pt x="376" y="499"/>
                </a:lnTo>
                <a:lnTo>
                  <a:pt x="377" y="499"/>
                </a:lnTo>
                <a:lnTo>
                  <a:pt x="380" y="500"/>
                </a:lnTo>
                <a:lnTo>
                  <a:pt x="383" y="500"/>
                </a:lnTo>
                <a:lnTo>
                  <a:pt x="384" y="500"/>
                </a:lnTo>
                <a:lnTo>
                  <a:pt x="386" y="501"/>
                </a:lnTo>
                <a:lnTo>
                  <a:pt x="389" y="501"/>
                </a:lnTo>
                <a:lnTo>
                  <a:pt x="390" y="501"/>
                </a:lnTo>
                <a:lnTo>
                  <a:pt x="393" y="502"/>
                </a:lnTo>
                <a:lnTo>
                  <a:pt x="395" y="502"/>
                </a:lnTo>
                <a:lnTo>
                  <a:pt x="397" y="502"/>
                </a:lnTo>
                <a:lnTo>
                  <a:pt x="399" y="503"/>
                </a:lnTo>
                <a:lnTo>
                  <a:pt x="402" y="503"/>
                </a:lnTo>
                <a:lnTo>
                  <a:pt x="403" y="503"/>
                </a:lnTo>
                <a:lnTo>
                  <a:pt x="406" y="504"/>
                </a:lnTo>
                <a:lnTo>
                  <a:pt x="408" y="504"/>
                </a:lnTo>
                <a:lnTo>
                  <a:pt x="409" y="505"/>
                </a:lnTo>
                <a:lnTo>
                  <a:pt x="412" y="505"/>
                </a:lnTo>
                <a:lnTo>
                  <a:pt x="415" y="505"/>
                </a:lnTo>
                <a:lnTo>
                  <a:pt x="416" y="506"/>
                </a:lnTo>
                <a:lnTo>
                  <a:pt x="418" y="506"/>
                </a:lnTo>
                <a:lnTo>
                  <a:pt x="420" y="506"/>
                </a:lnTo>
                <a:lnTo>
                  <a:pt x="422" y="507"/>
                </a:lnTo>
                <a:lnTo>
                  <a:pt x="425" y="507"/>
                </a:lnTo>
                <a:lnTo>
                  <a:pt x="426" y="507"/>
                </a:lnTo>
                <a:lnTo>
                  <a:pt x="430" y="508"/>
                </a:lnTo>
                <a:lnTo>
                  <a:pt x="431" y="508"/>
                </a:lnTo>
                <a:lnTo>
                  <a:pt x="434" y="508"/>
                </a:lnTo>
                <a:lnTo>
                  <a:pt x="436" y="509"/>
                </a:lnTo>
                <a:lnTo>
                  <a:pt x="438" y="509"/>
                </a:lnTo>
                <a:lnTo>
                  <a:pt x="440" y="509"/>
                </a:lnTo>
                <a:lnTo>
                  <a:pt x="442" y="511"/>
                </a:lnTo>
                <a:lnTo>
                  <a:pt x="444" y="511"/>
                </a:lnTo>
                <a:lnTo>
                  <a:pt x="447" y="511"/>
                </a:lnTo>
                <a:lnTo>
                  <a:pt x="448" y="512"/>
                </a:lnTo>
                <a:lnTo>
                  <a:pt x="450" y="512"/>
                </a:lnTo>
                <a:lnTo>
                  <a:pt x="453" y="512"/>
                </a:lnTo>
                <a:lnTo>
                  <a:pt x="454" y="512"/>
                </a:lnTo>
                <a:lnTo>
                  <a:pt x="457" y="513"/>
                </a:lnTo>
                <a:lnTo>
                  <a:pt x="459" y="513"/>
                </a:lnTo>
                <a:lnTo>
                  <a:pt x="461" y="513"/>
                </a:lnTo>
                <a:lnTo>
                  <a:pt x="463" y="514"/>
                </a:lnTo>
                <a:lnTo>
                  <a:pt x="466" y="514"/>
                </a:lnTo>
                <a:lnTo>
                  <a:pt x="467" y="514"/>
                </a:lnTo>
                <a:lnTo>
                  <a:pt x="470" y="514"/>
                </a:lnTo>
                <a:lnTo>
                  <a:pt x="472" y="515"/>
                </a:lnTo>
                <a:lnTo>
                  <a:pt x="474" y="515"/>
                </a:lnTo>
                <a:lnTo>
                  <a:pt x="476" y="515"/>
                </a:lnTo>
                <a:lnTo>
                  <a:pt x="479" y="516"/>
                </a:lnTo>
                <a:lnTo>
                  <a:pt x="480" y="516"/>
                </a:lnTo>
                <a:lnTo>
                  <a:pt x="482" y="516"/>
                </a:lnTo>
                <a:lnTo>
                  <a:pt x="484" y="516"/>
                </a:lnTo>
                <a:lnTo>
                  <a:pt x="486" y="516"/>
                </a:lnTo>
                <a:lnTo>
                  <a:pt x="489" y="517"/>
                </a:lnTo>
                <a:lnTo>
                  <a:pt x="490" y="517"/>
                </a:lnTo>
                <a:lnTo>
                  <a:pt x="493" y="517"/>
                </a:lnTo>
                <a:lnTo>
                  <a:pt x="495" y="517"/>
                </a:lnTo>
                <a:lnTo>
                  <a:pt x="497" y="518"/>
                </a:lnTo>
                <a:lnTo>
                  <a:pt x="499" y="518"/>
                </a:lnTo>
                <a:lnTo>
                  <a:pt x="502" y="518"/>
                </a:lnTo>
                <a:lnTo>
                  <a:pt x="503" y="518"/>
                </a:lnTo>
                <a:lnTo>
                  <a:pt x="506" y="518"/>
                </a:lnTo>
                <a:lnTo>
                  <a:pt x="508" y="518"/>
                </a:lnTo>
                <a:lnTo>
                  <a:pt x="509" y="519"/>
                </a:lnTo>
                <a:lnTo>
                  <a:pt x="512" y="519"/>
                </a:lnTo>
                <a:lnTo>
                  <a:pt x="515" y="519"/>
                </a:lnTo>
                <a:lnTo>
                  <a:pt x="516" y="519"/>
                </a:lnTo>
                <a:lnTo>
                  <a:pt x="518" y="519"/>
                </a:lnTo>
                <a:lnTo>
                  <a:pt x="521" y="519"/>
                </a:lnTo>
                <a:lnTo>
                  <a:pt x="522" y="519"/>
                </a:lnTo>
                <a:lnTo>
                  <a:pt x="525" y="519"/>
                </a:lnTo>
                <a:lnTo>
                  <a:pt x="527" y="519"/>
                </a:lnTo>
                <a:lnTo>
                  <a:pt x="529" y="519"/>
                </a:lnTo>
                <a:lnTo>
                  <a:pt x="531" y="519"/>
                </a:lnTo>
                <a:lnTo>
                  <a:pt x="534" y="520"/>
                </a:lnTo>
                <a:lnTo>
                  <a:pt x="535" y="520"/>
                </a:lnTo>
                <a:lnTo>
                  <a:pt x="538" y="520"/>
                </a:lnTo>
                <a:lnTo>
                  <a:pt x="540" y="520"/>
                </a:lnTo>
                <a:lnTo>
                  <a:pt x="541" y="520"/>
                </a:lnTo>
                <a:lnTo>
                  <a:pt x="544" y="520"/>
                </a:lnTo>
                <a:lnTo>
                  <a:pt x="547" y="520"/>
                </a:lnTo>
                <a:lnTo>
                  <a:pt x="549" y="520"/>
                </a:lnTo>
                <a:lnTo>
                  <a:pt x="550" y="519"/>
                </a:lnTo>
                <a:lnTo>
                  <a:pt x="553" y="519"/>
                </a:lnTo>
                <a:lnTo>
                  <a:pt x="555" y="519"/>
                </a:lnTo>
                <a:lnTo>
                  <a:pt x="557" y="519"/>
                </a:lnTo>
                <a:lnTo>
                  <a:pt x="559" y="519"/>
                </a:lnTo>
                <a:lnTo>
                  <a:pt x="562" y="519"/>
                </a:lnTo>
                <a:lnTo>
                  <a:pt x="563" y="519"/>
                </a:lnTo>
                <a:lnTo>
                  <a:pt x="566" y="519"/>
                </a:lnTo>
                <a:lnTo>
                  <a:pt x="568" y="519"/>
                </a:lnTo>
                <a:lnTo>
                  <a:pt x="570" y="518"/>
                </a:lnTo>
                <a:lnTo>
                  <a:pt x="572" y="518"/>
                </a:lnTo>
                <a:lnTo>
                  <a:pt x="575" y="518"/>
                </a:lnTo>
                <a:lnTo>
                  <a:pt x="576" y="518"/>
                </a:lnTo>
                <a:lnTo>
                  <a:pt x="579" y="518"/>
                </a:lnTo>
                <a:lnTo>
                  <a:pt x="581" y="517"/>
                </a:lnTo>
                <a:lnTo>
                  <a:pt x="582" y="517"/>
                </a:lnTo>
                <a:lnTo>
                  <a:pt x="585" y="517"/>
                </a:lnTo>
                <a:lnTo>
                  <a:pt x="587" y="517"/>
                </a:lnTo>
                <a:lnTo>
                  <a:pt x="589" y="516"/>
                </a:lnTo>
                <a:lnTo>
                  <a:pt x="591" y="516"/>
                </a:lnTo>
                <a:lnTo>
                  <a:pt x="594" y="516"/>
                </a:lnTo>
                <a:lnTo>
                  <a:pt x="595" y="515"/>
                </a:lnTo>
                <a:lnTo>
                  <a:pt x="598" y="515"/>
                </a:lnTo>
                <a:lnTo>
                  <a:pt x="600" y="515"/>
                </a:lnTo>
                <a:lnTo>
                  <a:pt x="602" y="514"/>
                </a:lnTo>
                <a:lnTo>
                  <a:pt x="604" y="514"/>
                </a:lnTo>
                <a:lnTo>
                  <a:pt x="605" y="513"/>
                </a:lnTo>
                <a:lnTo>
                  <a:pt x="608" y="513"/>
                </a:lnTo>
                <a:lnTo>
                  <a:pt x="611" y="512"/>
                </a:lnTo>
                <a:lnTo>
                  <a:pt x="612" y="512"/>
                </a:lnTo>
                <a:lnTo>
                  <a:pt x="614" y="512"/>
                </a:lnTo>
                <a:lnTo>
                  <a:pt x="617" y="511"/>
                </a:lnTo>
                <a:lnTo>
                  <a:pt x="618" y="509"/>
                </a:lnTo>
                <a:lnTo>
                  <a:pt x="621" y="509"/>
                </a:lnTo>
                <a:lnTo>
                  <a:pt x="623" y="508"/>
                </a:lnTo>
                <a:lnTo>
                  <a:pt x="625" y="508"/>
                </a:lnTo>
                <a:lnTo>
                  <a:pt x="627" y="507"/>
                </a:lnTo>
                <a:lnTo>
                  <a:pt x="630" y="507"/>
                </a:lnTo>
                <a:lnTo>
                  <a:pt x="631" y="506"/>
                </a:lnTo>
                <a:lnTo>
                  <a:pt x="634" y="505"/>
                </a:lnTo>
                <a:lnTo>
                  <a:pt x="636" y="505"/>
                </a:lnTo>
                <a:lnTo>
                  <a:pt x="637" y="504"/>
                </a:lnTo>
                <a:lnTo>
                  <a:pt x="640" y="503"/>
                </a:lnTo>
                <a:lnTo>
                  <a:pt x="643" y="502"/>
                </a:lnTo>
                <a:lnTo>
                  <a:pt x="644" y="502"/>
                </a:lnTo>
                <a:lnTo>
                  <a:pt x="646" y="501"/>
                </a:lnTo>
                <a:lnTo>
                  <a:pt x="649" y="500"/>
                </a:lnTo>
                <a:lnTo>
                  <a:pt x="650" y="499"/>
                </a:lnTo>
                <a:lnTo>
                  <a:pt x="653" y="499"/>
                </a:lnTo>
                <a:lnTo>
                  <a:pt x="654" y="498"/>
                </a:lnTo>
                <a:lnTo>
                  <a:pt x="657" y="497"/>
                </a:lnTo>
                <a:lnTo>
                  <a:pt x="659" y="496"/>
                </a:lnTo>
                <a:lnTo>
                  <a:pt x="660" y="495"/>
                </a:lnTo>
                <a:lnTo>
                  <a:pt x="664" y="494"/>
                </a:lnTo>
                <a:lnTo>
                  <a:pt x="666" y="493"/>
                </a:lnTo>
                <a:lnTo>
                  <a:pt x="668" y="492"/>
                </a:lnTo>
                <a:lnTo>
                  <a:pt x="671" y="491"/>
                </a:lnTo>
                <a:lnTo>
                  <a:pt x="672" y="490"/>
                </a:lnTo>
                <a:lnTo>
                  <a:pt x="675" y="489"/>
                </a:lnTo>
                <a:lnTo>
                  <a:pt x="676" y="488"/>
                </a:lnTo>
                <a:lnTo>
                  <a:pt x="678" y="486"/>
                </a:lnTo>
                <a:lnTo>
                  <a:pt x="681" y="485"/>
                </a:lnTo>
                <a:lnTo>
                  <a:pt x="682" y="484"/>
                </a:lnTo>
                <a:lnTo>
                  <a:pt x="685" y="483"/>
                </a:lnTo>
                <a:lnTo>
                  <a:pt x="687" y="482"/>
                </a:lnTo>
                <a:lnTo>
                  <a:pt x="689" y="480"/>
                </a:lnTo>
                <a:lnTo>
                  <a:pt x="691" y="479"/>
                </a:lnTo>
                <a:lnTo>
                  <a:pt x="694" y="478"/>
                </a:lnTo>
                <a:lnTo>
                  <a:pt x="695" y="477"/>
                </a:lnTo>
                <a:lnTo>
                  <a:pt x="698" y="476"/>
                </a:lnTo>
                <a:lnTo>
                  <a:pt x="700" y="474"/>
                </a:lnTo>
                <a:lnTo>
                  <a:pt x="701" y="473"/>
                </a:lnTo>
                <a:lnTo>
                  <a:pt x="704" y="472"/>
                </a:lnTo>
                <a:lnTo>
                  <a:pt x="707" y="470"/>
                </a:lnTo>
                <a:lnTo>
                  <a:pt x="708" y="469"/>
                </a:lnTo>
                <a:lnTo>
                  <a:pt x="710" y="467"/>
                </a:lnTo>
                <a:lnTo>
                  <a:pt x="713" y="466"/>
                </a:lnTo>
                <a:lnTo>
                  <a:pt x="714" y="465"/>
                </a:lnTo>
                <a:lnTo>
                  <a:pt x="717" y="462"/>
                </a:lnTo>
                <a:lnTo>
                  <a:pt x="718" y="461"/>
                </a:lnTo>
                <a:lnTo>
                  <a:pt x="721" y="459"/>
                </a:lnTo>
                <a:lnTo>
                  <a:pt x="723" y="458"/>
                </a:lnTo>
                <a:lnTo>
                  <a:pt x="725" y="456"/>
                </a:lnTo>
                <a:lnTo>
                  <a:pt x="727" y="455"/>
                </a:lnTo>
                <a:lnTo>
                  <a:pt x="730" y="453"/>
                </a:lnTo>
                <a:lnTo>
                  <a:pt x="731" y="451"/>
                </a:lnTo>
                <a:lnTo>
                  <a:pt x="733" y="450"/>
                </a:lnTo>
                <a:lnTo>
                  <a:pt x="736" y="448"/>
                </a:lnTo>
                <a:lnTo>
                  <a:pt x="737" y="446"/>
                </a:lnTo>
                <a:lnTo>
                  <a:pt x="740" y="444"/>
                </a:lnTo>
                <a:lnTo>
                  <a:pt x="742" y="441"/>
                </a:lnTo>
                <a:lnTo>
                  <a:pt x="744" y="440"/>
                </a:lnTo>
                <a:lnTo>
                  <a:pt x="746" y="438"/>
                </a:lnTo>
                <a:lnTo>
                  <a:pt x="749" y="436"/>
                </a:lnTo>
                <a:lnTo>
                  <a:pt x="750" y="434"/>
                </a:lnTo>
                <a:lnTo>
                  <a:pt x="753" y="432"/>
                </a:lnTo>
                <a:lnTo>
                  <a:pt x="755" y="431"/>
                </a:lnTo>
                <a:lnTo>
                  <a:pt x="757" y="429"/>
                </a:lnTo>
                <a:lnTo>
                  <a:pt x="759" y="427"/>
                </a:lnTo>
                <a:lnTo>
                  <a:pt x="760" y="425"/>
                </a:lnTo>
                <a:lnTo>
                  <a:pt x="763" y="423"/>
                </a:lnTo>
                <a:lnTo>
                  <a:pt x="765" y="421"/>
                </a:lnTo>
                <a:lnTo>
                  <a:pt x="767" y="418"/>
                </a:lnTo>
                <a:lnTo>
                  <a:pt x="769" y="416"/>
                </a:lnTo>
                <a:lnTo>
                  <a:pt x="772" y="414"/>
                </a:lnTo>
                <a:lnTo>
                  <a:pt x="773" y="412"/>
                </a:lnTo>
                <a:lnTo>
                  <a:pt x="776" y="410"/>
                </a:lnTo>
                <a:lnTo>
                  <a:pt x="778" y="408"/>
                </a:lnTo>
                <a:lnTo>
                  <a:pt x="781" y="406"/>
                </a:lnTo>
                <a:lnTo>
                  <a:pt x="782" y="404"/>
                </a:lnTo>
                <a:lnTo>
                  <a:pt x="785" y="401"/>
                </a:lnTo>
                <a:lnTo>
                  <a:pt x="787" y="399"/>
                </a:lnTo>
                <a:lnTo>
                  <a:pt x="789" y="397"/>
                </a:lnTo>
                <a:lnTo>
                  <a:pt x="791" y="394"/>
                </a:lnTo>
                <a:lnTo>
                  <a:pt x="794" y="392"/>
                </a:lnTo>
                <a:lnTo>
                  <a:pt x="795" y="389"/>
                </a:lnTo>
                <a:lnTo>
                  <a:pt x="798" y="387"/>
                </a:lnTo>
                <a:lnTo>
                  <a:pt x="800" y="385"/>
                </a:lnTo>
                <a:lnTo>
                  <a:pt x="801" y="382"/>
                </a:lnTo>
                <a:lnTo>
                  <a:pt x="804" y="380"/>
                </a:lnTo>
                <a:lnTo>
                  <a:pt x="806" y="378"/>
                </a:lnTo>
                <a:lnTo>
                  <a:pt x="808" y="375"/>
                </a:lnTo>
                <a:lnTo>
                  <a:pt x="810" y="372"/>
                </a:lnTo>
                <a:lnTo>
                  <a:pt x="813" y="370"/>
                </a:lnTo>
                <a:lnTo>
                  <a:pt x="814" y="367"/>
                </a:lnTo>
                <a:lnTo>
                  <a:pt x="817" y="365"/>
                </a:lnTo>
                <a:lnTo>
                  <a:pt x="819" y="362"/>
                </a:lnTo>
                <a:lnTo>
                  <a:pt x="821" y="360"/>
                </a:lnTo>
                <a:lnTo>
                  <a:pt x="823" y="357"/>
                </a:lnTo>
                <a:lnTo>
                  <a:pt x="824" y="355"/>
                </a:lnTo>
                <a:lnTo>
                  <a:pt x="827" y="352"/>
                </a:lnTo>
                <a:lnTo>
                  <a:pt x="830" y="348"/>
                </a:lnTo>
                <a:lnTo>
                  <a:pt x="831" y="346"/>
                </a:lnTo>
                <a:lnTo>
                  <a:pt x="833" y="343"/>
                </a:lnTo>
                <a:lnTo>
                  <a:pt x="836" y="340"/>
                </a:lnTo>
                <a:lnTo>
                  <a:pt x="837" y="338"/>
                </a:lnTo>
                <a:lnTo>
                  <a:pt x="840" y="335"/>
                </a:lnTo>
                <a:lnTo>
                  <a:pt x="842" y="332"/>
                </a:lnTo>
                <a:lnTo>
                  <a:pt x="844" y="330"/>
                </a:lnTo>
                <a:lnTo>
                  <a:pt x="846" y="326"/>
                </a:lnTo>
                <a:lnTo>
                  <a:pt x="849" y="323"/>
                </a:lnTo>
                <a:lnTo>
                  <a:pt x="850" y="321"/>
                </a:lnTo>
                <a:lnTo>
                  <a:pt x="853" y="318"/>
                </a:lnTo>
                <a:lnTo>
                  <a:pt x="855" y="315"/>
                </a:lnTo>
                <a:lnTo>
                  <a:pt x="856" y="312"/>
                </a:lnTo>
                <a:lnTo>
                  <a:pt x="859" y="310"/>
                </a:lnTo>
                <a:lnTo>
                  <a:pt x="862" y="307"/>
                </a:lnTo>
                <a:lnTo>
                  <a:pt x="863" y="303"/>
                </a:lnTo>
                <a:lnTo>
                  <a:pt x="865" y="300"/>
                </a:lnTo>
                <a:lnTo>
                  <a:pt x="867" y="297"/>
                </a:lnTo>
                <a:lnTo>
                  <a:pt x="869" y="294"/>
                </a:lnTo>
                <a:lnTo>
                  <a:pt x="872" y="291"/>
                </a:lnTo>
                <a:lnTo>
                  <a:pt x="873" y="289"/>
                </a:lnTo>
                <a:lnTo>
                  <a:pt x="876" y="286"/>
                </a:lnTo>
                <a:lnTo>
                  <a:pt x="878" y="282"/>
                </a:lnTo>
                <a:lnTo>
                  <a:pt x="879" y="279"/>
                </a:lnTo>
                <a:lnTo>
                  <a:pt x="882" y="276"/>
                </a:lnTo>
                <a:lnTo>
                  <a:pt x="885" y="273"/>
                </a:lnTo>
                <a:lnTo>
                  <a:pt x="886" y="270"/>
                </a:lnTo>
                <a:lnTo>
                  <a:pt x="888" y="267"/>
                </a:lnTo>
                <a:lnTo>
                  <a:pt x="891" y="264"/>
                </a:lnTo>
                <a:lnTo>
                  <a:pt x="892" y="261"/>
                </a:lnTo>
                <a:lnTo>
                  <a:pt x="895" y="257"/>
                </a:lnTo>
                <a:lnTo>
                  <a:pt x="897" y="254"/>
                </a:lnTo>
                <a:lnTo>
                  <a:pt x="900" y="251"/>
                </a:lnTo>
                <a:lnTo>
                  <a:pt x="901" y="247"/>
                </a:lnTo>
                <a:lnTo>
                  <a:pt x="904" y="244"/>
                </a:lnTo>
                <a:lnTo>
                  <a:pt x="906" y="241"/>
                </a:lnTo>
                <a:lnTo>
                  <a:pt x="908" y="237"/>
                </a:lnTo>
                <a:lnTo>
                  <a:pt x="910" y="234"/>
                </a:lnTo>
                <a:lnTo>
                  <a:pt x="913" y="231"/>
                </a:lnTo>
                <a:lnTo>
                  <a:pt x="914" y="228"/>
                </a:lnTo>
                <a:lnTo>
                  <a:pt x="917" y="225"/>
                </a:lnTo>
                <a:lnTo>
                  <a:pt x="919" y="222"/>
                </a:lnTo>
                <a:lnTo>
                  <a:pt x="920" y="219"/>
                </a:lnTo>
                <a:lnTo>
                  <a:pt x="923" y="216"/>
                </a:lnTo>
                <a:lnTo>
                  <a:pt x="926" y="211"/>
                </a:lnTo>
                <a:lnTo>
                  <a:pt x="927" y="208"/>
                </a:lnTo>
                <a:lnTo>
                  <a:pt x="929" y="205"/>
                </a:lnTo>
                <a:lnTo>
                  <a:pt x="932" y="202"/>
                </a:lnTo>
                <a:lnTo>
                  <a:pt x="933" y="199"/>
                </a:lnTo>
                <a:lnTo>
                  <a:pt x="936" y="196"/>
                </a:lnTo>
                <a:lnTo>
                  <a:pt x="938" y="193"/>
                </a:lnTo>
                <a:lnTo>
                  <a:pt x="940" y="188"/>
                </a:lnTo>
                <a:lnTo>
                  <a:pt x="942" y="185"/>
                </a:lnTo>
                <a:lnTo>
                  <a:pt x="945" y="182"/>
                </a:lnTo>
                <a:lnTo>
                  <a:pt x="946" y="179"/>
                </a:lnTo>
                <a:lnTo>
                  <a:pt x="949" y="176"/>
                </a:lnTo>
                <a:lnTo>
                  <a:pt x="951" y="173"/>
                </a:lnTo>
                <a:lnTo>
                  <a:pt x="952" y="168"/>
                </a:lnTo>
                <a:lnTo>
                  <a:pt x="955" y="165"/>
                </a:lnTo>
                <a:lnTo>
                  <a:pt x="958" y="162"/>
                </a:lnTo>
                <a:lnTo>
                  <a:pt x="959" y="158"/>
                </a:lnTo>
                <a:lnTo>
                  <a:pt x="961" y="155"/>
                </a:lnTo>
                <a:lnTo>
                  <a:pt x="964" y="152"/>
                </a:lnTo>
                <a:lnTo>
                  <a:pt x="965" y="149"/>
                </a:lnTo>
                <a:lnTo>
                  <a:pt x="968" y="144"/>
                </a:lnTo>
                <a:lnTo>
                  <a:pt x="970" y="141"/>
                </a:lnTo>
                <a:lnTo>
                  <a:pt x="972" y="138"/>
                </a:lnTo>
                <a:lnTo>
                  <a:pt x="974" y="135"/>
                </a:lnTo>
                <a:lnTo>
                  <a:pt x="977" y="132"/>
                </a:lnTo>
                <a:lnTo>
                  <a:pt x="978" y="128"/>
                </a:lnTo>
                <a:lnTo>
                  <a:pt x="981" y="125"/>
                </a:lnTo>
                <a:lnTo>
                  <a:pt x="983" y="121"/>
                </a:lnTo>
                <a:lnTo>
                  <a:pt x="984" y="118"/>
                </a:lnTo>
                <a:lnTo>
                  <a:pt x="987" y="115"/>
                </a:lnTo>
                <a:lnTo>
                  <a:pt x="988" y="111"/>
                </a:lnTo>
                <a:lnTo>
                  <a:pt x="991" y="108"/>
                </a:lnTo>
                <a:lnTo>
                  <a:pt x="993" y="105"/>
                </a:lnTo>
                <a:lnTo>
                  <a:pt x="995" y="101"/>
                </a:lnTo>
                <a:lnTo>
                  <a:pt x="997" y="98"/>
                </a:lnTo>
                <a:lnTo>
                  <a:pt x="1000" y="94"/>
                </a:lnTo>
                <a:lnTo>
                  <a:pt x="1001" y="91"/>
                </a:lnTo>
                <a:lnTo>
                  <a:pt x="1004" y="88"/>
                </a:lnTo>
                <a:lnTo>
                  <a:pt x="1006" y="85"/>
                </a:lnTo>
                <a:lnTo>
                  <a:pt x="1008" y="82"/>
                </a:lnTo>
                <a:lnTo>
                  <a:pt x="1010" y="77"/>
                </a:lnTo>
                <a:lnTo>
                  <a:pt x="1013" y="74"/>
                </a:lnTo>
                <a:lnTo>
                  <a:pt x="1015" y="71"/>
                </a:lnTo>
                <a:lnTo>
                  <a:pt x="1016" y="68"/>
                </a:lnTo>
                <a:lnTo>
                  <a:pt x="1019" y="65"/>
                </a:lnTo>
                <a:lnTo>
                  <a:pt x="1022" y="61"/>
                </a:lnTo>
                <a:lnTo>
                  <a:pt x="1023" y="58"/>
                </a:lnTo>
                <a:lnTo>
                  <a:pt x="1025" y="54"/>
                </a:lnTo>
                <a:lnTo>
                  <a:pt x="1028" y="51"/>
                </a:lnTo>
                <a:lnTo>
                  <a:pt x="1029" y="48"/>
                </a:lnTo>
                <a:lnTo>
                  <a:pt x="1032" y="45"/>
                </a:lnTo>
                <a:lnTo>
                  <a:pt x="1034" y="41"/>
                </a:lnTo>
                <a:lnTo>
                  <a:pt x="1036" y="38"/>
                </a:lnTo>
                <a:lnTo>
                  <a:pt x="1038" y="35"/>
                </a:lnTo>
                <a:lnTo>
                  <a:pt x="1041" y="31"/>
                </a:lnTo>
                <a:lnTo>
                  <a:pt x="1042" y="28"/>
                </a:lnTo>
                <a:lnTo>
                  <a:pt x="1045" y="25"/>
                </a:lnTo>
                <a:lnTo>
                  <a:pt x="1047" y="22"/>
                </a:lnTo>
                <a:lnTo>
                  <a:pt x="1048" y="19"/>
                </a:lnTo>
                <a:lnTo>
                  <a:pt x="1051" y="16"/>
                </a:lnTo>
                <a:lnTo>
                  <a:pt x="1054" y="13"/>
                </a:lnTo>
                <a:lnTo>
                  <a:pt x="1055" y="9"/>
                </a:lnTo>
                <a:lnTo>
                  <a:pt x="1057" y="6"/>
                </a:lnTo>
                <a:lnTo>
                  <a:pt x="1059" y="3"/>
                </a:lnTo>
                <a:lnTo>
                  <a:pt x="1061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3208320" y="4646520"/>
            <a:ext cx="1798560" cy="1121040"/>
          </a:xfrm>
          <a:custGeom>
            <a:avLst/>
            <a:gdLst/>
            <a:ahLst/>
            <a:rect l="l" t="t" r="r" b="b"/>
            <a:pathLst>
              <a:path w="1062" h="894">
                <a:moveTo>
                  <a:pt x="0" y="232"/>
                </a:moveTo>
                <a:lnTo>
                  <a:pt x="3" y="229"/>
                </a:lnTo>
                <a:lnTo>
                  <a:pt x="4" y="226"/>
                </a:lnTo>
                <a:lnTo>
                  <a:pt x="7" y="223"/>
                </a:lnTo>
                <a:lnTo>
                  <a:pt x="9" y="219"/>
                </a:lnTo>
                <a:lnTo>
                  <a:pt x="11" y="216"/>
                </a:lnTo>
                <a:lnTo>
                  <a:pt x="13" y="213"/>
                </a:lnTo>
                <a:lnTo>
                  <a:pt x="16" y="210"/>
                </a:lnTo>
                <a:lnTo>
                  <a:pt x="17" y="208"/>
                </a:lnTo>
                <a:lnTo>
                  <a:pt x="20" y="205"/>
                </a:lnTo>
                <a:lnTo>
                  <a:pt x="22" y="202"/>
                </a:lnTo>
                <a:lnTo>
                  <a:pt x="23" y="199"/>
                </a:lnTo>
                <a:lnTo>
                  <a:pt x="26" y="195"/>
                </a:lnTo>
                <a:lnTo>
                  <a:pt x="28" y="192"/>
                </a:lnTo>
                <a:lnTo>
                  <a:pt x="30" y="189"/>
                </a:lnTo>
                <a:lnTo>
                  <a:pt x="32" y="186"/>
                </a:lnTo>
                <a:lnTo>
                  <a:pt x="35" y="184"/>
                </a:lnTo>
                <a:lnTo>
                  <a:pt x="36" y="181"/>
                </a:lnTo>
                <a:lnTo>
                  <a:pt x="39" y="178"/>
                </a:lnTo>
                <a:lnTo>
                  <a:pt x="40" y="174"/>
                </a:lnTo>
                <a:lnTo>
                  <a:pt x="43" y="172"/>
                </a:lnTo>
                <a:lnTo>
                  <a:pt x="45" y="169"/>
                </a:lnTo>
                <a:lnTo>
                  <a:pt x="46" y="166"/>
                </a:lnTo>
                <a:lnTo>
                  <a:pt x="49" y="164"/>
                </a:lnTo>
                <a:lnTo>
                  <a:pt x="52" y="161"/>
                </a:lnTo>
                <a:lnTo>
                  <a:pt x="53" y="159"/>
                </a:lnTo>
                <a:lnTo>
                  <a:pt x="57" y="156"/>
                </a:lnTo>
                <a:lnTo>
                  <a:pt x="58" y="153"/>
                </a:lnTo>
                <a:lnTo>
                  <a:pt x="60" y="150"/>
                </a:lnTo>
                <a:lnTo>
                  <a:pt x="62" y="147"/>
                </a:lnTo>
                <a:lnTo>
                  <a:pt x="64" y="145"/>
                </a:lnTo>
                <a:lnTo>
                  <a:pt x="67" y="142"/>
                </a:lnTo>
                <a:lnTo>
                  <a:pt x="68" y="140"/>
                </a:lnTo>
                <a:lnTo>
                  <a:pt x="71" y="137"/>
                </a:lnTo>
                <a:lnTo>
                  <a:pt x="73" y="135"/>
                </a:lnTo>
                <a:lnTo>
                  <a:pt x="75" y="132"/>
                </a:lnTo>
                <a:lnTo>
                  <a:pt x="77" y="129"/>
                </a:lnTo>
                <a:lnTo>
                  <a:pt x="80" y="127"/>
                </a:lnTo>
                <a:lnTo>
                  <a:pt x="81" y="124"/>
                </a:lnTo>
                <a:lnTo>
                  <a:pt x="84" y="122"/>
                </a:lnTo>
                <a:lnTo>
                  <a:pt x="86" y="120"/>
                </a:lnTo>
                <a:lnTo>
                  <a:pt x="87" y="117"/>
                </a:lnTo>
                <a:lnTo>
                  <a:pt x="90" y="115"/>
                </a:lnTo>
                <a:lnTo>
                  <a:pt x="92" y="113"/>
                </a:lnTo>
                <a:lnTo>
                  <a:pt x="94" y="111"/>
                </a:lnTo>
                <a:lnTo>
                  <a:pt x="96" y="108"/>
                </a:lnTo>
                <a:lnTo>
                  <a:pt x="99" y="105"/>
                </a:lnTo>
                <a:lnTo>
                  <a:pt x="100" y="103"/>
                </a:lnTo>
                <a:lnTo>
                  <a:pt x="103" y="100"/>
                </a:lnTo>
                <a:lnTo>
                  <a:pt x="104" y="98"/>
                </a:lnTo>
                <a:lnTo>
                  <a:pt x="107" y="96"/>
                </a:lnTo>
                <a:lnTo>
                  <a:pt x="109" y="94"/>
                </a:lnTo>
                <a:lnTo>
                  <a:pt x="110" y="92"/>
                </a:lnTo>
                <a:lnTo>
                  <a:pt x="113" y="90"/>
                </a:lnTo>
                <a:lnTo>
                  <a:pt x="116" y="88"/>
                </a:lnTo>
                <a:lnTo>
                  <a:pt x="117" y="86"/>
                </a:lnTo>
                <a:lnTo>
                  <a:pt x="119" y="83"/>
                </a:lnTo>
                <a:lnTo>
                  <a:pt x="122" y="81"/>
                </a:lnTo>
                <a:lnTo>
                  <a:pt x="123" y="79"/>
                </a:lnTo>
                <a:lnTo>
                  <a:pt x="126" y="77"/>
                </a:lnTo>
                <a:lnTo>
                  <a:pt x="128" y="75"/>
                </a:lnTo>
                <a:lnTo>
                  <a:pt x="130" y="74"/>
                </a:lnTo>
                <a:lnTo>
                  <a:pt x="132" y="72"/>
                </a:lnTo>
                <a:lnTo>
                  <a:pt x="135" y="70"/>
                </a:lnTo>
                <a:lnTo>
                  <a:pt x="136" y="68"/>
                </a:lnTo>
                <a:lnTo>
                  <a:pt x="139" y="66"/>
                </a:lnTo>
                <a:lnTo>
                  <a:pt x="141" y="65"/>
                </a:lnTo>
                <a:lnTo>
                  <a:pt x="142" y="63"/>
                </a:lnTo>
                <a:lnTo>
                  <a:pt x="145" y="60"/>
                </a:lnTo>
                <a:lnTo>
                  <a:pt x="146" y="59"/>
                </a:lnTo>
                <a:lnTo>
                  <a:pt x="149" y="57"/>
                </a:lnTo>
                <a:lnTo>
                  <a:pt x="151" y="55"/>
                </a:lnTo>
                <a:lnTo>
                  <a:pt x="153" y="54"/>
                </a:lnTo>
                <a:lnTo>
                  <a:pt x="155" y="52"/>
                </a:lnTo>
                <a:lnTo>
                  <a:pt x="158" y="51"/>
                </a:lnTo>
                <a:lnTo>
                  <a:pt x="159" y="49"/>
                </a:lnTo>
                <a:lnTo>
                  <a:pt x="162" y="48"/>
                </a:lnTo>
                <a:lnTo>
                  <a:pt x="164" y="46"/>
                </a:lnTo>
                <a:lnTo>
                  <a:pt x="165" y="45"/>
                </a:lnTo>
                <a:lnTo>
                  <a:pt x="168" y="43"/>
                </a:lnTo>
                <a:lnTo>
                  <a:pt x="171" y="42"/>
                </a:lnTo>
                <a:lnTo>
                  <a:pt x="173" y="40"/>
                </a:lnTo>
                <a:lnTo>
                  <a:pt x="174" y="38"/>
                </a:lnTo>
                <a:lnTo>
                  <a:pt x="177" y="37"/>
                </a:lnTo>
                <a:lnTo>
                  <a:pt x="180" y="35"/>
                </a:lnTo>
                <a:lnTo>
                  <a:pt x="181" y="34"/>
                </a:lnTo>
                <a:lnTo>
                  <a:pt x="183" y="33"/>
                </a:lnTo>
                <a:lnTo>
                  <a:pt x="186" y="32"/>
                </a:lnTo>
                <a:lnTo>
                  <a:pt x="187" y="30"/>
                </a:lnTo>
                <a:lnTo>
                  <a:pt x="190" y="29"/>
                </a:lnTo>
                <a:lnTo>
                  <a:pt x="192" y="28"/>
                </a:lnTo>
                <a:lnTo>
                  <a:pt x="194" y="27"/>
                </a:lnTo>
                <a:lnTo>
                  <a:pt x="196" y="26"/>
                </a:lnTo>
                <a:lnTo>
                  <a:pt x="199" y="25"/>
                </a:lnTo>
                <a:lnTo>
                  <a:pt x="200" y="24"/>
                </a:lnTo>
                <a:lnTo>
                  <a:pt x="203" y="23"/>
                </a:lnTo>
                <a:lnTo>
                  <a:pt x="205" y="22"/>
                </a:lnTo>
                <a:lnTo>
                  <a:pt x="206" y="21"/>
                </a:lnTo>
                <a:lnTo>
                  <a:pt x="209" y="20"/>
                </a:lnTo>
                <a:lnTo>
                  <a:pt x="212" y="19"/>
                </a:lnTo>
                <a:lnTo>
                  <a:pt x="213" y="18"/>
                </a:lnTo>
                <a:lnTo>
                  <a:pt x="215" y="17"/>
                </a:lnTo>
                <a:lnTo>
                  <a:pt x="217" y="15"/>
                </a:lnTo>
                <a:lnTo>
                  <a:pt x="219" y="14"/>
                </a:lnTo>
                <a:lnTo>
                  <a:pt x="222" y="13"/>
                </a:lnTo>
                <a:lnTo>
                  <a:pt x="223" y="13"/>
                </a:lnTo>
                <a:lnTo>
                  <a:pt x="226" y="12"/>
                </a:lnTo>
                <a:lnTo>
                  <a:pt x="228" y="11"/>
                </a:lnTo>
                <a:lnTo>
                  <a:pt x="230" y="10"/>
                </a:lnTo>
                <a:lnTo>
                  <a:pt x="232" y="10"/>
                </a:lnTo>
                <a:lnTo>
                  <a:pt x="235" y="9"/>
                </a:lnTo>
                <a:lnTo>
                  <a:pt x="236" y="8"/>
                </a:lnTo>
                <a:lnTo>
                  <a:pt x="238" y="7"/>
                </a:lnTo>
                <a:lnTo>
                  <a:pt x="241" y="7"/>
                </a:lnTo>
                <a:lnTo>
                  <a:pt x="242" y="6"/>
                </a:lnTo>
                <a:lnTo>
                  <a:pt x="245" y="6"/>
                </a:lnTo>
                <a:lnTo>
                  <a:pt x="247" y="5"/>
                </a:lnTo>
                <a:lnTo>
                  <a:pt x="249" y="5"/>
                </a:lnTo>
                <a:lnTo>
                  <a:pt x="251" y="4"/>
                </a:lnTo>
                <a:lnTo>
                  <a:pt x="254" y="4"/>
                </a:lnTo>
                <a:lnTo>
                  <a:pt x="255" y="3"/>
                </a:lnTo>
                <a:lnTo>
                  <a:pt x="258" y="3"/>
                </a:lnTo>
                <a:lnTo>
                  <a:pt x="260" y="3"/>
                </a:lnTo>
                <a:lnTo>
                  <a:pt x="262" y="2"/>
                </a:lnTo>
                <a:lnTo>
                  <a:pt x="264" y="2"/>
                </a:lnTo>
                <a:lnTo>
                  <a:pt x="267" y="2"/>
                </a:lnTo>
                <a:lnTo>
                  <a:pt x="268" y="1"/>
                </a:lnTo>
                <a:lnTo>
                  <a:pt x="270" y="1"/>
                </a:lnTo>
                <a:lnTo>
                  <a:pt x="273" y="1"/>
                </a:lnTo>
                <a:lnTo>
                  <a:pt x="274" y="1"/>
                </a:lnTo>
                <a:lnTo>
                  <a:pt x="277" y="0"/>
                </a:lnTo>
                <a:lnTo>
                  <a:pt x="279" y="0"/>
                </a:lnTo>
                <a:lnTo>
                  <a:pt x="281" y="0"/>
                </a:lnTo>
                <a:lnTo>
                  <a:pt x="283" y="0"/>
                </a:lnTo>
                <a:lnTo>
                  <a:pt x="286" y="0"/>
                </a:lnTo>
                <a:lnTo>
                  <a:pt x="287" y="0"/>
                </a:lnTo>
                <a:lnTo>
                  <a:pt x="290" y="0"/>
                </a:lnTo>
                <a:lnTo>
                  <a:pt x="292" y="0"/>
                </a:lnTo>
                <a:lnTo>
                  <a:pt x="295" y="0"/>
                </a:lnTo>
                <a:lnTo>
                  <a:pt x="296" y="0"/>
                </a:lnTo>
                <a:lnTo>
                  <a:pt x="299" y="0"/>
                </a:lnTo>
                <a:lnTo>
                  <a:pt x="301" y="0"/>
                </a:lnTo>
                <a:lnTo>
                  <a:pt x="303" y="0"/>
                </a:lnTo>
                <a:lnTo>
                  <a:pt x="305" y="0"/>
                </a:lnTo>
                <a:lnTo>
                  <a:pt x="308" y="0"/>
                </a:lnTo>
                <a:lnTo>
                  <a:pt x="309" y="1"/>
                </a:lnTo>
                <a:lnTo>
                  <a:pt x="311" y="1"/>
                </a:lnTo>
                <a:lnTo>
                  <a:pt x="314" y="1"/>
                </a:lnTo>
                <a:lnTo>
                  <a:pt x="315" y="1"/>
                </a:lnTo>
                <a:lnTo>
                  <a:pt x="318" y="2"/>
                </a:lnTo>
                <a:lnTo>
                  <a:pt x="320" y="2"/>
                </a:lnTo>
                <a:lnTo>
                  <a:pt x="322" y="2"/>
                </a:lnTo>
                <a:lnTo>
                  <a:pt x="324" y="2"/>
                </a:lnTo>
                <a:lnTo>
                  <a:pt x="327" y="3"/>
                </a:lnTo>
                <a:lnTo>
                  <a:pt x="328" y="3"/>
                </a:lnTo>
                <a:lnTo>
                  <a:pt x="331" y="4"/>
                </a:lnTo>
                <a:lnTo>
                  <a:pt x="332" y="4"/>
                </a:lnTo>
                <a:lnTo>
                  <a:pt x="335" y="4"/>
                </a:lnTo>
                <a:lnTo>
                  <a:pt x="337" y="5"/>
                </a:lnTo>
                <a:lnTo>
                  <a:pt x="338" y="5"/>
                </a:lnTo>
                <a:lnTo>
                  <a:pt x="341" y="6"/>
                </a:lnTo>
                <a:lnTo>
                  <a:pt x="343" y="6"/>
                </a:lnTo>
                <a:lnTo>
                  <a:pt x="345" y="7"/>
                </a:lnTo>
                <a:lnTo>
                  <a:pt x="347" y="7"/>
                </a:lnTo>
                <a:lnTo>
                  <a:pt x="350" y="9"/>
                </a:lnTo>
                <a:lnTo>
                  <a:pt x="351" y="9"/>
                </a:lnTo>
                <a:lnTo>
                  <a:pt x="354" y="10"/>
                </a:lnTo>
                <a:lnTo>
                  <a:pt x="356" y="10"/>
                </a:lnTo>
                <a:lnTo>
                  <a:pt x="358" y="11"/>
                </a:lnTo>
                <a:lnTo>
                  <a:pt x="360" y="12"/>
                </a:lnTo>
                <a:lnTo>
                  <a:pt x="363" y="12"/>
                </a:lnTo>
                <a:lnTo>
                  <a:pt x="364" y="13"/>
                </a:lnTo>
                <a:lnTo>
                  <a:pt x="367" y="14"/>
                </a:lnTo>
                <a:lnTo>
                  <a:pt x="369" y="15"/>
                </a:lnTo>
                <a:lnTo>
                  <a:pt x="370" y="15"/>
                </a:lnTo>
                <a:lnTo>
                  <a:pt x="373" y="17"/>
                </a:lnTo>
                <a:lnTo>
                  <a:pt x="376" y="18"/>
                </a:lnTo>
                <a:lnTo>
                  <a:pt x="377" y="19"/>
                </a:lnTo>
                <a:lnTo>
                  <a:pt x="379" y="20"/>
                </a:lnTo>
                <a:lnTo>
                  <a:pt x="381" y="21"/>
                </a:lnTo>
                <a:lnTo>
                  <a:pt x="383" y="21"/>
                </a:lnTo>
                <a:lnTo>
                  <a:pt x="386" y="22"/>
                </a:lnTo>
                <a:lnTo>
                  <a:pt x="387" y="23"/>
                </a:lnTo>
                <a:lnTo>
                  <a:pt x="390" y="24"/>
                </a:lnTo>
                <a:lnTo>
                  <a:pt x="392" y="25"/>
                </a:lnTo>
                <a:lnTo>
                  <a:pt x="393" y="26"/>
                </a:lnTo>
                <a:lnTo>
                  <a:pt x="396" y="27"/>
                </a:lnTo>
                <a:lnTo>
                  <a:pt x="399" y="28"/>
                </a:lnTo>
                <a:lnTo>
                  <a:pt x="400" y="29"/>
                </a:lnTo>
                <a:lnTo>
                  <a:pt x="402" y="30"/>
                </a:lnTo>
                <a:lnTo>
                  <a:pt x="405" y="31"/>
                </a:lnTo>
                <a:lnTo>
                  <a:pt x="408" y="32"/>
                </a:lnTo>
                <a:lnTo>
                  <a:pt x="409" y="33"/>
                </a:lnTo>
                <a:lnTo>
                  <a:pt x="411" y="35"/>
                </a:lnTo>
                <a:lnTo>
                  <a:pt x="414" y="36"/>
                </a:lnTo>
                <a:lnTo>
                  <a:pt x="415" y="37"/>
                </a:lnTo>
                <a:lnTo>
                  <a:pt x="418" y="38"/>
                </a:lnTo>
                <a:lnTo>
                  <a:pt x="420" y="40"/>
                </a:lnTo>
                <a:lnTo>
                  <a:pt x="422" y="41"/>
                </a:lnTo>
                <a:lnTo>
                  <a:pt x="424" y="43"/>
                </a:lnTo>
                <a:lnTo>
                  <a:pt x="427" y="44"/>
                </a:lnTo>
                <a:lnTo>
                  <a:pt x="428" y="45"/>
                </a:lnTo>
                <a:lnTo>
                  <a:pt x="431" y="46"/>
                </a:lnTo>
                <a:lnTo>
                  <a:pt x="433" y="48"/>
                </a:lnTo>
                <a:lnTo>
                  <a:pt x="434" y="49"/>
                </a:lnTo>
                <a:lnTo>
                  <a:pt x="437" y="50"/>
                </a:lnTo>
                <a:lnTo>
                  <a:pt x="440" y="52"/>
                </a:lnTo>
                <a:lnTo>
                  <a:pt x="441" y="53"/>
                </a:lnTo>
                <a:lnTo>
                  <a:pt x="443" y="54"/>
                </a:lnTo>
                <a:lnTo>
                  <a:pt x="445" y="56"/>
                </a:lnTo>
                <a:lnTo>
                  <a:pt x="447" y="57"/>
                </a:lnTo>
                <a:lnTo>
                  <a:pt x="450" y="59"/>
                </a:lnTo>
                <a:lnTo>
                  <a:pt x="451" y="60"/>
                </a:lnTo>
                <a:lnTo>
                  <a:pt x="454" y="61"/>
                </a:lnTo>
                <a:lnTo>
                  <a:pt x="456" y="64"/>
                </a:lnTo>
                <a:lnTo>
                  <a:pt x="457" y="65"/>
                </a:lnTo>
                <a:lnTo>
                  <a:pt x="460" y="67"/>
                </a:lnTo>
                <a:lnTo>
                  <a:pt x="463" y="68"/>
                </a:lnTo>
                <a:lnTo>
                  <a:pt x="464" y="70"/>
                </a:lnTo>
                <a:lnTo>
                  <a:pt x="466" y="71"/>
                </a:lnTo>
                <a:lnTo>
                  <a:pt x="469" y="73"/>
                </a:lnTo>
                <a:lnTo>
                  <a:pt x="470" y="74"/>
                </a:lnTo>
                <a:lnTo>
                  <a:pt x="473" y="76"/>
                </a:lnTo>
                <a:lnTo>
                  <a:pt x="475" y="78"/>
                </a:lnTo>
                <a:lnTo>
                  <a:pt x="477" y="79"/>
                </a:lnTo>
                <a:lnTo>
                  <a:pt x="479" y="81"/>
                </a:lnTo>
                <a:lnTo>
                  <a:pt x="482" y="83"/>
                </a:lnTo>
                <a:lnTo>
                  <a:pt x="483" y="85"/>
                </a:lnTo>
                <a:lnTo>
                  <a:pt x="486" y="87"/>
                </a:lnTo>
                <a:lnTo>
                  <a:pt x="487" y="89"/>
                </a:lnTo>
                <a:lnTo>
                  <a:pt x="489" y="90"/>
                </a:lnTo>
                <a:lnTo>
                  <a:pt x="492" y="92"/>
                </a:lnTo>
                <a:lnTo>
                  <a:pt x="493" y="94"/>
                </a:lnTo>
                <a:lnTo>
                  <a:pt x="496" y="95"/>
                </a:lnTo>
                <a:lnTo>
                  <a:pt x="498" y="97"/>
                </a:lnTo>
                <a:lnTo>
                  <a:pt x="500" y="99"/>
                </a:lnTo>
                <a:lnTo>
                  <a:pt x="502" y="101"/>
                </a:lnTo>
                <a:lnTo>
                  <a:pt x="505" y="103"/>
                </a:lnTo>
                <a:lnTo>
                  <a:pt x="506" y="105"/>
                </a:lnTo>
                <a:lnTo>
                  <a:pt x="509" y="108"/>
                </a:lnTo>
                <a:lnTo>
                  <a:pt x="511" y="110"/>
                </a:lnTo>
                <a:lnTo>
                  <a:pt x="513" y="111"/>
                </a:lnTo>
                <a:lnTo>
                  <a:pt x="515" y="113"/>
                </a:lnTo>
                <a:lnTo>
                  <a:pt x="518" y="115"/>
                </a:lnTo>
                <a:lnTo>
                  <a:pt x="519" y="117"/>
                </a:lnTo>
                <a:lnTo>
                  <a:pt x="521" y="119"/>
                </a:lnTo>
                <a:lnTo>
                  <a:pt x="524" y="121"/>
                </a:lnTo>
                <a:lnTo>
                  <a:pt x="527" y="123"/>
                </a:lnTo>
                <a:lnTo>
                  <a:pt x="528" y="125"/>
                </a:lnTo>
                <a:lnTo>
                  <a:pt x="530" y="127"/>
                </a:lnTo>
                <a:lnTo>
                  <a:pt x="533" y="129"/>
                </a:lnTo>
                <a:lnTo>
                  <a:pt x="534" y="132"/>
                </a:lnTo>
                <a:lnTo>
                  <a:pt x="537" y="134"/>
                </a:lnTo>
                <a:lnTo>
                  <a:pt x="539" y="136"/>
                </a:lnTo>
                <a:lnTo>
                  <a:pt x="541" y="138"/>
                </a:lnTo>
                <a:lnTo>
                  <a:pt x="543" y="140"/>
                </a:lnTo>
                <a:lnTo>
                  <a:pt x="546" y="142"/>
                </a:lnTo>
                <a:lnTo>
                  <a:pt x="547" y="144"/>
                </a:lnTo>
                <a:lnTo>
                  <a:pt x="550" y="146"/>
                </a:lnTo>
                <a:lnTo>
                  <a:pt x="551" y="148"/>
                </a:lnTo>
                <a:lnTo>
                  <a:pt x="553" y="150"/>
                </a:lnTo>
                <a:lnTo>
                  <a:pt x="556" y="153"/>
                </a:lnTo>
                <a:lnTo>
                  <a:pt x="557" y="155"/>
                </a:lnTo>
                <a:lnTo>
                  <a:pt x="560" y="157"/>
                </a:lnTo>
                <a:lnTo>
                  <a:pt x="562" y="160"/>
                </a:lnTo>
                <a:lnTo>
                  <a:pt x="564" y="162"/>
                </a:lnTo>
                <a:lnTo>
                  <a:pt x="566" y="164"/>
                </a:lnTo>
                <a:lnTo>
                  <a:pt x="569" y="166"/>
                </a:lnTo>
                <a:lnTo>
                  <a:pt x="570" y="168"/>
                </a:lnTo>
                <a:lnTo>
                  <a:pt x="573" y="171"/>
                </a:lnTo>
                <a:lnTo>
                  <a:pt x="575" y="173"/>
                </a:lnTo>
                <a:lnTo>
                  <a:pt x="577" y="176"/>
                </a:lnTo>
                <a:lnTo>
                  <a:pt x="579" y="178"/>
                </a:lnTo>
                <a:lnTo>
                  <a:pt x="582" y="181"/>
                </a:lnTo>
                <a:lnTo>
                  <a:pt x="583" y="183"/>
                </a:lnTo>
                <a:lnTo>
                  <a:pt x="586" y="185"/>
                </a:lnTo>
                <a:lnTo>
                  <a:pt x="588" y="187"/>
                </a:lnTo>
                <a:lnTo>
                  <a:pt x="589" y="190"/>
                </a:lnTo>
                <a:lnTo>
                  <a:pt x="592" y="192"/>
                </a:lnTo>
                <a:lnTo>
                  <a:pt x="594" y="194"/>
                </a:lnTo>
                <a:lnTo>
                  <a:pt x="596" y="197"/>
                </a:lnTo>
                <a:lnTo>
                  <a:pt x="598" y="200"/>
                </a:lnTo>
                <a:lnTo>
                  <a:pt x="600" y="203"/>
                </a:lnTo>
                <a:lnTo>
                  <a:pt x="602" y="205"/>
                </a:lnTo>
                <a:lnTo>
                  <a:pt x="605" y="208"/>
                </a:lnTo>
                <a:lnTo>
                  <a:pt x="606" y="210"/>
                </a:lnTo>
                <a:lnTo>
                  <a:pt x="609" y="212"/>
                </a:lnTo>
                <a:lnTo>
                  <a:pt x="611" y="215"/>
                </a:lnTo>
                <a:lnTo>
                  <a:pt x="612" y="217"/>
                </a:lnTo>
                <a:lnTo>
                  <a:pt x="615" y="221"/>
                </a:lnTo>
                <a:lnTo>
                  <a:pt x="618" y="223"/>
                </a:lnTo>
                <a:lnTo>
                  <a:pt x="619" y="226"/>
                </a:lnTo>
                <a:lnTo>
                  <a:pt x="621" y="228"/>
                </a:lnTo>
                <a:lnTo>
                  <a:pt x="624" y="231"/>
                </a:lnTo>
                <a:lnTo>
                  <a:pt x="625" y="233"/>
                </a:lnTo>
                <a:lnTo>
                  <a:pt x="628" y="236"/>
                </a:lnTo>
                <a:lnTo>
                  <a:pt x="630" y="238"/>
                </a:lnTo>
                <a:lnTo>
                  <a:pt x="632" y="241"/>
                </a:lnTo>
                <a:lnTo>
                  <a:pt x="634" y="244"/>
                </a:lnTo>
                <a:lnTo>
                  <a:pt x="637" y="247"/>
                </a:lnTo>
                <a:lnTo>
                  <a:pt x="639" y="249"/>
                </a:lnTo>
                <a:lnTo>
                  <a:pt x="642" y="252"/>
                </a:lnTo>
                <a:lnTo>
                  <a:pt x="643" y="255"/>
                </a:lnTo>
                <a:lnTo>
                  <a:pt x="646" y="257"/>
                </a:lnTo>
                <a:lnTo>
                  <a:pt x="648" y="260"/>
                </a:lnTo>
                <a:lnTo>
                  <a:pt x="650" y="262"/>
                </a:lnTo>
                <a:lnTo>
                  <a:pt x="652" y="265"/>
                </a:lnTo>
                <a:lnTo>
                  <a:pt x="655" y="269"/>
                </a:lnTo>
                <a:lnTo>
                  <a:pt x="656" y="271"/>
                </a:lnTo>
                <a:lnTo>
                  <a:pt x="659" y="274"/>
                </a:lnTo>
                <a:lnTo>
                  <a:pt x="661" y="277"/>
                </a:lnTo>
                <a:lnTo>
                  <a:pt x="662" y="279"/>
                </a:lnTo>
                <a:lnTo>
                  <a:pt x="665" y="282"/>
                </a:lnTo>
                <a:lnTo>
                  <a:pt x="666" y="285"/>
                </a:lnTo>
                <a:lnTo>
                  <a:pt x="669" y="289"/>
                </a:lnTo>
                <a:lnTo>
                  <a:pt x="671" y="291"/>
                </a:lnTo>
                <a:lnTo>
                  <a:pt x="673" y="294"/>
                </a:lnTo>
                <a:lnTo>
                  <a:pt x="675" y="297"/>
                </a:lnTo>
                <a:lnTo>
                  <a:pt x="678" y="300"/>
                </a:lnTo>
                <a:lnTo>
                  <a:pt x="679" y="303"/>
                </a:lnTo>
                <a:lnTo>
                  <a:pt x="682" y="306"/>
                </a:lnTo>
                <a:lnTo>
                  <a:pt x="684" y="308"/>
                </a:lnTo>
                <a:lnTo>
                  <a:pt x="685" y="312"/>
                </a:lnTo>
                <a:lnTo>
                  <a:pt x="688" y="315"/>
                </a:lnTo>
                <a:lnTo>
                  <a:pt x="691" y="318"/>
                </a:lnTo>
                <a:lnTo>
                  <a:pt x="692" y="321"/>
                </a:lnTo>
                <a:lnTo>
                  <a:pt x="694" y="324"/>
                </a:lnTo>
                <a:lnTo>
                  <a:pt x="697" y="327"/>
                </a:lnTo>
                <a:lnTo>
                  <a:pt x="698" y="329"/>
                </a:lnTo>
                <a:lnTo>
                  <a:pt x="701" y="332"/>
                </a:lnTo>
                <a:lnTo>
                  <a:pt x="703" y="336"/>
                </a:lnTo>
                <a:lnTo>
                  <a:pt x="705" y="339"/>
                </a:lnTo>
                <a:lnTo>
                  <a:pt x="707" y="342"/>
                </a:lnTo>
                <a:lnTo>
                  <a:pt x="710" y="345"/>
                </a:lnTo>
                <a:lnTo>
                  <a:pt x="711" y="348"/>
                </a:lnTo>
                <a:lnTo>
                  <a:pt x="714" y="351"/>
                </a:lnTo>
                <a:lnTo>
                  <a:pt x="715" y="354"/>
                </a:lnTo>
                <a:lnTo>
                  <a:pt x="717" y="358"/>
                </a:lnTo>
                <a:lnTo>
                  <a:pt x="720" y="361"/>
                </a:lnTo>
                <a:lnTo>
                  <a:pt x="721" y="364"/>
                </a:lnTo>
                <a:lnTo>
                  <a:pt x="724" y="367"/>
                </a:lnTo>
                <a:lnTo>
                  <a:pt x="726" y="370"/>
                </a:lnTo>
                <a:lnTo>
                  <a:pt x="728" y="373"/>
                </a:lnTo>
                <a:lnTo>
                  <a:pt x="730" y="376"/>
                </a:lnTo>
                <a:lnTo>
                  <a:pt x="733" y="380"/>
                </a:lnTo>
                <a:lnTo>
                  <a:pt x="734" y="383"/>
                </a:lnTo>
                <a:lnTo>
                  <a:pt x="737" y="386"/>
                </a:lnTo>
                <a:lnTo>
                  <a:pt x="739" y="389"/>
                </a:lnTo>
                <a:lnTo>
                  <a:pt x="740" y="392"/>
                </a:lnTo>
                <a:lnTo>
                  <a:pt x="743" y="396"/>
                </a:lnTo>
                <a:lnTo>
                  <a:pt x="746" y="399"/>
                </a:lnTo>
                <a:lnTo>
                  <a:pt x="747" y="403"/>
                </a:lnTo>
                <a:lnTo>
                  <a:pt x="749" y="406"/>
                </a:lnTo>
                <a:lnTo>
                  <a:pt x="752" y="409"/>
                </a:lnTo>
                <a:lnTo>
                  <a:pt x="753" y="412"/>
                </a:lnTo>
                <a:lnTo>
                  <a:pt x="756" y="415"/>
                </a:lnTo>
                <a:lnTo>
                  <a:pt x="758" y="418"/>
                </a:lnTo>
                <a:lnTo>
                  <a:pt x="761" y="421"/>
                </a:lnTo>
                <a:lnTo>
                  <a:pt x="762" y="426"/>
                </a:lnTo>
                <a:lnTo>
                  <a:pt x="765" y="429"/>
                </a:lnTo>
                <a:lnTo>
                  <a:pt x="767" y="432"/>
                </a:lnTo>
                <a:lnTo>
                  <a:pt x="769" y="435"/>
                </a:lnTo>
                <a:lnTo>
                  <a:pt x="771" y="438"/>
                </a:lnTo>
                <a:lnTo>
                  <a:pt x="774" y="442"/>
                </a:lnTo>
                <a:lnTo>
                  <a:pt x="775" y="445"/>
                </a:lnTo>
                <a:lnTo>
                  <a:pt x="778" y="449"/>
                </a:lnTo>
                <a:lnTo>
                  <a:pt x="780" y="452"/>
                </a:lnTo>
                <a:lnTo>
                  <a:pt x="781" y="455"/>
                </a:lnTo>
                <a:lnTo>
                  <a:pt x="784" y="459"/>
                </a:lnTo>
                <a:lnTo>
                  <a:pt x="785" y="462"/>
                </a:lnTo>
                <a:lnTo>
                  <a:pt x="788" y="465"/>
                </a:lnTo>
                <a:lnTo>
                  <a:pt x="790" y="468"/>
                </a:lnTo>
                <a:lnTo>
                  <a:pt x="792" y="473"/>
                </a:lnTo>
                <a:lnTo>
                  <a:pt x="794" y="476"/>
                </a:lnTo>
                <a:lnTo>
                  <a:pt x="797" y="479"/>
                </a:lnTo>
                <a:lnTo>
                  <a:pt x="798" y="482"/>
                </a:lnTo>
                <a:lnTo>
                  <a:pt x="801" y="486"/>
                </a:lnTo>
                <a:lnTo>
                  <a:pt x="803" y="490"/>
                </a:lnTo>
                <a:lnTo>
                  <a:pt x="804" y="494"/>
                </a:lnTo>
                <a:lnTo>
                  <a:pt x="807" y="497"/>
                </a:lnTo>
                <a:lnTo>
                  <a:pt x="810" y="500"/>
                </a:lnTo>
                <a:lnTo>
                  <a:pt x="811" y="504"/>
                </a:lnTo>
                <a:lnTo>
                  <a:pt x="813" y="507"/>
                </a:lnTo>
                <a:lnTo>
                  <a:pt x="816" y="510"/>
                </a:lnTo>
                <a:lnTo>
                  <a:pt x="817" y="514"/>
                </a:lnTo>
                <a:lnTo>
                  <a:pt x="820" y="518"/>
                </a:lnTo>
                <a:lnTo>
                  <a:pt x="822" y="521"/>
                </a:lnTo>
                <a:lnTo>
                  <a:pt x="824" y="525"/>
                </a:lnTo>
                <a:lnTo>
                  <a:pt x="826" y="528"/>
                </a:lnTo>
                <a:lnTo>
                  <a:pt x="828" y="531"/>
                </a:lnTo>
                <a:lnTo>
                  <a:pt x="830" y="535"/>
                </a:lnTo>
                <a:lnTo>
                  <a:pt x="833" y="539"/>
                </a:lnTo>
                <a:lnTo>
                  <a:pt x="834" y="543"/>
                </a:lnTo>
                <a:lnTo>
                  <a:pt x="836" y="546"/>
                </a:lnTo>
                <a:lnTo>
                  <a:pt x="839" y="549"/>
                </a:lnTo>
                <a:lnTo>
                  <a:pt x="840" y="553"/>
                </a:lnTo>
                <a:lnTo>
                  <a:pt x="843" y="556"/>
                </a:lnTo>
                <a:lnTo>
                  <a:pt x="845" y="559"/>
                </a:lnTo>
                <a:lnTo>
                  <a:pt x="847" y="564"/>
                </a:lnTo>
                <a:lnTo>
                  <a:pt x="849" y="567"/>
                </a:lnTo>
                <a:lnTo>
                  <a:pt x="852" y="571"/>
                </a:lnTo>
                <a:lnTo>
                  <a:pt x="853" y="574"/>
                </a:lnTo>
                <a:lnTo>
                  <a:pt x="856" y="577"/>
                </a:lnTo>
                <a:lnTo>
                  <a:pt x="858" y="581"/>
                </a:lnTo>
                <a:lnTo>
                  <a:pt x="860" y="586"/>
                </a:lnTo>
                <a:lnTo>
                  <a:pt x="862" y="589"/>
                </a:lnTo>
                <a:lnTo>
                  <a:pt x="865" y="592"/>
                </a:lnTo>
                <a:lnTo>
                  <a:pt x="866" y="596"/>
                </a:lnTo>
                <a:lnTo>
                  <a:pt x="869" y="599"/>
                </a:lnTo>
                <a:lnTo>
                  <a:pt x="870" y="603"/>
                </a:lnTo>
                <a:lnTo>
                  <a:pt x="874" y="607"/>
                </a:lnTo>
                <a:lnTo>
                  <a:pt x="875" y="610"/>
                </a:lnTo>
                <a:lnTo>
                  <a:pt x="877" y="614"/>
                </a:lnTo>
                <a:lnTo>
                  <a:pt x="880" y="617"/>
                </a:lnTo>
                <a:lnTo>
                  <a:pt x="881" y="620"/>
                </a:lnTo>
                <a:lnTo>
                  <a:pt x="884" y="624"/>
                </a:lnTo>
                <a:lnTo>
                  <a:pt x="886" y="627"/>
                </a:lnTo>
                <a:lnTo>
                  <a:pt x="888" y="632"/>
                </a:lnTo>
                <a:lnTo>
                  <a:pt x="890" y="635"/>
                </a:lnTo>
                <a:lnTo>
                  <a:pt x="892" y="638"/>
                </a:lnTo>
                <a:lnTo>
                  <a:pt x="894" y="642"/>
                </a:lnTo>
                <a:lnTo>
                  <a:pt x="897" y="645"/>
                </a:lnTo>
                <a:lnTo>
                  <a:pt x="898" y="648"/>
                </a:lnTo>
                <a:lnTo>
                  <a:pt x="901" y="653"/>
                </a:lnTo>
                <a:lnTo>
                  <a:pt x="903" y="656"/>
                </a:lnTo>
                <a:lnTo>
                  <a:pt x="904" y="660"/>
                </a:lnTo>
                <a:lnTo>
                  <a:pt x="907" y="663"/>
                </a:lnTo>
                <a:lnTo>
                  <a:pt x="909" y="666"/>
                </a:lnTo>
                <a:lnTo>
                  <a:pt x="911" y="670"/>
                </a:lnTo>
                <a:lnTo>
                  <a:pt x="913" y="673"/>
                </a:lnTo>
                <a:lnTo>
                  <a:pt x="916" y="677"/>
                </a:lnTo>
                <a:lnTo>
                  <a:pt x="917" y="681"/>
                </a:lnTo>
                <a:lnTo>
                  <a:pt x="920" y="685"/>
                </a:lnTo>
                <a:lnTo>
                  <a:pt x="922" y="688"/>
                </a:lnTo>
                <a:lnTo>
                  <a:pt x="924" y="691"/>
                </a:lnTo>
                <a:lnTo>
                  <a:pt x="926" y="694"/>
                </a:lnTo>
                <a:lnTo>
                  <a:pt x="929" y="699"/>
                </a:lnTo>
                <a:lnTo>
                  <a:pt x="930" y="702"/>
                </a:lnTo>
                <a:lnTo>
                  <a:pt x="933" y="705"/>
                </a:lnTo>
                <a:lnTo>
                  <a:pt x="934" y="709"/>
                </a:lnTo>
                <a:lnTo>
                  <a:pt x="936" y="712"/>
                </a:lnTo>
                <a:lnTo>
                  <a:pt x="939" y="715"/>
                </a:lnTo>
                <a:lnTo>
                  <a:pt x="940" y="720"/>
                </a:lnTo>
                <a:lnTo>
                  <a:pt x="943" y="723"/>
                </a:lnTo>
                <a:lnTo>
                  <a:pt x="945" y="726"/>
                </a:lnTo>
                <a:lnTo>
                  <a:pt x="947" y="729"/>
                </a:lnTo>
                <a:lnTo>
                  <a:pt x="949" y="733"/>
                </a:lnTo>
                <a:lnTo>
                  <a:pt x="952" y="736"/>
                </a:lnTo>
                <a:lnTo>
                  <a:pt x="953" y="739"/>
                </a:lnTo>
                <a:lnTo>
                  <a:pt x="956" y="743"/>
                </a:lnTo>
                <a:lnTo>
                  <a:pt x="958" y="747"/>
                </a:lnTo>
                <a:lnTo>
                  <a:pt x="959" y="750"/>
                </a:lnTo>
                <a:lnTo>
                  <a:pt x="962" y="753"/>
                </a:lnTo>
                <a:lnTo>
                  <a:pt x="965" y="756"/>
                </a:lnTo>
                <a:lnTo>
                  <a:pt x="966" y="759"/>
                </a:lnTo>
                <a:lnTo>
                  <a:pt x="968" y="763"/>
                </a:lnTo>
                <a:lnTo>
                  <a:pt x="971" y="767"/>
                </a:lnTo>
                <a:lnTo>
                  <a:pt x="972" y="770"/>
                </a:lnTo>
                <a:lnTo>
                  <a:pt x="975" y="773"/>
                </a:lnTo>
                <a:lnTo>
                  <a:pt x="977" y="776"/>
                </a:lnTo>
                <a:lnTo>
                  <a:pt x="979" y="780"/>
                </a:lnTo>
                <a:lnTo>
                  <a:pt x="981" y="783"/>
                </a:lnTo>
                <a:lnTo>
                  <a:pt x="982" y="786"/>
                </a:lnTo>
                <a:lnTo>
                  <a:pt x="985" y="790"/>
                </a:lnTo>
                <a:lnTo>
                  <a:pt x="988" y="793"/>
                </a:lnTo>
                <a:lnTo>
                  <a:pt x="990" y="796"/>
                </a:lnTo>
                <a:lnTo>
                  <a:pt x="993" y="799"/>
                </a:lnTo>
                <a:lnTo>
                  <a:pt x="994" y="802"/>
                </a:lnTo>
                <a:lnTo>
                  <a:pt x="997" y="805"/>
                </a:lnTo>
                <a:lnTo>
                  <a:pt x="999" y="808"/>
                </a:lnTo>
                <a:lnTo>
                  <a:pt x="1000" y="812"/>
                </a:lnTo>
                <a:lnTo>
                  <a:pt x="1003" y="815"/>
                </a:lnTo>
                <a:lnTo>
                  <a:pt x="1006" y="818"/>
                </a:lnTo>
                <a:lnTo>
                  <a:pt x="1007" y="821"/>
                </a:lnTo>
                <a:lnTo>
                  <a:pt x="1009" y="824"/>
                </a:lnTo>
                <a:lnTo>
                  <a:pt x="1012" y="827"/>
                </a:lnTo>
                <a:lnTo>
                  <a:pt x="1013" y="830"/>
                </a:lnTo>
                <a:lnTo>
                  <a:pt x="1016" y="834"/>
                </a:lnTo>
                <a:lnTo>
                  <a:pt x="1018" y="836"/>
                </a:lnTo>
                <a:lnTo>
                  <a:pt x="1020" y="839"/>
                </a:lnTo>
                <a:lnTo>
                  <a:pt x="1022" y="842"/>
                </a:lnTo>
                <a:lnTo>
                  <a:pt x="1025" y="845"/>
                </a:lnTo>
                <a:lnTo>
                  <a:pt x="1026" y="848"/>
                </a:lnTo>
                <a:lnTo>
                  <a:pt x="1029" y="850"/>
                </a:lnTo>
                <a:lnTo>
                  <a:pt x="1031" y="853"/>
                </a:lnTo>
                <a:lnTo>
                  <a:pt x="1032" y="857"/>
                </a:lnTo>
                <a:lnTo>
                  <a:pt x="1035" y="860"/>
                </a:lnTo>
                <a:lnTo>
                  <a:pt x="1038" y="862"/>
                </a:lnTo>
                <a:lnTo>
                  <a:pt x="1039" y="865"/>
                </a:lnTo>
                <a:lnTo>
                  <a:pt x="1041" y="868"/>
                </a:lnTo>
                <a:lnTo>
                  <a:pt x="1044" y="870"/>
                </a:lnTo>
                <a:lnTo>
                  <a:pt x="1045" y="873"/>
                </a:lnTo>
                <a:lnTo>
                  <a:pt x="1048" y="876"/>
                </a:lnTo>
                <a:lnTo>
                  <a:pt x="1049" y="879"/>
                </a:lnTo>
                <a:lnTo>
                  <a:pt x="1052" y="882"/>
                </a:lnTo>
                <a:lnTo>
                  <a:pt x="1054" y="884"/>
                </a:lnTo>
                <a:lnTo>
                  <a:pt x="1055" y="887"/>
                </a:lnTo>
                <a:lnTo>
                  <a:pt x="1058" y="889"/>
                </a:lnTo>
                <a:lnTo>
                  <a:pt x="1061" y="892"/>
                </a:lnTo>
                <a:lnTo>
                  <a:pt x="1062" y="89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5006880" y="5767560"/>
            <a:ext cx="297000" cy="145800"/>
          </a:xfrm>
          <a:custGeom>
            <a:avLst/>
            <a:gdLst/>
            <a:ahLst/>
            <a:rect l="l" t="t" r="r" b="b"/>
            <a:pathLst>
              <a:path w="175" h="117">
                <a:moveTo>
                  <a:pt x="0" y="0"/>
                </a:moveTo>
                <a:lnTo>
                  <a:pt x="2" y="3"/>
                </a:lnTo>
                <a:lnTo>
                  <a:pt x="5" y="5"/>
                </a:lnTo>
                <a:lnTo>
                  <a:pt x="6" y="9"/>
                </a:lnTo>
                <a:lnTo>
                  <a:pt x="9" y="11"/>
                </a:lnTo>
                <a:lnTo>
                  <a:pt x="11" y="13"/>
                </a:lnTo>
                <a:lnTo>
                  <a:pt x="13" y="16"/>
                </a:lnTo>
                <a:lnTo>
                  <a:pt x="15" y="18"/>
                </a:lnTo>
                <a:lnTo>
                  <a:pt x="18" y="20"/>
                </a:lnTo>
                <a:lnTo>
                  <a:pt x="19" y="22"/>
                </a:lnTo>
                <a:lnTo>
                  <a:pt x="22" y="25"/>
                </a:lnTo>
                <a:lnTo>
                  <a:pt x="24" y="27"/>
                </a:lnTo>
                <a:lnTo>
                  <a:pt x="25" y="30"/>
                </a:lnTo>
                <a:lnTo>
                  <a:pt x="28" y="32"/>
                </a:lnTo>
                <a:lnTo>
                  <a:pt x="31" y="34"/>
                </a:lnTo>
                <a:lnTo>
                  <a:pt x="32" y="36"/>
                </a:lnTo>
                <a:lnTo>
                  <a:pt x="34" y="38"/>
                </a:lnTo>
                <a:lnTo>
                  <a:pt x="37" y="40"/>
                </a:lnTo>
                <a:lnTo>
                  <a:pt x="40" y="42"/>
                </a:lnTo>
                <a:lnTo>
                  <a:pt x="41" y="44"/>
                </a:lnTo>
                <a:lnTo>
                  <a:pt x="43" y="46"/>
                </a:lnTo>
                <a:lnTo>
                  <a:pt x="46" y="48"/>
                </a:lnTo>
                <a:lnTo>
                  <a:pt x="47" y="50"/>
                </a:lnTo>
                <a:lnTo>
                  <a:pt x="50" y="53"/>
                </a:lnTo>
                <a:lnTo>
                  <a:pt x="52" y="55"/>
                </a:lnTo>
                <a:lnTo>
                  <a:pt x="54" y="57"/>
                </a:lnTo>
                <a:lnTo>
                  <a:pt x="56" y="59"/>
                </a:lnTo>
                <a:lnTo>
                  <a:pt x="59" y="60"/>
                </a:lnTo>
                <a:lnTo>
                  <a:pt x="60" y="62"/>
                </a:lnTo>
                <a:lnTo>
                  <a:pt x="63" y="64"/>
                </a:lnTo>
                <a:lnTo>
                  <a:pt x="64" y="65"/>
                </a:lnTo>
                <a:lnTo>
                  <a:pt x="66" y="67"/>
                </a:lnTo>
                <a:lnTo>
                  <a:pt x="69" y="69"/>
                </a:lnTo>
                <a:lnTo>
                  <a:pt x="70" y="70"/>
                </a:lnTo>
                <a:lnTo>
                  <a:pt x="73" y="72"/>
                </a:lnTo>
                <a:lnTo>
                  <a:pt x="75" y="75"/>
                </a:lnTo>
                <a:lnTo>
                  <a:pt x="77" y="76"/>
                </a:lnTo>
                <a:lnTo>
                  <a:pt x="79" y="78"/>
                </a:lnTo>
                <a:lnTo>
                  <a:pt x="82" y="79"/>
                </a:lnTo>
                <a:lnTo>
                  <a:pt x="83" y="81"/>
                </a:lnTo>
                <a:lnTo>
                  <a:pt x="86" y="82"/>
                </a:lnTo>
                <a:lnTo>
                  <a:pt x="88" y="83"/>
                </a:lnTo>
                <a:lnTo>
                  <a:pt x="90" y="85"/>
                </a:lnTo>
                <a:lnTo>
                  <a:pt x="92" y="86"/>
                </a:lnTo>
                <a:lnTo>
                  <a:pt x="95" y="87"/>
                </a:lnTo>
                <a:lnTo>
                  <a:pt x="96" y="89"/>
                </a:lnTo>
                <a:lnTo>
                  <a:pt x="98" y="90"/>
                </a:lnTo>
                <a:lnTo>
                  <a:pt x="101" y="91"/>
                </a:lnTo>
                <a:lnTo>
                  <a:pt x="102" y="92"/>
                </a:lnTo>
                <a:lnTo>
                  <a:pt x="105" y="93"/>
                </a:lnTo>
                <a:lnTo>
                  <a:pt x="106" y="94"/>
                </a:lnTo>
                <a:lnTo>
                  <a:pt x="109" y="95"/>
                </a:lnTo>
                <a:lnTo>
                  <a:pt x="111" y="96"/>
                </a:lnTo>
                <a:lnTo>
                  <a:pt x="113" y="98"/>
                </a:lnTo>
                <a:lnTo>
                  <a:pt x="115" y="99"/>
                </a:lnTo>
                <a:lnTo>
                  <a:pt x="118" y="100"/>
                </a:lnTo>
                <a:lnTo>
                  <a:pt x="119" y="101"/>
                </a:lnTo>
                <a:lnTo>
                  <a:pt x="122" y="102"/>
                </a:lnTo>
                <a:lnTo>
                  <a:pt x="124" y="103"/>
                </a:lnTo>
                <a:lnTo>
                  <a:pt x="125" y="104"/>
                </a:lnTo>
                <a:lnTo>
                  <a:pt x="128" y="104"/>
                </a:lnTo>
                <a:lnTo>
                  <a:pt x="129" y="105"/>
                </a:lnTo>
                <a:lnTo>
                  <a:pt x="132" y="106"/>
                </a:lnTo>
                <a:lnTo>
                  <a:pt x="133" y="106"/>
                </a:lnTo>
                <a:lnTo>
                  <a:pt x="136" y="107"/>
                </a:lnTo>
                <a:lnTo>
                  <a:pt x="138" y="108"/>
                </a:lnTo>
                <a:lnTo>
                  <a:pt x="139" y="108"/>
                </a:lnTo>
                <a:lnTo>
                  <a:pt x="141" y="109"/>
                </a:lnTo>
                <a:lnTo>
                  <a:pt x="143" y="109"/>
                </a:lnTo>
                <a:lnTo>
                  <a:pt x="145" y="110"/>
                </a:lnTo>
                <a:lnTo>
                  <a:pt x="147" y="110"/>
                </a:lnTo>
                <a:lnTo>
                  <a:pt x="148" y="111"/>
                </a:lnTo>
                <a:lnTo>
                  <a:pt x="150" y="111"/>
                </a:lnTo>
                <a:lnTo>
                  <a:pt x="152" y="112"/>
                </a:lnTo>
                <a:lnTo>
                  <a:pt x="154" y="112"/>
                </a:lnTo>
                <a:lnTo>
                  <a:pt x="155" y="113"/>
                </a:lnTo>
                <a:lnTo>
                  <a:pt x="157" y="113"/>
                </a:lnTo>
                <a:lnTo>
                  <a:pt x="159" y="113"/>
                </a:lnTo>
                <a:lnTo>
                  <a:pt x="160" y="114"/>
                </a:lnTo>
                <a:lnTo>
                  <a:pt x="161" y="114"/>
                </a:lnTo>
                <a:lnTo>
                  <a:pt x="163" y="114"/>
                </a:lnTo>
                <a:lnTo>
                  <a:pt x="164" y="114"/>
                </a:lnTo>
                <a:lnTo>
                  <a:pt x="165" y="115"/>
                </a:lnTo>
                <a:lnTo>
                  <a:pt x="175" y="117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1411200" y="5487840"/>
            <a:ext cx="1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1427040" y="5487840"/>
            <a:ext cx="180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1428840" y="5487840"/>
            <a:ext cx="468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1433520" y="5487840"/>
            <a:ext cx="144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1434960" y="5487840"/>
            <a:ext cx="180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>
            <a:off x="1436760" y="5487840"/>
            <a:ext cx="144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1438200" y="5487840"/>
            <a:ext cx="4680" cy="18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1442880" y="548784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1444680" y="54878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1446120" y="54878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1449360" y="54878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1450800" y="5487840"/>
            <a:ext cx="6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457280" y="548784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1459080" y="5487840"/>
            <a:ext cx="28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1461960" y="54878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1465200" y="548784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1467000" y="54878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1471680" y="54878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1473120" y="54878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476360" y="5487840"/>
            <a:ext cx="6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482840" y="54878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1484280" y="54878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1595520" y="548784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596960" y="5487840"/>
            <a:ext cx="1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598760" y="54878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1603440" y="54878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1606680" y="5487840"/>
            <a:ext cx="4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1611360" y="548784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1614600" y="5489640"/>
            <a:ext cx="4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1619280" y="5489640"/>
            <a:ext cx="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162072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62396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162720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1630440" y="5489640"/>
            <a:ext cx="6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36560" y="5489640"/>
            <a:ext cx="1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638360" y="5489640"/>
            <a:ext cx="4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64304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164628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164952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652760" y="5489640"/>
            <a:ext cx="6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1658880" y="5489640"/>
            <a:ext cx="1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1660680" y="5489640"/>
            <a:ext cx="4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1665360" y="5489640"/>
            <a:ext cx="3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1668600" y="5489640"/>
            <a:ext cx="14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1670040" y="5489640"/>
            <a:ext cx="32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778040" y="5495760"/>
            <a:ext cx="32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1781280" y="5495760"/>
            <a:ext cx="14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1782720" y="5495760"/>
            <a:ext cx="6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3" name=""/>
          <p:cNvGrpSpPr/>
          <p:nvPr/>
        </p:nvGrpSpPr>
        <p:grpSpPr>
          <a:xfrm>
            <a:off x="1789200" y="4834080"/>
            <a:ext cx="1539000" cy="742320"/>
            <a:chOff x="1789200" y="4834080"/>
            <a:chExt cx="1539000" cy="742320"/>
          </a:xfrm>
        </p:grpSpPr>
        <p:sp>
          <p:nvSpPr>
            <p:cNvPr id="5204" name=""/>
            <p:cNvSpPr/>
            <p:nvPr/>
          </p:nvSpPr>
          <p:spPr>
            <a:xfrm>
              <a:off x="1789200" y="54961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1792440" y="54975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1793880" y="5497560"/>
              <a:ext cx="50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1799280" y="54975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1804320" y="54975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805760" y="54975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809360" y="549864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1814400" y="549864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816200" y="55000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1821240" y="550008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1822680" y="5500080"/>
              <a:ext cx="50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828080" y="5500080"/>
              <a:ext cx="28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1831320" y="550116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1833120" y="55011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1838160" y="55011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1843200" y="550224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845000" y="550224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1848600" y="550224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1853640" y="55022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1855080" y="55036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1963440" y="551628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1963440" y="5516280"/>
              <a:ext cx="50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1968840" y="5517360"/>
              <a:ext cx="28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1971720" y="551736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1975320" y="55198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1978920" y="55198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1983600" y="55213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1985760" y="5521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1990800" y="55227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1994040" y="55227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1995480" y="55227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000520" y="5523840"/>
              <a:ext cx="50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2005920" y="55238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007720" y="55252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2010960" y="55252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014560" y="55263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017800" y="55263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022840" y="552780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024280" y="55278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029320" y="55288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032920" y="55288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2036520" y="55299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039760" y="55299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2148120" y="555012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148120" y="55501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153160" y="555120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154960" y="55512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160000" y="555264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163600" y="55526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165040" y="55537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170080" y="55537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173320" y="55551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176920" y="55551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180520" y="55566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185200" y="555660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2187000" y="5557680"/>
              <a:ext cx="50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192400" y="555768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2193840" y="55576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198880" y="55591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202120" y="55591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204280" y="55602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209320" y="55602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214000" y="55616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215800" y="556164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219040" y="55627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2224080" y="55627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32800" y="55742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2332800" y="55742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37840" y="55742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2339280" y="557424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42880" y="557424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347920" y="55753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49720" y="5575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235476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5836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236160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65200" y="5575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370240" y="557532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71680" y="5575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37672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79960" y="55753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382120" y="5575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87160" y="557532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388600" y="5575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9364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39688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400480" y="557532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2403720" y="55738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408760" y="557424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515680" y="556020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 flipV="1">
              <a:off x="2515680" y="55587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519280" y="555732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 flipV="1">
              <a:off x="2523960" y="55562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527560" y="555660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2529000" y="55548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534040" y="555336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V="1">
              <a:off x="2539440" y="555228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540880" y="555264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2544480" y="555084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549520" y="554976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2551320" y="55486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556360" y="554616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2559960" y="5544720"/>
              <a:ext cx="28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V="1">
              <a:off x="2562840" y="554364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566440" y="554220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2571480" y="554112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V="1">
              <a:off x="2573280" y="554004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2578320" y="553860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581560" y="553716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2585160" y="5536080"/>
              <a:ext cx="32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V="1">
              <a:off x="2588760" y="55346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2590200" y="553356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696760" y="54759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V="1">
              <a:off x="2698560" y="547344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2703600" y="5470920"/>
              <a:ext cx="18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2705400" y="5469480"/>
              <a:ext cx="46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710440" y="546696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V="1">
              <a:off x="2713680" y="546444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V="1">
              <a:off x="2718720" y="5461200"/>
              <a:ext cx="180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 flipV="1">
              <a:off x="2720880" y="545832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725920" y="5455800"/>
              <a:ext cx="14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V="1">
              <a:off x="2729160" y="5453280"/>
              <a:ext cx="28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2732400" y="5451120"/>
              <a:ext cx="324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flipV="1">
              <a:off x="2735640" y="544824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740680" y="5445720"/>
              <a:ext cx="18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2742480" y="544320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2747520" y="544068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V="1">
              <a:off x="2751120" y="5438160"/>
              <a:ext cx="14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752560" y="5434560"/>
              <a:ext cx="50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2757960" y="543096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2763000" y="542952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835720" y="5365800"/>
              <a:ext cx="1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835720" y="5361480"/>
              <a:ext cx="50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 flipV="1">
              <a:off x="2841120" y="535824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V="1">
              <a:off x="2842560" y="535536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2845800" y="535176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2850840" y="5346720"/>
              <a:ext cx="180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 flipV="1">
              <a:off x="2853000" y="534420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 flipV="1">
              <a:off x="2857680" y="534096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V="1">
              <a:off x="2861280" y="5336640"/>
              <a:ext cx="288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flipV="1">
              <a:off x="2864520" y="533376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V="1">
              <a:off x="2867760" y="533052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2872800" y="5326920"/>
              <a:ext cx="180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2874600" y="532332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2879640" y="531936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V="1">
              <a:off x="2883240" y="531756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944440" y="525420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 flipV="1">
              <a:off x="2944440" y="525024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V="1">
              <a:off x="2949120" y="524664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2952720" y="524304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2954160" y="5238720"/>
              <a:ext cx="468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2959200" y="5233680"/>
              <a:ext cx="504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964600" y="5229720"/>
              <a:ext cx="14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2966040" y="522648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2969640" y="522288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V="1">
              <a:off x="2974680" y="5217480"/>
              <a:ext cx="468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V="1">
              <a:off x="2979720" y="5213880"/>
              <a:ext cx="180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2981520" y="5210280"/>
              <a:ext cx="28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2984760" y="520740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 flipV="1">
              <a:off x="3044160" y="5139720"/>
              <a:ext cx="14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V="1">
              <a:off x="3045600" y="5135040"/>
              <a:ext cx="468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 flipV="1">
              <a:off x="3050640" y="5131080"/>
              <a:ext cx="180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V="1">
              <a:off x="3052440" y="512748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3057480" y="512388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3059280" y="5118480"/>
              <a:ext cx="504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3064320" y="5113440"/>
              <a:ext cx="324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3067920" y="510984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3069360" y="510624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 flipV="1">
              <a:off x="3074400" y="510228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V="1">
              <a:off x="3078000" y="5097960"/>
              <a:ext cx="32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3081240" y="5096160"/>
              <a:ext cx="144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3138840" y="503064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3138840" y="502704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3143880" y="502344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 flipV="1">
              <a:off x="3147480" y="501984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V="1">
              <a:off x="3150720" y="5014440"/>
              <a:ext cx="288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V="1">
              <a:off x="3153960" y="5010840"/>
              <a:ext cx="50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159360" y="5005800"/>
              <a:ext cx="144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 flipV="1">
              <a:off x="3160800" y="500220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 flipV="1">
              <a:off x="3165840" y="4998240"/>
              <a:ext cx="180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167640" y="4993920"/>
              <a:ext cx="468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 flipV="1">
              <a:off x="3172680" y="499068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V="1">
              <a:off x="3176280" y="498708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3177720" y="4984200"/>
              <a:ext cx="46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V="1">
              <a:off x="3208680" y="4948920"/>
              <a:ext cx="288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3211560" y="4944960"/>
              <a:ext cx="32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3215160" y="4943160"/>
              <a:ext cx="468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3220200" y="4938840"/>
              <a:ext cx="180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V="1">
              <a:off x="3222000" y="493560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3227040" y="4931640"/>
              <a:ext cx="32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3230280" y="4928040"/>
              <a:ext cx="144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V="1">
              <a:off x="3232080" y="4923720"/>
              <a:ext cx="50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3237480" y="4919040"/>
              <a:ext cx="1440" cy="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3238920" y="4915440"/>
              <a:ext cx="4680" cy="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V="1">
              <a:off x="3243960" y="4911120"/>
              <a:ext cx="324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 flipV="1">
              <a:off x="3247200" y="4909320"/>
              <a:ext cx="324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3250800" y="4906440"/>
              <a:ext cx="32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 flipV="1">
              <a:off x="3320280" y="4840920"/>
              <a:ext cx="1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3320280" y="4839120"/>
              <a:ext cx="288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V="1">
              <a:off x="3323160" y="4834080"/>
              <a:ext cx="5040" cy="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3328920" y="4654080"/>
            <a:ext cx="1572840" cy="999000"/>
            <a:chOff x="3328920" y="4654080"/>
            <a:chExt cx="1572840" cy="999000"/>
          </a:xfrm>
        </p:grpSpPr>
        <p:sp>
          <p:nvSpPr>
            <p:cNvPr id="5405" name=""/>
            <p:cNvSpPr/>
            <p:nvPr/>
          </p:nvSpPr>
          <p:spPr>
            <a:xfrm flipV="1">
              <a:off x="3328920" y="483084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3330360" y="482832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3335400" y="482508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3338640" y="482184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3340800" y="481860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3345480" y="481572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3347280" y="481320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3352320" y="480996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3355560" y="480600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3359160" y="480312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3362400" y="479988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3367440" y="479700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3369240" y="4794480"/>
              <a:ext cx="50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462480" y="473076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3462480" y="4728600"/>
              <a:ext cx="468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3467520" y="47268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3470760" y="472428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3474360" y="472068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V="1">
              <a:off x="3477600" y="471924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3482640" y="471672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3484440" y="471528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3487680" y="4713480"/>
              <a:ext cx="324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3491280" y="471168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3494520" y="470916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3499560" y="470808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V="1">
              <a:off x="3503160" y="47066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3508200" y="470412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3509640" y="470268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V="1">
              <a:off x="3515040" y="47016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3518640" y="4699080"/>
              <a:ext cx="28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3521520" y="46980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 flipV="1">
              <a:off x="3525120" y="469656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V="1">
              <a:off x="3528360" y="469548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 flipV="1">
              <a:off x="3531960" y="469224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3537000" y="46904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538440" y="469080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 flipV="1">
              <a:off x="3645360" y="465912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647160" y="465948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flipV="1">
              <a:off x="3652200" y="46580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3655440" y="465840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657240" y="465840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V="1">
              <a:off x="3662280" y="46566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665520" y="465696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669120" y="465696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672360" y="465696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3677400" y="465516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678840" y="4655520"/>
              <a:ext cx="50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3684240" y="465408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686040" y="465444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691080" y="46544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3694320" y="465444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3699360" y="465444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3702960" y="465408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706200" y="46544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3709800" y="465444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714840" y="46544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716280" y="4654440"/>
              <a:ext cx="50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721680" y="46544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830040" y="466920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3831480" y="46706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835080" y="467172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838320" y="467172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841920" y="467316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846960" y="467460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3848400" y="4674600"/>
              <a:ext cx="50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853800" y="4675680"/>
              <a:ext cx="28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3856680" y="467712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858840" y="467820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3863880" y="467964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868920" y="467964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3870720" y="468072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3873960" y="468180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3879000" y="46832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880800" y="4684320"/>
              <a:ext cx="468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3885480" y="468576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889080" y="46868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894120" y="468828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895920" y="468936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900960" y="469080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904560" y="46922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907800" y="469332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4012920" y="47448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4016160" y="474588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4017600" y="4747320"/>
              <a:ext cx="50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023000" y="4749840"/>
              <a:ext cx="288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4026240" y="475200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4028040" y="475452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033080" y="47574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036680" y="475848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039920" y="476100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043520" y="4762440"/>
              <a:ext cx="468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048560" y="476460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4050000" y="476712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55040" y="4769640"/>
              <a:ext cx="32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58640" y="4771080"/>
              <a:ext cx="324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061880" y="477360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065480" y="477612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66920" y="4778640"/>
              <a:ext cx="50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072320" y="478224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077360" y="478476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078800" y="478584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085640" y="478836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173840" y="485388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173840" y="4853880"/>
              <a:ext cx="1440" cy="2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175280" y="4856400"/>
              <a:ext cx="50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180680" y="485892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185720" y="486144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187160" y="4863960"/>
              <a:ext cx="3240" cy="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190760" y="486864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195440" y="487116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197600" y="487368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4202640" y="487656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4205880" y="488016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4209480" y="488268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212720" y="488520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217760" y="488772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219560" y="489132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224240" y="489528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227840" y="489888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304160" y="496548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304160" y="496548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309200" y="496908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311000" y="497268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314240" y="497556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4319280" y="4980600"/>
              <a:ext cx="180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321080" y="4984200"/>
              <a:ext cx="468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4326120" y="498672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4329720" y="499032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332960" y="4993200"/>
              <a:ext cx="28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336200" y="4996800"/>
              <a:ext cx="50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341600" y="5000400"/>
              <a:ext cx="14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4343040" y="500436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4348080" y="500796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4351680" y="501192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4413960" y="507708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4413960" y="507852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4419000" y="508212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4422600" y="5085720"/>
              <a:ext cx="32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4426200" y="5089680"/>
              <a:ext cx="3240" cy="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4429440" y="509472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434480" y="5098320"/>
              <a:ext cx="180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436280" y="510228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441320" y="510588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444920" y="510984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446360" y="5113440"/>
              <a:ext cx="468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451400" y="5117400"/>
              <a:ext cx="5040" cy="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456800" y="5122080"/>
              <a:ext cx="14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514040" y="518868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515840" y="519120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4520880" y="519516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522320" y="5198760"/>
              <a:ext cx="50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527720" y="5203800"/>
              <a:ext cx="32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531320" y="520884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536360" y="521280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37800" y="521640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542840" y="5220000"/>
              <a:ext cx="32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546440" y="522504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9680" y="522900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4553280" y="5232600"/>
              <a:ext cx="32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607280" y="5300280"/>
              <a:ext cx="324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610880" y="530280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614120" y="530640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619160" y="531180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4620600" y="5315400"/>
              <a:ext cx="32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4624200" y="5319360"/>
              <a:ext cx="4680" cy="6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4629240" y="5325480"/>
              <a:ext cx="180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4631040" y="532944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4636080" y="5333040"/>
              <a:ext cx="32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639680" y="533808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4642920" y="534168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4644720" y="53456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4698720" y="541188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4700520" y="541332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4705560" y="541836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4707360" y="542196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4712040" y="5427000"/>
              <a:ext cx="180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4714200" y="543096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4719240" y="5436000"/>
              <a:ext cx="3240" cy="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4722480" y="5440680"/>
              <a:ext cx="468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4727520" y="544464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728960" y="5448600"/>
              <a:ext cx="5040" cy="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734360" y="5453280"/>
              <a:ext cx="32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4737960" y="5457240"/>
              <a:ext cx="144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4790160" y="5523480"/>
              <a:ext cx="1800" cy="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4790160" y="5524920"/>
              <a:ext cx="32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4793760" y="552852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4798440" y="5532480"/>
              <a:ext cx="180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4800600" y="5536080"/>
              <a:ext cx="468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4805640" y="554112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4807080" y="5544720"/>
              <a:ext cx="50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4812480" y="5550120"/>
              <a:ext cx="28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815360" y="5553720"/>
              <a:ext cx="5040" cy="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4820760" y="555876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4822560" y="556236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827240" y="5566320"/>
              <a:ext cx="180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884840" y="5635440"/>
              <a:ext cx="1800" cy="2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4887000" y="563796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4892040" y="5641560"/>
              <a:ext cx="144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893480" y="5645160"/>
              <a:ext cx="4680" cy="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4898520" y="5649120"/>
              <a:ext cx="3240" cy="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5" name=""/>
          <p:cNvSpPr/>
          <p:nvPr/>
        </p:nvSpPr>
        <p:spPr>
          <a:xfrm>
            <a:off x="4902120" y="5653080"/>
            <a:ext cx="32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4905360" y="5656320"/>
            <a:ext cx="324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4908600" y="5661000"/>
            <a:ext cx="64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4915080" y="5664240"/>
            <a:ext cx="144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4916520" y="5668920"/>
            <a:ext cx="46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921200" y="5672160"/>
            <a:ext cx="32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4924440" y="5675400"/>
            <a:ext cx="144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4925880" y="5680080"/>
            <a:ext cx="50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4995720" y="5745240"/>
            <a:ext cx="1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995720" y="5745240"/>
            <a:ext cx="5040" cy="6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000760" y="5751360"/>
            <a:ext cx="14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5002200" y="5753160"/>
            <a:ext cx="468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006880" y="5757840"/>
            <a:ext cx="32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5010120" y="5759280"/>
            <a:ext cx="4680" cy="5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5014800" y="5764320"/>
            <a:ext cx="32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018040" y="5765760"/>
            <a:ext cx="46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022720" y="5769000"/>
            <a:ext cx="180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5024520" y="5772240"/>
            <a:ext cx="46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029200" y="5775480"/>
            <a:ext cx="1440" cy="2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5030640" y="5778360"/>
            <a:ext cx="50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035680" y="5781600"/>
            <a:ext cx="46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5040360" y="5784840"/>
            <a:ext cx="14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5041800" y="5788080"/>
            <a:ext cx="50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5046840" y="5789520"/>
            <a:ext cx="288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5049720" y="5792760"/>
            <a:ext cx="32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5052960" y="5796000"/>
            <a:ext cx="32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5056200" y="5799240"/>
            <a:ext cx="46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5060880" y="5800680"/>
            <a:ext cx="180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5065560" y="5805360"/>
            <a:ext cx="1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5162400" y="5865840"/>
            <a:ext cx="3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5165640" y="5865840"/>
            <a:ext cx="46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5170320" y="5867280"/>
            <a:ext cx="18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5172120" y="5869080"/>
            <a:ext cx="46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5176800" y="5870520"/>
            <a:ext cx="3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180040" y="5870520"/>
            <a:ext cx="32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183280" y="5872320"/>
            <a:ext cx="32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186520" y="5873760"/>
            <a:ext cx="61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5192640" y="5875200"/>
            <a:ext cx="18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194440" y="5877000"/>
            <a:ext cx="4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199120" y="5877000"/>
            <a:ext cx="32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5202360" y="5878440"/>
            <a:ext cx="14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5203800" y="5880240"/>
            <a:ext cx="46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5208480" y="5881680"/>
            <a:ext cx="1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5210280" y="5883120"/>
            <a:ext cx="6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5216400" y="5883120"/>
            <a:ext cx="32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5219640" y="5884920"/>
            <a:ext cx="32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5222880" y="5886360"/>
            <a:ext cx="32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5226120" y="5886360"/>
            <a:ext cx="14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227560" y="5888160"/>
            <a:ext cx="46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5232240" y="5889600"/>
            <a:ext cx="50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5237280" y="5891040"/>
            <a:ext cx="14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5238720" y="5891040"/>
            <a:ext cx="32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1328760" y="601992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1328760" y="601992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1325520" y="6019920"/>
            <a:ext cx="7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335240" y="6019920"/>
            <a:ext cx="75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866520" y="6151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791280" y="40687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362240" y="416412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324080" y="396540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1362240" y="4160880"/>
            <a:ext cx="3636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1324080" y="3962520"/>
            <a:ext cx="745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1300320" y="396072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00320" y="3957480"/>
            <a:ext cx="745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1333440" y="3701880"/>
            <a:ext cx="367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1295280" y="3503520"/>
            <a:ext cx="7488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1333440" y="3699000"/>
            <a:ext cx="367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1295280" y="3500280"/>
            <a:ext cx="7488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819720" y="358128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4" name=""/>
          <p:cNvGrpSpPr/>
          <p:nvPr/>
        </p:nvGrpSpPr>
        <p:grpSpPr>
          <a:xfrm>
            <a:off x="1411200" y="2406600"/>
            <a:ext cx="7424640" cy="3830760"/>
            <a:chOff x="1411200" y="2406600"/>
            <a:chExt cx="7424640" cy="3830760"/>
          </a:xfrm>
        </p:grpSpPr>
        <p:grpSp>
          <p:nvGrpSpPr>
            <p:cNvPr id="5675" name=""/>
            <p:cNvGrpSpPr/>
            <p:nvPr/>
          </p:nvGrpSpPr>
          <p:grpSpPr>
            <a:xfrm>
              <a:off x="1411200" y="2406600"/>
              <a:ext cx="7424640" cy="3830760"/>
              <a:chOff x="1411200" y="2406600"/>
              <a:chExt cx="7424640" cy="3830760"/>
            </a:xfrm>
          </p:grpSpPr>
          <p:sp>
            <p:nvSpPr>
              <p:cNvPr id="5676" name=""/>
              <p:cNvSpPr/>
              <p:nvPr/>
            </p:nvSpPr>
            <p:spPr>
              <a:xfrm>
                <a:off x="8059320" y="240660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r-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8086680" y="5832360"/>
                <a:ext cx="609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8077320" y="4479840"/>
                <a:ext cx="609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V="1">
                <a:off x="7236000" y="2895480"/>
                <a:ext cx="917280" cy="236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 flipV="1">
                <a:off x="7236000" y="3200040"/>
                <a:ext cx="917280" cy="160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V="1">
                <a:off x="7236000" y="4495680"/>
                <a:ext cx="84132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238880" y="5832360"/>
                <a:ext cx="83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8182080" y="3143160"/>
                <a:ext cx="609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8182080" y="2857680"/>
                <a:ext cx="609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546320" y="2666880"/>
                <a:ext cx="5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-3/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470000" y="3048120"/>
                <a:ext cx="52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-1/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7" name=""/>
              <p:cNvGrpSpPr/>
              <p:nvPr/>
            </p:nvGrpSpPr>
            <p:grpSpPr>
              <a:xfrm>
                <a:off x="1411200" y="3514680"/>
                <a:ext cx="3917880" cy="2722680"/>
                <a:chOff x="1411200" y="3514680"/>
                <a:chExt cx="3917880" cy="2722680"/>
              </a:xfrm>
            </p:grpSpPr>
            <p:sp>
              <p:nvSpPr>
                <p:cNvPr id="5688" name=""/>
                <p:cNvSpPr/>
                <p:nvPr/>
              </p:nvSpPr>
              <p:spPr>
                <a:xfrm>
                  <a:off x="1411200" y="6215040"/>
                  <a:ext cx="112680" cy="22320"/>
                </a:xfrm>
                <a:custGeom>
                  <a:avLst/>
                  <a:gdLst/>
                  <a:ahLst/>
                  <a:rect l="l" t="t" r="r" b="b"/>
                  <a:pathLst>
                    <a:path w="71" h="14">
                      <a:moveTo>
                        <a:pt x="0" y="14"/>
                      </a:moveTo>
                      <a:lnTo>
                        <a:pt x="35" y="9"/>
                      </a:lnTo>
                      <a:lnTo>
                        <a:pt x="53" y="4"/>
                      </a:lnTo>
                      <a:lnTo>
                        <a:pt x="71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1523880" y="6130800"/>
                  <a:ext cx="104760" cy="84240"/>
                </a:xfrm>
                <a:custGeom>
                  <a:avLst/>
                  <a:gdLst/>
                  <a:ahLst/>
                  <a:rect l="l" t="t" r="r" b="b"/>
                  <a:pathLst>
                    <a:path w="66" h="53">
                      <a:moveTo>
                        <a:pt x="0" y="53"/>
                      </a:moveTo>
                      <a:lnTo>
                        <a:pt x="30" y="29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0" name=""/>
                <p:cNvSpPr/>
                <p:nvPr/>
              </p:nvSpPr>
              <p:spPr>
                <a:xfrm>
                  <a:off x="1628640" y="6004080"/>
                  <a:ext cx="111240" cy="126720"/>
                </a:xfrm>
                <a:custGeom>
                  <a:avLst/>
                  <a:gdLst/>
                  <a:ahLst/>
                  <a:rect l="l" t="t" r="r" b="b"/>
                  <a:pathLst>
                    <a:path w="70" h="80">
                      <a:moveTo>
                        <a:pt x="0" y="80"/>
                      </a:moveTo>
                      <a:lnTo>
                        <a:pt x="35" y="42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1" name=""/>
                <p:cNvSpPr/>
                <p:nvPr/>
              </p:nvSpPr>
              <p:spPr>
                <a:xfrm>
                  <a:off x="1739880" y="582948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0" y="110"/>
                      </a:moveTo>
                      <a:lnTo>
                        <a:pt x="31" y="57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>
                  <a:off x="1844640" y="5641920"/>
                  <a:ext cx="112680" cy="187560"/>
                </a:xfrm>
                <a:custGeom>
                  <a:avLst/>
                  <a:gdLst/>
                  <a:ahLst/>
                  <a:rect l="l" t="t" r="r" b="b"/>
                  <a:pathLst>
                    <a:path w="71" h="118">
                      <a:moveTo>
                        <a:pt x="0" y="118"/>
                      </a:moveTo>
                      <a:lnTo>
                        <a:pt x="36" y="61"/>
                      </a:lnTo>
                      <a:lnTo>
                        <a:pt x="71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1957320" y="5437080"/>
                  <a:ext cx="104760" cy="20484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0" y="129"/>
                      </a:moveTo>
                      <a:lnTo>
                        <a:pt x="31" y="67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2062080" y="5226120"/>
                  <a:ext cx="111240" cy="210960"/>
                </a:xfrm>
                <a:custGeom>
                  <a:avLst/>
                  <a:gdLst/>
                  <a:ahLst/>
                  <a:rect l="l" t="t" r="r" b="b"/>
                  <a:pathLst>
                    <a:path w="70" h="133">
                      <a:moveTo>
                        <a:pt x="0" y="133"/>
                      </a:moveTo>
                      <a:lnTo>
                        <a:pt x="35" y="67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>
                  <a:off x="2173320" y="5022720"/>
                  <a:ext cx="104760" cy="203400"/>
                </a:xfrm>
                <a:custGeom>
                  <a:avLst/>
                  <a:gdLst/>
                  <a:ahLst/>
                  <a:rect l="l" t="t" r="r" b="b"/>
                  <a:pathLst>
                    <a:path w="66" h="128">
                      <a:moveTo>
                        <a:pt x="0" y="128"/>
                      </a:moveTo>
                      <a:lnTo>
                        <a:pt x="31" y="62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 flipV="1">
                  <a:off x="2278080" y="4834080"/>
                  <a:ext cx="112680" cy="188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7" name=""/>
                <p:cNvSpPr/>
                <p:nvPr/>
              </p:nvSpPr>
              <p:spPr>
                <a:xfrm flipV="1">
                  <a:off x="2390760" y="4660560"/>
                  <a:ext cx="112680" cy="173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 flipV="1">
                  <a:off x="2503440" y="4501800"/>
                  <a:ext cx="10476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2608200" y="4351320"/>
                  <a:ext cx="111240" cy="150840"/>
                </a:xfrm>
                <a:custGeom>
                  <a:avLst/>
                  <a:gdLst/>
                  <a:ahLst/>
                  <a:rect l="l" t="t" r="r" b="b"/>
                  <a:pathLst>
                    <a:path w="70" h="95">
                      <a:moveTo>
                        <a:pt x="0" y="95"/>
                      </a:moveTo>
                      <a:lnTo>
                        <a:pt x="35" y="48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2719440" y="4224240"/>
                  <a:ext cx="104760" cy="127080"/>
                </a:xfrm>
                <a:custGeom>
                  <a:avLst/>
                  <a:gdLst/>
                  <a:ahLst/>
                  <a:rect l="l" t="t" r="r" b="b"/>
                  <a:pathLst>
                    <a:path w="66" h="80">
                      <a:moveTo>
                        <a:pt x="0" y="80"/>
                      </a:moveTo>
                      <a:lnTo>
                        <a:pt x="31" y="38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2824200" y="4095720"/>
                  <a:ext cx="112680" cy="128520"/>
                </a:xfrm>
                <a:custGeom>
                  <a:avLst/>
                  <a:gdLst/>
                  <a:ahLst/>
                  <a:rect l="l" t="t" r="r" b="b"/>
                  <a:pathLst>
                    <a:path w="71" h="81">
                      <a:moveTo>
                        <a:pt x="0" y="81"/>
                      </a:moveTo>
                      <a:lnTo>
                        <a:pt x="35" y="38"/>
                      </a:lnTo>
                      <a:lnTo>
                        <a:pt x="71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 flipV="1">
                  <a:off x="2936880" y="3981240"/>
                  <a:ext cx="104760" cy="1141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>
                  <a:off x="3041640" y="3876840"/>
                  <a:ext cx="111240" cy="10476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0" y="66"/>
                      </a:moveTo>
                      <a:lnTo>
                        <a:pt x="35" y="33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 flipV="1">
                  <a:off x="3152880" y="3778200"/>
                  <a:ext cx="104760" cy="98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V="1">
                  <a:off x="3257640" y="3695400"/>
                  <a:ext cx="112680" cy="82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V="1">
                  <a:off x="3370320" y="3627360"/>
                  <a:ext cx="111240" cy="6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 flipV="1">
                  <a:off x="3481560" y="3574800"/>
                  <a:ext cx="104760" cy="52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3586320" y="3537000"/>
                  <a:ext cx="112680" cy="3816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0" y="24"/>
                      </a:moveTo>
                      <a:lnTo>
                        <a:pt x="36" y="10"/>
                      </a:lnTo>
                      <a:lnTo>
                        <a:pt x="71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3699000" y="3522600"/>
                  <a:ext cx="104760" cy="1440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0" y="9"/>
                      </a:moveTo>
                      <a:lnTo>
                        <a:pt x="31" y="4"/>
                      </a:lnTo>
                      <a:lnTo>
                        <a:pt x="66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3803760" y="3514680"/>
                  <a:ext cx="112680" cy="7920"/>
                </a:xfrm>
                <a:custGeom>
                  <a:avLst/>
                  <a:gdLst/>
                  <a:ahLst/>
                  <a:rect l="l" t="t" r="r" b="b"/>
                  <a:pathLst>
                    <a:path w="71" h="5">
                      <a:moveTo>
                        <a:pt x="0" y="5"/>
                      </a:moveTo>
                      <a:lnTo>
                        <a:pt x="35" y="0"/>
                      </a:lnTo>
                      <a:lnTo>
                        <a:pt x="71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>
                  <a:off x="3916440" y="3514680"/>
                  <a:ext cx="104760" cy="18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>
                  <a:off x="4021200" y="3514680"/>
                  <a:ext cx="111240" cy="14400"/>
                </a:xfrm>
                <a:custGeom>
                  <a:avLst/>
                  <a:gdLst/>
                  <a:ahLst/>
                  <a:rect l="l" t="t" r="r" b="b"/>
                  <a:pathLst>
                    <a:path w="70" h="9">
                      <a:moveTo>
                        <a:pt x="0" y="0"/>
                      </a:moveTo>
                      <a:lnTo>
                        <a:pt x="35" y="5"/>
                      </a:lnTo>
                      <a:lnTo>
                        <a:pt x="70" y="9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4132440" y="3529080"/>
                  <a:ext cx="104760" cy="23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4237200" y="3552840"/>
                  <a:ext cx="112680" cy="223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4349880" y="3575160"/>
                  <a:ext cx="110880" cy="29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4460760" y="3605040"/>
                  <a:ext cx="104760" cy="30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4565520" y="3635280"/>
                  <a:ext cx="112680" cy="30240"/>
                </a:xfrm>
                <a:custGeom>
                  <a:avLst/>
                  <a:gdLst/>
                  <a:ahLst/>
                  <a:rect l="l" t="t" r="r" b="b"/>
                  <a:pathLst>
                    <a:path w="71" h="19">
                      <a:moveTo>
                        <a:pt x="0" y="0"/>
                      </a:moveTo>
                      <a:lnTo>
                        <a:pt x="36" y="9"/>
                      </a:lnTo>
                      <a:lnTo>
                        <a:pt x="71" y="19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4678200" y="3665520"/>
                  <a:ext cx="104760" cy="30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4782960" y="3695760"/>
                  <a:ext cx="111240" cy="3024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35" y="9"/>
                      </a:lnTo>
                      <a:lnTo>
                        <a:pt x="70" y="19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>
                  <a:off x="4894200" y="3726000"/>
                  <a:ext cx="106560" cy="21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5000760" y="3747960"/>
                  <a:ext cx="110880" cy="15840"/>
                </a:xfrm>
                <a:custGeom>
                  <a:avLst/>
                  <a:gdLst/>
                  <a:ahLst/>
                  <a:rect l="l" t="t" r="r" b="b"/>
                  <a:pathLst>
                    <a:path w="70" h="10">
                      <a:moveTo>
                        <a:pt x="0" y="0"/>
                      </a:moveTo>
                      <a:lnTo>
                        <a:pt x="35" y="5"/>
                      </a:lnTo>
                      <a:lnTo>
                        <a:pt x="70" y="1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5111640" y="3763800"/>
                  <a:ext cx="104760" cy="14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5216400" y="3778200"/>
                  <a:ext cx="112680" cy="7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5337000" y="358128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r-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5" name=""/>
            <p:cNvSpPr/>
            <p:nvPr/>
          </p:nvSpPr>
          <p:spPr>
            <a:xfrm>
              <a:off x="4718880" y="5013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r-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"/>
          <p:cNvSpPr/>
          <p:nvPr/>
        </p:nvSpPr>
        <p:spPr>
          <a:xfrm rot="16200000">
            <a:off x="-156960" y="350964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/ 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2216520" y="-12600"/>
            <a:ext cx="45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Dependence of the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3121200" y="1254240"/>
            <a:ext cx="290160" cy="299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3124080" y="1257480"/>
            <a:ext cx="284400" cy="29340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3803760" y="1249200"/>
            <a:ext cx="311040" cy="300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3768840" y="1252440"/>
            <a:ext cx="304560" cy="2937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1600200" y="1224000"/>
            <a:ext cx="372960" cy="372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1603440" y="1227240"/>
            <a:ext cx="366480" cy="36648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676160" y="1276200"/>
            <a:ext cx="22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3853800" y="1274760"/>
            <a:ext cx="13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2666880" y="1981080"/>
            <a:ext cx="53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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3211200" y="1292400"/>
            <a:ext cx="14688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686160" y="4483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01000" y="1461960"/>
            <a:ext cx="838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981080" y="14050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400560" y="139536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685800" y="35812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685800" y="251460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382840" y="572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1170000" y="5234040"/>
            <a:ext cx="56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2787480" y="52578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4403880" y="523404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844640" y="2635200"/>
            <a:ext cx="1820880" cy="2209680"/>
          </a:xfrm>
          <a:custGeom>
            <a:avLst/>
            <a:gdLst/>
            <a:ahLst/>
            <a:rect l="l" t="t" r="r" b="b"/>
            <a:pathLst>
              <a:path w="938" h="973">
                <a:moveTo>
                  <a:pt x="0" y="0"/>
                </a:moveTo>
                <a:lnTo>
                  <a:pt x="3" y="24"/>
                </a:lnTo>
                <a:lnTo>
                  <a:pt x="6" y="48"/>
                </a:lnTo>
                <a:lnTo>
                  <a:pt x="9" y="72"/>
                </a:lnTo>
                <a:lnTo>
                  <a:pt x="12" y="96"/>
                </a:lnTo>
                <a:lnTo>
                  <a:pt x="15" y="119"/>
                </a:lnTo>
                <a:lnTo>
                  <a:pt x="17" y="141"/>
                </a:lnTo>
                <a:lnTo>
                  <a:pt x="20" y="162"/>
                </a:lnTo>
                <a:lnTo>
                  <a:pt x="23" y="184"/>
                </a:lnTo>
                <a:lnTo>
                  <a:pt x="26" y="205"/>
                </a:lnTo>
                <a:lnTo>
                  <a:pt x="29" y="225"/>
                </a:lnTo>
                <a:lnTo>
                  <a:pt x="30" y="246"/>
                </a:lnTo>
                <a:lnTo>
                  <a:pt x="33" y="265"/>
                </a:lnTo>
                <a:lnTo>
                  <a:pt x="36" y="285"/>
                </a:lnTo>
                <a:lnTo>
                  <a:pt x="39" y="304"/>
                </a:lnTo>
                <a:lnTo>
                  <a:pt x="42" y="324"/>
                </a:lnTo>
                <a:lnTo>
                  <a:pt x="45" y="342"/>
                </a:lnTo>
                <a:lnTo>
                  <a:pt x="46" y="360"/>
                </a:lnTo>
                <a:lnTo>
                  <a:pt x="49" y="376"/>
                </a:lnTo>
                <a:lnTo>
                  <a:pt x="52" y="394"/>
                </a:lnTo>
                <a:lnTo>
                  <a:pt x="55" y="410"/>
                </a:lnTo>
                <a:lnTo>
                  <a:pt x="58" y="427"/>
                </a:lnTo>
                <a:lnTo>
                  <a:pt x="61" y="443"/>
                </a:lnTo>
                <a:lnTo>
                  <a:pt x="64" y="460"/>
                </a:lnTo>
                <a:lnTo>
                  <a:pt x="66" y="475"/>
                </a:lnTo>
                <a:lnTo>
                  <a:pt x="69" y="490"/>
                </a:lnTo>
                <a:lnTo>
                  <a:pt x="72" y="505"/>
                </a:lnTo>
                <a:lnTo>
                  <a:pt x="75" y="520"/>
                </a:lnTo>
                <a:lnTo>
                  <a:pt x="78" y="535"/>
                </a:lnTo>
                <a:lnTo>
                  <a:pt x="81" y="548"/>
                </a:lnTo>
                <a:lnTo>
                  <a:pt x="82" y="562"/>
                </a:lnTo>
                <a:lnTo>
                  <a:pt x="85" y="575"/>
                </a:lnTo>
                <a:lnTo>
                  <a:pt x="88" y="587"/>
                </a:lnTo>
                <a:lnTo>
                  <a:pt x="91" y="601"/>
                </a:lnTo>
                <a:lnTo>
                  <a:pt x="94" y="612"/>
                </a:lnTo>
                <a:lnTo>
                  <a:pt x="97" y="624"/>
                </a:lnTo>
                <a:lnTo>
                  <a:pt x="100" y="636"/>
                </a:lnTo>
                <a:lnTo>
                  <a:pt x="102" y="648"/>
                </a:lnTo>
                <a:lnTo>
                  <a:pt x="105" y="660"/>
                </a:lnTo>
                <a:lnTo>
                  <a:pt x="108" y="671"/>
                </a:lnTo>
                <a:lnTo>
                  <a:pt x="111" y="681"/>
                </a:lnTo>
                <a:lnTo>
                  <a:pt x="112" y="692"/>
                </a:lnTo>
                <a:lnTo>
                  <a:pt x="115" y="702"/>
                </a:lnTo>
                <a:lnTo>
                  <a:pt x="118" y="713"/>
                </a:lnTo>
                <a:lnTo>
                  <a:pt x="121" y="722"/>
                </a:lnTo>
                <a:lnTo>
                  <a:pt x="124" y="732"/>
                </a:lnTo>
                <a:lnTo>
                  <a:pt x="127" y="741"/>
                </a:lnTo>
                <a:lnTo>
                  <a:pt x="130" y="750"/>
                </a:lnTo>
                <a:lnTo>
                  <a:pt x="132" y="759"/>
                </a:lnTo>
                <a:lnTo>
                  <a:pt x="135" y="768"/>
                </a:lnTo>
                <a:lnTo>
                  <a:pt x="138" y="776"/>
                </a:lnTo>
                <a:lnTo>
                  <a:pt x="141" y="783"/>
                </a:lnTo>
                <a:lnTo>
                  <a:pt x="144" y="792"/>
                </a:lnTo>
                <a:lnTo>
                  <a:pt x="147" y="800"/>
                </a:lnTo>
                <a:lnTo>
                  <a:pt x="148" y="807"/>
                </a:lnTo>
                <a:lnTo>
                  <a:pt x="151" y="815"/>
                </a:lnTo>
                <a:lnTo>
                  <a:pt x="154" y="821"/>
                </a:lnTo>
                <a:lnTo>
                  <a:pt x="157" y="828"/>
                </a:lnTo>
                <a:lnTo>
                  <a:pt x="160" y="834"/>
                </a:lnTo>
                <a:lnTo>
                  <a:pt x="163" y="842"/>
                </a:lnTo>
                <a:lnTo>
                  <a:pt x="166" y="848"/>
                </a:lnTo>
                <a:lnTo>
                  <a:pt x="167" y="853"/>
                </a:lnTo>
                <a:lnTo>
                  <a:pt x="170" y="859"/>
                </a:lnTo>
                <a:lnTo>
                  <a:pt x="173" y="865"/>
                </a:lnTo>
                <a:lnTo>
                  <a:pt x="176" y="871"/>
                </a:lnTo>
                <a:lnTo>
                  <a:pt x="178" y="876"/>
                </a:lnTo>
                <a:lnTo>
                  <a:pt x="181" y="882"/>
                </a:lnTo>
                <a:lnTo>
                  <a:pt x="184" y="886"/>
                </a:lnTo>
                <a:lnTo>
                  <a:pt x="187" y="891"/>
                </a:lnTo>
                <a:lnTo>
                  <a:pt x="190" y="895"/>
                </a:lnTo>
                <a:lnTo>
                  <a:pt x="193" y="900"/>
                </a:lnTo>
                <a:lnTo>
                  <a:pt x="196" y="904"/>
                </a:lnTo>
                <a:lnTo>
                  <a:pt x="197" y="909"/>
                </a:lnTo>
                <a:lnTo>
                  <a:pt x="200" y="913"/>
                </a:lnTo>
                <a:lnTo>
                  <a:pt x="203" y="916"/>
                </a:lnTo>
                <a:lnTo>
                  <a:pt x="206" y="921"/>
                </a:lnTo>
                <a:lnTo>
                  <a:pt x="209" y="924"/>
                </a:lnTo>
                <a:lnTo>
                  <a:pt x="212" y="927"/>
                </a:lnTo>
                <a:lnTo>
                  <a:pt x="214" y="930"/>
                </a:lnTo>
                <a:lnTo>
                  <a:pt x="217" y="934"/>
                </a:lnTo>
                <a:lnTo>
                  <a:pt x="220" y="936"/>
                </a:lnTo>
                <a:lnTo>
                  <a:pt x="223" y="940"/>
                </a:lnTo>
                <a:lnTo>
                  <a:pt x="226" y="942"/>
                </a:lnTo>
                <a:lnTo>
                  <a:pt x="227" y="945"/>
                </a:lnTo>
                <a:lnTo>
                  <a:pt x="230" y="948"/>
                </a:lnTo>
                <a:lnTo>
                  <a:pt x="233" y="949"/>
                </a:lnTo>
                <a:lnTo>
                  <a:pt x="236" y="952"/>
                </a:lnTo>
                <a:lnTo>
                  <a:pt x="239" y="954"/>
                </a:lnTo>
                <a:lnTo>
                  <a:pt x="242" y="955"/>
                </a:lnTo>
                <a:lnTo>
                  <a:pt x="244" y="958"/>
                </a:lnTo>
                <a:lnTo>
                  <a:pt x="247" y="960"/>
                </a:lnTo>
                <a:lnTo>
                  <a:pt x="250" y="961"/>
                </a:lnTo>
                <a:lnTo>
                  <a:pt x="253" y="963"/>
                </a:lnTo>
                <a:lnTo>
                  <a:pt x="256" y="964"/>
                </a:lnTo>
                <a:lnTo>
                  <a:pt x="259" y="966"/>
                </a:lnTo>
                <a:lnTo>
                  <a:pt x="262" y="967"/>
                </a:lnTo>
                <a:lnTo>
                  <a:pt x="263" y="967"/>
                </a:lnTo>
                <a:lnTo>
                  <a:pt x="266" y="969"/>
                </a:lnTo>
                <a:lnTo>
                  <a:pt x="269" y="969"/>
                </a:lnTo>
                <a:lnTo>
                  <a:pt x="272" y="970"/>
                </a:lnTo>
                <a:lnTo>
                  <a:pt x="274" y="970"/>
                </a:lnTo>
                <a:lnTo>
                  <a:pt x="277" y="972"/>
                </a:lnTo>
                <a:lnTo>
                  <a:pt x="279" y="972"/>
                </a:lnTo>
                <a:lnTo>
                  <a:pt x="282" y="972"/>
                </a:lnTo>
                <a:lnTo>
                  <a:pt x="285" y="972"/>
                </a:lnTo>
                <a:lnTo>
                  <a:pt x="288" y="973"/>
                </a:lnTo>
                <a:lnTo>
                  <a:pt x="291" y="973"/>
                </a:lnTo>
                <a:lnTo>
                  <a:pt x="293" y="973"/>
                </a:lnTo>
                <a:lnTo>
                  <a:pt x="296" y="973"/>
                </a:lnTo>
                <a:lnTo>
                  <a:pt x="299" y="972"/>
                </a:lnTo>
                <a:lnTo>
                  <a:pt x="302" y="972"/>
                </a:lnTo>
                <a:lnTo>
                  <a:pt x="305" y="972"/>
                </a:lnTo>
                <a:lnTo>
                  <a:pt x="308" y="972"/>
                </a:lnTo>
                <a:lnTo>
                  <a:pt x="309" y="970"/>
                </a:lnTo>
                <a:lnTo>
                  <a:pt x="312" y="970"/>
                </a:lnTo>
                <a:lnTo>
                  <a:pt x="315" y="969"/>
                </a:lnTo>
                <a:lnTo>
                  <a:pt x="318" y="969"/>
                </a:lnTo>
                <a:lnTo>
                  <a:pt x="321" y="967"/>
                </a:lnTo>
                <a:lnTo>
                  <a:pt x="324" y="967"/>
                </a:lnTo>
                <a:lnTo>
                  <a:pt x="327" y="966"/>
                </a:lnTo>
                <a:lnTo>
                  <a:pt x="329" y="966"/>
                </a:lnTo>
                <a:lnTo>
                  <a:pt x="332" y="964"/>
                </a:lnTo>
                <a:lnTo>
                  <a:pt x="335" y="963"/>
                </a:lnTo>
                <a:lnTo>
                  <a:pt x="338" y="961"/>
                </a:lnTo>
                <a:lnTo>
                  <a:pt x="339" y="961"/>
                </a:lnTo>
                <a:lnTo>
                  <a:pt x="342" y="960"/>
                </a:lnTo>
                <a:lnTo>
                  <a:pt x="345" y="958"/>
                </a:lnTo>
                <a:lnTo>
                  <a:pt x="348" y="957"/>
                </a:lnTo>
                <a:lnTo>
                  <a:pt x="351" y="955"/>
                </a:lnTo>
                <a:lnTo>
                  <a:pt x="354" y="954"/>
                </a:lnTo>
                <a:lnTo>
                  <a:pt x="357" y="952"/>
                </a:lnTo>
                <a:lnTo>
                  <a:pt x="359" y="949"/>
                </a:lnTo>
                <a:lnTo>
                  <a:pt x="362" y="948"/>
                </a:lnTo>
                <a:lnTo>
                  <a:pt x="365" y="946"/>
                </a:lnTo>
                <a:lnTo>
                  <a:pt x="368" y="945"/>
                </a:lnTo>
                <a:lnTo>
                  <a:pt x="371" y="942"/>
                </a:lnTo>
                <a:lnTo>
                  <a:pt x="374" y="940"/>
                </a:lnTo>
                <a:lnTo>
                  <a:pt x="375" y="939"/>
                </a:lnTo>
                <a:lnTo>
                  <a:pt x="378" y="936"/>
                </a:lnTo>
                <a:lnTo>
                  <a:pt x="381" y="934"/>
                </a:lnTo>
                <a:lnTo>
                  <a:pt x="384" y="933"/>
                </a:lnTo>
                <a:lnTo>
                  <a:pt x="386" y="930"/>
                </a:lnTo>
                <a:lnTo>
                  <a:pt x="389" y="928"/>
                </a:lnTo>
                <a:lnTo>
                  <a:pt x="392" y="925"/>
                </a:lnTo>
                <a:lnTo>
                  <a:pt x="394" y="924"/>
                </a:lnTo>
                <a:lnTo>
                  <a:pt x="397" y="921"/>
                </a:lnTo>
                <a:lnTo>
                  <a:pt x="400" y="919"/>
                </a:lnTo>
                <a:lnTo>
                  <a:pt x="403" y="916"/>
                </a:lnTo>
                <a:lnTo>
                  <a:pt x="405" y="913"/>
                </a:lnTo>
                <a:lnTo>
                  <a:pt x="408" y="912"/>
                </a:lnTo>
                <a:lnTo>
                  <a:pt x="411" y="909"/>
                </a:lnTo>
                <a:lnTo>
                  <a:pt x="414" y="906"/>
                </a:lnTo>
                <a:lnTo>
                  <a:pt x="417" y="903"/>
                </a:lnTo>
                <a:lnTo>
                  <a:pt x="420" y="901"/>
                </a:lnTo>
                <a:lnTo>
                  <a:pt x="421" y="898"/>
                </a:lnTo>
                <a:lnTo>
                  <a:pt x="424" y="895"/>
                </a:lnTo>
                <a:lnTo>
                  <a:pt x="427" y="892"/>
                </a:lnTo>
                <a:lnTo>
                  <a:pt x="430" y="889"/>
                </a:lnTo>
                <a:lnTo>
                  <a:pt x="433" y="886"/>
                </a:lnTo>
                <a:lnTo>
                  <a:pt x="436" y="885"/>
                </a:lnTo>
                <a:lnTo>
                  <a:pt x="438" y="882"/>
                </a:lnTo>
                <a:lnTo>
                  <a:pt x="441" y="879"/>
                </a:lnTo>
                <a:lnTo>
                  <a:pt x="444" y="876"/>
                </a:lnTo>
                <a:lnTo>
                  <a:pt x="447" y="873"/>
                </a:lnTo>
                <a:lnTo>
                  <a:pt x="450" y="870"/>
                </a:lnTo>
                <a:lnTo>
                  <a:pt x="451" y="867"/>
                </a:lnTo>
                <a:lnTo>
                  <a:pt x="454" y="864"/>
                </a:lnTo>
                <a:lnTo>
                  <a:pt x="457" y="861"/>
                </a:lnTo>
                <a:lnTo>
                  <a:pt x="460" y="858"/>
                </a:lnTo>
                <a:lnTo>
                  <a:pt x="463" y="853"/>
                </a:lnTo>
                <a:lnTo>
                  <a:pt x="466" y="852"/>
                </a:lnTo>
                <a:lnTo>
                  <a:pt x="469" y="848"/>
                </a:lnTo>
                <a:lnTo>
                  <a:pt x="471" y="845"/>
                </a:lnTo>
                <a:lnTo>
                  <a:pt x="474" y="842"/>
                </a:lnTo>
                <a:lnTo>
                  <a:pt x="477" y="839"/>
                </a:lnTo>
                <a:lnTo>
                  <a:pt x="480" y="836"/>
                </a:lnTo>
                <a:lnTo>
                  <a:pt x="483" y="833"/>
                </a:lnTo>
                <a:lnTo>
                  <a:pt x="486" y="828"/>
                </a:lnTo>
                <a:lnTo>
                  <a:pt x="487" y="825"/>
                </a:lnTo>
                <a:lnTo>
                  <a:pt x="490" y="822"/>
                </a:lnTo>
                <a:lnTo>
                  <a:pt x="493" y="819"/>
                </a:lnTo>
                <a:lnTo>
                  <a:pt x="496" y="816"/>
                </a:lnTo>
                <a:lnTo>
                  <a:pt x="499" y="812"/>
                </a:lnTo>
                <a:lnTo>
                  <a:pt x="501" y="809"/>
                </a:lnTo>
                <a:lnTo>
                  <a:pt x="504" y="806"/>
                </a:lnTo>
                <a:lnTo>
                  <a:pt x="507" y="803"/>
                </a:lnTo>
                <a:lnTo>
                  <a:pt x="510" y="798"/>
                </a:lnTo>
                <a:lnTo>
                  <a:pt x="512" y="795"/>
                </a:lnTo>
                <a:lnTo>
                  <a:pt x="515" y="792"/>
                </a:lnTo>
                <a:lnTo>
                  <a:pt x="517" y="789"/>
                </a:lnTo>
                <a:lnTo>
                  <a:pt x="520" y="785"/>
                </a:lnTo>
                <a:lnTo>
                  <a:pt x="523" y="782"/>
                </a:lnTo>
                <a:lnTo>
                  <a:pt x="526" y="779"/>
                </a:lnTo>
                <a:lnTo>
                  <a:pt x="529" y="774"/>
                </a:lnTo>
                <a:lnTo>
                  <a:pt x="532" y="771"/>
                </a:lnTo>
                <a:lnTo>
                  <a:pt x="535" y="768"/>
                </a:lnTo>
                <a:lnTo>
                  <a:pt x="536" y="764"/>
                </a:lnTo>
                <a:lnTo>
                  <a:pt x="539" y="761"/>
                </a:lnTo>
                <a:lnTo>
                  <a:pt x="542" y="758"/>
                </a:lnTo>
                <a:lnTo>
                  <a:pt x="545" y="753"/>
                </a:lnTo>
                <a:lnTo>
                  <a:pt x="547" y="750"/>
                </a:lnTo>
                <a:lnTo>
                  <a:pt x="550" y="746"/>
                </a:lnTo>
                <a:lnTo>
                  <a:pt x="553" y="743"/>
                </a:lnTo>
                <a:lnTo>
                  <a:pt x="556" y="740"/>
                </a:lnTo>
                <a:lnTo>
                  <a:pt x="559" y="735"/>
                </a:lnTo>
                <a:lnTo>
                  <a:pt x="562" y="732"/>
                </a:lnTo>
                <a:lnTo>
                  <a:pt x="565" y="729"/>
                </a:lnTo>
                <a:lnTo>
                  <a:pt x="566" y="725"/>
                </a:lnTo>
                <a:lnTo>
                  <a:pt x="569" y="722"/>
                </a:lnTo>
                <a:lnTo>
                  <a:pt x="572" y="719"/>
                </a:lnTo>
                <a:lnTo>
                  <a:pt x="575" y="714"/>
                </a:lnTo>
                <a:lnTo>
                  <a:pt x="578" y="711"/>
                </a:lnTo>
                <a:lnTo>
                  <a:pt x="580" y="707"/>
                </a:lnTo>
                <a:lnTo>
                  <a:pt x="583" y="704"/>
                </a:lnTo>
                <a:lnTo>
                  <a:pt x="586" y="701"/>
                </a:lnTo>
                <a:lnTo>
                  <a:pt x="589" y="696"/>
                </a:lnTo>
                <a:lnTo>
                  <a:pt x="592" y="693"/>
                </a:lnTo>
                <a:lnTo>
                  <a:pt x="595" y="689"/>
                </a:lnTo>
                <a:lnTo>
                  <a:pt x="596" y="686"/>
                </a:lnTo>
                <a:lnTo>
                  <a:pt x="599" y="681"/>
                </a:lnTo>
                <a:lnTo>
                  <a:pt x="602" y="678"/>
                </a:lnTo>
                <a:lnTo>
                  <a:pt x="605" y="675"/>
                </a:lnTo>
                <a:lnTo>
                  <a:pt x="608" y="671"/>
                </a:lnTo>
                <a:lnTo>
                  <a:pt x="611" y="668"/>
                </a:lnTo>
                <a:lnTo>
                  <a:pt x="613" y="663"/>
                </a:lnTo>
                <a:lnTo>
                  <a:pt x="616" y="660"/>
                </a:lnTo>
                <a:lnTo>
                  <a:pt x="619" y="656"/>
                </a:lnTo>
                <a:lnTo>
                  <a:pt x="622" y="653"/>
                </a:lnTo>
                <a:lnTo>
                  <a:pt x="625" y="650"/>
                </a:lnTo>
                <a:lnTo>
                  <a:pt x="626" y="645"/>
                </a:lnTo>
                <a:lnTo>
                  <a:pt x="629" y="642"/>
                </a:lnTo>
                <a:lnTo>
                  <a:pt x="632" y="638"/>
                </a:lnTo>
                <a:lnTo>
                  <a:pt x="635" y="635"/>
                </a:lnTo>
                <a:lnTo>
                  <a:pt x="638" y="630"/>
                </a:lnTo>
                <a:lnTo>
                  <a:pt x="641" y="627"/>
                </a:lnTo>
                <a:lnTo>
                  <a:pt x="642" y="624"/>
                </a:lnTo>
                <a:lnTo>
                  <a:pt x="645" y="620"/>
                </a:lnTo>
                <a:lnTo>
                  <a:pt x="648" y="617"/>
                </a:lnTo>
                <a:lnTo>
                  <a:pt x="651" y="614"/>
                </a:lnTo>
                <a:lnTo>
                  <a:pt x="654" y="609"/>
                </a:lnTo>
                <a:lnTo>
                  <a:pt x="657" y="607"/>
                </a:lnTo>
                <a:lnTo>
                  <a:pt x="660" y="602"/>
                </a:lnTo>
                <a:lnTo>
                  <a:pt x="662" y="599"/>
                </a:lnTo>
                <a:lnTo>
                  <a:pt x="665" y="596"/>
                </a:lnTo>
                <a:lnTo>
                  <a:pt x="668" y="592"/>
                </a:lnTo>
                <a:lnTo>
                  <a:pt x="671" y="589"/>
                </a:lnTo>
                <a:lnTo>
                  <a:pt x="674" y="586"/>
                </a:lnTo>
                <a:lnTo>
                  <a:pt x="677" y="581"/>
                </a:lnTo>
                <a:lnTo>
                  <a:pt x="678" y="578"/>
                </a:lnTo>
                <a:lnTo>
                  <a:pt x="681" y="574"/>
                </a:lnTo>
                <a:lnTo>
                  <a:pt x="684" y="571"/>
                </a:lnTo>
                <a:lnTo>
                  <a:pt x="687" y="566"/>
                </a:lnTo>
                <a:lnTo>
                  <a:pt x="690" y="563"/>
                </a:lnTo>
                <a:lnTo>
                  <a:pt x="692" y="560"/>
                </a:lnTo>
                <a:lnTo>
                  <a:pt x="695" y="556"/>
                </a:lnTo>
                <a:lnTo>
                  <a:pt x="698" y="553"/>
                </a:lnTo>
                <a:lnTo>
                  <a:pt x="701" y="550"/>
                </a:lnTo>
                <a:lnTo>
                  <a:pt x="704" y="545"/>
                </a:lnTo>
                <a:lnTo>
                  <a:pt x="707" y="542"/>
                </a:lnTo>
                <a:lnTo>
                  <a:pt x="708" y="539"/>
                </a:lnTo>
                <a:lnTo>
                  <a:pt x="711" y="535"/>
                </a:lnTo>
                <a:lnTo>
                  <a:pt x="714" y="532"/>
                </a:lnTo>
                <a:lnTo>
                  <a:pt x="717" y="529"/>
                </a:lnTo>
                <a:lnTo>
                  <a:pt x="720" y="524"/>
                </a:lnTo>
                <a:lnTo>
                  <a:pt x="723" y="521"/>
                </a:lnTo>
                <a:lnTo>
                  <a:pt x="726" y="518"/>
                </a:lnTo>
                <a:lnTo>
                  <a:pt x="728" y="515"/>
                </a:lnTo>
                <a:lnTo>
                  <a:pt x="731" y="511"/>
                </a:lnTo>
                <a:lnTo>
                  <a:pt x="734" y="508"/>
                </a:lnTo>
                <a:lnTo>
                  <a:pt x="737" y="503"/>
                </a:lnTo>
                <a:lnTo>
                  <a:pt x="740" y="500"/>
                </a:lnTo>
                <a:lnTo>
                  <a:pt x="741" y="497"/>
                </a:lnTo>
                <a:lnTo>
                  <a:pt x="744" y="494"/>
                </a:lnTo>
                <a:lnTo>
                  <a:pt x="747" y="490"/>
                </a:lnTo>
                <a:lnTo>
                  <a:pt x="750" y="487"/>
                </a:lnTo>
                <a:lnTo>
                  <a:pt x="753" y="484"/>
                </a:lnTo>
                <a:lnTo>
                  <a:pt x="756" y="481"/>
                </a:lnTo>
                <a:lnTo>
                  <a:pt x="757" y="478"/>
                </a:lnTo>
                <a:lnTo>
                  <a:pt x="760" y="473"/>
                </a:lnTo>
                <a:lnTo>
                  <a:pt x="763" y="470"/>
                </a:lnTo>
                <a:lnTo>
                  <a:pt x="766" y="467"/>
                </a:lnTo>
                <a:lnTo>
                  <a:pt x="769" y="464"/>
                </a:lnTo>
                <a:lnTo>
                  <a:pt x="772" y="460"/>
                </a:lnTo>
                <a:lnTo>
                  <a:pt x="774" y="457"/>
                </a:lnTo>
                <a:lnTo>
                  <a:pt x="777" y="454"/>
                </a:lnTo>
                <a:lnTo>
                  <a:pt x="780" y="451"/>
                </a:lnTo>
                <a:lnTo>
                  <a:pt x="783" y="446"/>
                </a:lnTo>
                <a:lnTo>
                  <a:pt x="786" y="443"/>
                </a:lnTo>
                <a:lnTo>
                  <a:pt x="787" y="440"/>
                </a:lnTo>
                <a:lnTo>
                  <a:pt x="790" y="437"/>
                </a:lnTo>
                <a:lnTo>
                  <a:pt x="793" y="434"/>
                </a:lnTo>
                <a:lnTo>
                  <a:pt x="796" y="431"/>
                </a:lnTo>
                <a:lnTo>
                  <a:pt x="799" y="427"/>
                </a:lnTo>
                <a:lnTo>
                  <a:pt x="802" y="424"/>
                </a:lnTo>
                <a:lnTo>
                  <a:pt x="804" y="421"/>
                </a:lnTo>
                <a:lnTo>
                  <a:pt x="807" y="418"/>
                </a:lnTo>
                <a:lnTo>
                  <a:pt x="810" y="415"/>
                </a:lnTo>
                <a:lnTo>
                  <a:pt x="813" y="412"/>
                </a:lnTo>
                <a:lnTo>
                  <a:pt x="816" y="409"/>
                </a:lnTo>
                <a:lnTo>
                  <a:pt x="819" y="406"/>
                </a:lnTo>
                <a:lnTo>
                  <a:pt x="820" y="401"/>
                </a:lnTo>
                <a:lnTo>
                  <a:pt x="823" y="398"/>
                </a:lnTo>
                <a:lnTo>
                  <a:pt x="826" y="395"/>
                </a:lnTo>
                <a:lnTo>
                  <a:pt x="829" y="392"/>
                </a:lnTo>
                <a:lnTo>
                  <a:pt x="832" y="389"/>
                </a:lnTo>
                <a:lnTo>
                  <a:pt x="835" y="386"/>
                </a:lnTo>
                <a:lnTo>
                  <a:pt x="838" y="383"/>
                </a:lnTo>
                <a:lnTo>
                  <a:pt x="840" y="380"/>
                </a:lnTo>
                <a:lnTo>
                  <a:pt x="843" y="377"/>
                </a:lnTo>
                <a:lnTo>
                  <a:pt x="846" y="374"/>
                </a:lnTo>
                <a:lnTo>
                  <a:pt x="849" y="371"/>
                </a:lnTo>
                <a:lnTo>
                  <a:pt x="850" y="368"/>
                </a:lnTo>
                <a:lnTo>
                  <a:pt x="853" y="365"/>
                </a:lnTo>
                <a:lnTo>
                  <a:pt x="856" y="363"/>
                </a:lnTo>
                <a:lnTo>
                  <a:pt x="859" y="360"/>
                </a:lnTo>
                <a:lnTo>
                  <a:pt x="862" y="357"/>
                </a:lnTo>
                <a:lnTo>
                  <a:pt x="865" y="354"/>
                </a:lnTo>
                <a:lnTo>
                  <a:pt x="868" y="351"/>
                </a:lnTo>
                <a:lnTo>
                  <a:pt x="869" y="348"/>
                </a:lnTo>
                <a:lnTo>
                  <a:pt x="872" y="345"/>
                </a:lnTo>
                <a:lnTo>
                  <a:pt x="875" y="342"/>
                </a:lnTo>
                <a:lnTo>
                  <a:pt x="878" y="339"/>
                </a:lnTo>
                <a:lnTo>
                  <a:pt x="881" y="336"/>
                </a:lnTo>
                <a:lnTo>
                  <a:pt x="884" y="333"/>
                </a:lnTo>
                <a:lnTo>
                  <a:pt x="886" y="330"/>
                </a:lnTo>
                <a:lnTo>
                  <a:pt x="889" y="327"/>
                </a:lnTo>
                <a:lnTo>
                  <a:pt x="892" y="324"/>
                </a:lnTo>
                <a:lnTo>
                  <a:pt x="895" y="321"/>
                </a:lnTo>
                <a:lnTo>
                  <a:pt x="898" y="318"/>
                </a:lnTo>
                <a:lnTo>
                  <a:pt x="901" y="315"/>
                </a:lnTo>
                <a:lnTo>
                  <a:pt x="904" y="313"/>
                </a:lnTo>
                <a:lnTo>
                  <a:pt x="905" y="310"/>
                </a:lnTo>
                <a:lnTo>
                  <a:pt x="908" y="307"/>
                </a:lnTo>
                <a:lnTo>
                  <a:pt x="911" y="304"/>
                </a:lnTo>
                <a:lnTo>
                  <a:pt x="914" y="301"/>
                </a:lnTo>
                <a:lnTo>
                  <a:pt x="917" y="298"/>
                </a:lnTo>
                <a:lnTo>
                  <a:pt x="920" y="295"/>
                </a:lnTo>
                <a:lnTo>
                  <a:pt x="922" y="294"/>
                </a:lnTo>
                <a:lnTo>
                  <a:pt x="925" y="291"/>
                </a:lnTo>
                <a:lnTo>
                  <a:pt x="928" y="288"/>
                </a:lnTo>
                <a:lnTo>
                  <a:pt x="931" y="285"/>
                </a:lnTo>
                <a:lnTo>
                  <a:pt x="934" y="282"/>
                </a:lnTo>
                <a:lnTo>
                  <a:pt x="935" y="279"/>
                </a:lnTo>
                <a:lnTo>
                  <a:pt x="938" y="27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3665520" y="2532240"/>
            <a:ext cx="844560" cy="728640"/>
          </a:xfrm>
          <a:custGeom>
            <a:avLst/>
            <a:gdLst/>
            <a:ahLst/>
            <a:rect l="l" t="t" r="r" b="b"/>
            <a:pathLst>
              <a:path w="435" h="321">
                <a:moveTo>
                  <a:pt x="0" y="321"/>
                </a:moveTo>
                <a:lnTo>
                  <a:pt x="3" y="319"/>
                </a:lnTo>
                <a:lnTo>
                  <a:pt x="6" y="316"/>
                </a:lnTo>
                <a:lnTo>
                  <a:pt x="9" y="313"/>
                </a:lnTo>
                <a:lnTo>
                  <a:pt x="12" y="310"/>
                </a:lnTo>
                <a:lnTo>
                  <a:pt x="14" y="307"/>
                </a:lnTo>
                <a:lnTo>
                  <a:pt x="17" y="306"/>
                </a:lnTo>
                <a:lnTo>
                  <a:pt x="20" y="303"/>
                </a:lnTo>
                <a:lnTo>
                  <a:pt x="23" y="300"/>
                </a:lnTo>
                <a:lnTo>
                  <a:pt x="26" y="297"/>
                </a:lnTo>
                <a:lnTo>
                  <a:pt x="29" y="294"/>
                </a:lnTo>
                <a:lnTo>
                  <a:pt x="32" y="292"/>
                </a:lnTo>
                <a:lnTo>
                  <a:pt x="33" y="289"/>
                </a:lnTo>
                <a:lnTo>
                  <a:pt x="36" y="286"/>
                </a:lnTo>
                <a:lnTo>
                  <a:pt x="39" y="285"/>
                </a:lnTo>
                <a:lnTo>
                  <a:pt x="42" y="282"/>
                </a:lnTo>
                <a:lnTo>
                  <a:pt x="45" y="279"/>
                </a:lnTo>
                <a:lnTo>
                  <a:pt x="48" y="276"/>
                </a:lnTo>
                <a:lnTo>
                  <a:pt x="49" y="274"/>
                </a:lnTo>
                <a:lnTo>
                  <a:pt x="52" y="271"/>
                </a:lnTo>
                <a:lnTo>
                  <a:pt x="55" y="268"/>
                </a:lnTo>
                <a:lnTo>
                  <a:pt x="58" y="267"/>
                </a:lnTo>
                <a:lnTo>
                  <a:pt x="61" y="264"/>
                </a:lnTo>
                <a:lnTo>
                  <a:pt x="63" y="261"/>
                </a:lnTo>
                <a:lnTo>
                  <a:pt x="66" y="258"/>
                </a:lnTo>
                <a:lnTo>
                  <a:pt x="69" y="256"/>
                </a:lnTo>
                <a:lnTo>
                  <a:pt x="72" y="253"/>
                </a:lnTo>
                <a:lnTo>
                  <a:pt x="75" y="250"/>
                </a:lnTo>
                <a:lnTo>
                  <a:pt x="78" y="249"/>
                </a:lnTo>
                <a:lnTo>
                  <a:pt x="79" y="246"/>
                </a:lnTo>
                <a:lnTo>
                  <a:pt x="82" y="243"/>
                </a:lnTo>
                <a:lnTo>
                  <a:pt x="85" y="241"/>
                </a:lnTo>
                <a:lnTo>
                  <a:pt x="88" y="238"/>
                </a:lnTo>
                <a:lnTo>
                  <a:pt x="91" y="237"/>
                </a:lnTo>
                <a:lnTo>
                  <a:pt x="94" y="234"/>
                </a:lnTo>
                <a:lnTo>
                  <a:pt x="96" y="231"/>
                </a:lnTo>
                <a:lnTo>
                  <a:pt x="99" y="229"/>
                </a:lnTo>
                <a:lnTo>
                  <a:pt x="102" y="226"/>
                </a:lnTo>
                <a:lnTo>
                  <a:pt x="105" y="223"/>
                </a:lnTo>
                <a:lnTo>
                  <a:pt x="108" y="222"/>
                </a:lnTo>
                <a:lnTo>
                  <a:pt x="109" y="219"/>
                </a:lnTo>
                <a:lnTo>
                  <a:pt x="112" y="217"/>
                </a:lnTo>
                <a:lnTo>
                  <a:pt x="115" y="214"/>
                </a:lnTo>
                <a:lnTo>
                  <a:pt x="118" y="213"/>
                </a:lnTo>
                <a:lnTo>
                  <a:pt x="121" y="210"/>
                </a:lnTo>
                <a:lnTo>
                  <a:pt x="124" y="208"/>
                </a:lnTo>
                <a:lnTo>
                  <a:pt x="127" y="205"/>
                </a:lnTo>
                <a:lnTo>
                  <a:pt x="129" y="204"/>
                </a:lnTo>
                <a:lnTo>
                  <a:pt x="132" y="201"/>
                </a:lnTo>
                <a:lnTo>
                  <a:pt x="135" y="198"/>
                </a:lnTo>
                <a:lnTo>
                  <a:pt x="138" y="196"/>
                </a:lnTo>
                <a:lnTo>
                  <a:pt x="141" y="195"/>
                </a:lnTo>
                <a:lnTo>
                  <a:pt x="144" y="192"/>
                </a:lnTo>
                <a:lnTo>
                  <a:pt x="145" y="190"/>
                </a:lnTo>
                <a:lnTo>
                  <a:pt x="148" y="187"/>
                </a:lnTo>
                <a:lnTo>
                  <a:pt x="151" y="186"/>
                </a:lnTo>
                <a:lnTo>
                  <a:pt x="154" y="183"/>
                </a:lnTo>
                <a:lnTo>
                  <a:pt x="157" y="181"/>
                </a:lnTo>
                <a:lnTo>
                  <a:pt x="159" y="178"/>
                </a:lnTo>
                <a:lnTo>
                  <a:pt x="161" y="177"/>
                </a:lnTo>
                <a:lnTo>
                  <a:pt x="164" y="174"/>
                </a:lnTo>
                <a:lnTo>
                  <a:pt x="167" y="172"/>
                </a:lnTo>
                <a:lnTo>
                  <a:pt x="170" y="171"/>
                </a:lnTo>
                <a:lnTo>
                  <a:pt x="173" y="168"/>
                </a:lnTo>
                <a:lnTo>
                  <a:pt x="175" y="166"/>
                </a:lnTo>
                <a:lnTo>
                  <a:pt x="178" y="164"/>
                </a:lnTo>
                <a:lnTo>
                  <a:pt x="181" y="162"/>
                </a:lnTo>
                <a:lnTo>
                  <a:pt x="184" y="161"/>
                </a:lnTo>
                <a:lnTo>
                  <a:pt x="187" y="158"/>
                </a:lnTo>
                <a:lnTo>
                  <a:pt x="190" y="156"/>
                </a:lnTo>
                <a:lnTo>
                  <a:pt x="193" y="155"/>
                </a:lnTo>
                <a:lnTo>
                  <a:pt x="194" y="152"/>
                </a:lnTo>
                <a:lnTo>
                  <a:pt x="197" y="150"/>
                </a:lnTo>
                <a:lnTo>
                  <a:pt x="200" y="147"/>
                </a:lnTo>
                <a:lnTo>
                  <a:pt x="203" y="146"/>
                </a:lnTo>
                <a:lnTo>
                  <a:pt x="206" y="143"/>
                </a:lnTo>
                <a:lnTo>
                  <a:pt x="209" y="141"/>
                </a:lnTo>
                <a:lnTo>
                  <a:pt x="211" y="140"/>
                </a:lnTo>
                <a:lnTo>
                  <a:pt x="214" y="137"/>
                </a:lnTo>
                <a:lnTo>
                  <a:pt x="217" y="135"/>
                </a:lnTo>
                <a:lnTo>
                  <a:pt x="220" y="134"/>
                </a:lnTo>
                <a:lnTo>
                  <a:pt x="223" y="131"/>
                </a:lnTo>
                <a:lnTo>
                  <a:pt x="224" y="129"/>
                </a:lnTo>
                <a:lnTo>
                  <a:pt x="227" y="128"/>
                </a:lnTo>
                <a:lnTo>
                  <a:pt x="230" y="126"/>
                </a:lnTo>
                <a:lnTo>
                  <a:pt x="233" y="123"/>
                </a:lnTo>
                <a:lnTo>
                  <a:pt x="236" y="122"/>
                </a:lnTo>
                <a:lnTo>
                  <a:pt x="239" y="120"/>
                </a:lnTo>
                <a:lnTo>
                  <a:pt x="241" y="117"/>
                </a:lnTo>
                <a:lnTo>
                  <a:pt x="244" y="116"/>
                </a:lnTo>
                <a:lnTo>
                  <a:pt x="247" y="114"/>
                </a:lnTo>
                <a:lnTo>
                  <a:pt x="250" y="111"/>
                </a:lnTo>
                <a:lnTo>
                  <a:pt x="253" y="110"/>
                </a:lnTo>
                <a:lnTo>
                  <a:pt x="256" y="108"/>
                </a:lnTo>
                <a:lnTo>
                  <a:pt x="259" y="107"/>
                </a:lnTo>
                <a:lnTo>
                  <a:pt x="260" y="104"/>
                </a:lnTo>
                <a:lnTo>
                  <a:pt x="263" y="102"/>
                </a:lnTo>
                <a:lnTo>
                  <a:pt x="266" y="101"/>
                </a:lnTo>
                <a:lnTo>
                  <a:pt x="269" y="99"/>
                </a:lnTo>
                <a:lnTo>
                  <a:pt x="271" y="96"/>
                </a:lnTo>
                <a:lnTo>
                  <a:pt x="274" y="95"/>
                </a:lnTo>
                <a:lnTo>
                  <a:pt x="277" y="93"/>
                </a:lnTo>
                <a:lnTo>
                  <a:pt x="279" y="92"/>
                </a:lnTo>
                <a:lnTo>
                  <a:pt x="282" y="90"/>
                </a:lnTo>
                <a:lnTo>
                  <a:pt x="285" y="87"/>
                </a:lnTo>
                <a:lnTo>
                  <a:pt x="288" y="86"/>
                </a:lnTo>
                <a:lnTo>
                  <a:pt x="290" y="84"/>
                </a:lnTo>
                <a:lnTo>
                  <a:pt x="293" y="83"/>
                </a:lnTo>
                <a:lnTo>
                  <a:pt x="296" y="81"/>
                </a:lnTo>
                <a:lnTo>
                  <a:pt x="299" y="78"/>
                </a:lnTo>
                <a:lnTo>
                  <a:pt x="302" y="77"/>
                </a:lnTo>
                <a:lnTo>
                  <a:pt x="305" y="75"/>
                </a:lnTo>
                <a:lnTo>
                  <a:pt x="306" y="74"/>
                </a:lnTo>
                <a:lnTo>
                  <a:pt x="309" y="72"/>
                </a:lnTo>
                <a:lnTo>
                  <a:pt x="312" y="71"/>
                </a:lnTo>
                <a:lnTo>
                  <a:pt x="315" y="69"/>
                </a:lnTo>
                <a:lnTo>
                  <a:pt x="318" y="66"/>
                </a:lnTo>
                <a:lnTo>
                  <a:pt x="320" y="65"/>
                </a:lnTo>
                <a:lnTo>
                  <a:pt x="323" y="63"/>
                </a:lnTo>
                <a:lnTo>
                  <a:pt x="326" y="62"/>
                </a:lnTo>
                <a:lnTo>
                  <a:pt x="329" y="60"/>
                </a:lnTo>
                <a:lnTo>
                  <a:pt x="332" y="59"/>
                </a:lnTo>
                <a:lnTo>
                  <a:pt x="335" y="57"/>
                </a:lnTo>
                <a:lnTo>
                  <a:pt x="336" y="56"/>
                </a:lnTo>
                <a:lnTo>
                  <a:pt x="339" y="53"/>
                </a:lnTo>
                <a:lnTo>
                  <a:pt x="342" y="53"/>
                </a:lnTo>
                <a:lnTo>
                  <a:pt x="345" y="50"/>
                </a:lnTo>
                <a:lnTo>
                  <a:pt x="348" y="48"/>
                </a:lnTo>
                <a:lnTo>
                  <a:pt x="351" y="47"/>
                </a:lnTo>
                <a:lnTo>
                  <a:pt x="354" y="45"/>
                </a:lnTo>
                <a:lnTo>
                  <a:pt x="356" y="44"/>
                </a:lnTo>
                <a:lnTo>
                  <a:pt x="359" y="42"/>
                </a:lnTo>
                <a:lnTo>
                  <a:pt x="362" y="41"/>
                </a:lnTo>
                <a:lnTo>
                  <a:pt x="365" y="39"/>
                </a:lnTo>
                <a:lnTo>
                  <a:pt x="368" y="38"/>
                </a:lnTo>
                <a:lnTo>
                  <a:pt x="371" y="36"/>
                </a:lnTo>
                <a:lnTo>
                  <a:pt x="372" y="35"/>
                </a:lnTo>
                <a:lnTo>
                  <a:pt x="375" y="33"/>
                </a:lnTo>
                <a:lnTo>
                  <a:pt x="378" y="32"/>
                </a:lnTo>
                <a:lnTo>
                  <a:pt x="381" y="30"/>
                </a:lnTo>
                <a:lnTo>
                  <a:pt x="383" y="27"/>
                </a:lnTo>
                <a:lnTo>
                  <a:pt x="386" y="27"/>
                </a:lnTo>
                <a:lnTo>
                  <a:pt x="389" y="26"/>
                </a:lnTo>
                <a:lnTo>
                  <a:pt x="392" y="23"/>
                </a:lnTo>
                <a:lnTo>
                  <a:pt x="395" y="21"/>
                </a:lnTo>
                <a:lnTo>
                  <a:pt x="397" y="21"/>
                </a:lnTo>
                <a:lnTo>
                  <a:pt x="400" y="18"/>
                </a:lnTo>
                <a:lnTo>
                  <a:pt x="402" y="17"/>
                </a:lnTo>
                <a:lnTo>
                  <a:pt x="405" y="15"/>
                </a:lnTo>
                <a:lnTo>
                  <a:pt x="408" y="14"/>
                </a:lnTo>
                <a:lnTo>
                  <a:pt x="411" y="14"/>
                </a:lnTo>
                <a:lnTo>
                  <a:pt x="414" y="11"/>
                </a:lnTo>
                <a:lnTo>
                  <a:pt x="417" y="9"/>
                </a:lnTo>
                <a:lnTo>
                  <a:pt x="418" y="8"/>
                </a:lnTo>
                <a:lnTo>
                  <a:pt x="421" y="8"/>
                </a:lnTo>
                <a:lnTo>
                  <a:pt x="424" y="6"/>
                </a:lnTo>
                <a:lnTo>
                  <a:pt x="427" y="3"/>
                </a:lnTo>
                <a:lnTo>
                  <a:pt x="430" y="2"/>
                </a:lnTo>
                <a:lnTo>
                  <a:pt x="432" y="2"/>
                </a:lnTo>
                <a:lnTo>
                  <a:pt x="43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1989000" y="2693880"/>
            <a:ext cx="1676520" cy="2170080"/>
          </a:xfrm>
          <a:custGeom>
            <a:avLst/>
            <a:gdLst/>
            <a:ahLst/>
            <a:rect l="l" t="t" r="r" b="b"/>
            <a:pathLst>
              <a:path w="863" h="956">
                <a:moveTo>
                  <a:pt x="0" y="0"/>
                </a:moveTo>
                <a:lnTo>
                  <a:pt x="3" y="24"/>
                </a:lnTo>
                <a:lnTo>
                  <a:pt x="6" y="46"/>
                </a:lnTo>
                <a:lnTo>
                  <a:pt x="7" y="70"/>
                </a:lnTo>
                <a:lnTo>
                  <a:pt x="10" y="93"/>
                </a:lnTo>
                <a:lnTo>
                  <a:pt x="13" y="115"/>
                </a:lnTo>
                <a:lnTo>
                  <a:pt x="16" y="136"/>
                </a:lnTo>
                <a:lnTo>
                  <a:pt x="19" y="157"/>
                </a:lnTo>
                <a:lnTo>
                  <a:pt x="22" y="178"/>
                </a:lnTo>
                <a:lnTo>
                  <a:pt x="25" y="199"/>
                </a:lnTo>
                <a:lnTo>
                  <a:pt x="27" y="218"/>
                </a:lnTo>
                <a:lnTo>
                  <a:pt x="30" y="238"/>
                </a:lnTo>
                <a:lnTo>
                  <a:pt x="33" y="257"/>
                </a:lnTo>
                <a:lnTo>
                  <a:pt x="36" y="277"/>
                </a:lnTo>
                <a:lnTo>
                  <a:pt x="37" y="295"/>
                </a:lnTo>
                <a:lnTo>
                  <a:pt x="40" y="313"/>
                </a:lnTo>
                <a:lnTo>
                  <a:pt x="43" y="331"/>
                </a:lnTo>
                <a:lnTo>
                  <a:pt x="46" y="348"/>
                </a:lnTo>
                <a:lnTo>
                  <a:pt x="49" y="365"/>
                </a:lnTo>
                <a:lnTo>
                  <a:pt x="52" y="383"/>
                </a:lnTo>
                <a:lnTo>
                  <a:pt x="55" y="399"/>
                </a:lnTo>
                <a:lnTo>
                  <a:pt x="57" y="414"/>
                </a:lnTo>
                <a:lnTo>
                  <a:pt x="60" y="431"/>
                </a:lnTo>
                <a:lnTo>
                  <a:pt x="63" y="446"/>
                </a:lnTo>
                <a:lnTo>
                  <a:pt x="66" y="461"/>
                </a:lnTo>
                <a:lnTo>
                  <a:pt x="69" y="476"/>
                </a:lnTo>
                <a:lnTo>
                  <a:pt x="72" y="491"/>
                </a:lnTo>
                <a:lnTo>
                  <a:pt x="73" y="504"/>
                </a:lnTo>
                <a:lnTo>
                  <a:pt x="76" y="519"/>
                </a:lnTo>
                <a:lnTo>
                  <a:pt x="79" y="533"/>
                </a:lnTo>
                <a:lnTo>
                  <a:pt x="82" y="546"/>
                </a:lnTo>
                <a:lnTo>
                  <a:pt x="85" y="560"/>
                </a:lnTo>
                <a:lnTo>
                  <a:pt x="88" y="572"/>
                </a:lnTo>
                <a:lnTo>
                  <a:pt x="91" y="583"/>
                </a:lnTo>
                <a:lnTo>
                  <a:pt x="92" y="597"/>
                </a:lnTo>
                <a:lnTo>
                  <a:pt x="95" y="609"/>
                </a:lnTo>
                <a:lnTo>
                  <a:pt x="98" y="619"/>
                </a:lnTo>
                <a:lnTo>
                  <a:pt x="101" y="631"/>
                </a:lnTo>
                <a:lnTo>
                  <a:pt x="103" y="642"/>
                </a:lnTo>
                <a:lnTo>
                  <a:pt x="106" y="654"/>
                </a:lnTo>
                <a:lnTo>
                  <a:pt x="109" y="664"/>
                </a:lnTo>
                <a:lnTo>
                  <a:pt x="112" y="675"/>
                </a:lnTo>
                <a:lnTo>
                  <a:pt x="115" y="684"/>
                </a:lnTo>
                <a:lnTo>
                  <a:pt x="118" y="694"/>
                </a:lnTo>
                <a:lnTo>
                  <a:pt x="121" y="703"/>
                </a:lnTo>
                <a:lnTo>
                  <a:pt x="122" y="714"/>
                </a:lnTo>
                <a:lnTo>
                  <a:pt x="125" y="723"/>
                </a:lnTo>
                <a:lnTo>
                  <a:pt x="128" y="732"/>
                </a:lnTo>
                <a:lnTo>
                  <a:pt x="131" y="741"/>
                </a:lnTo>
                <a:lnTo>
                  <a:pt x="134" y="748"/>
                </a:lnTo>
                <a:lnTo>
                  <a:pt x="137" y="757"/>
                </a:lnTo>
                <a:lnTo>
                  <a:pt x="139" y="765"/>
                </a:lnTo>
                <a:lnTo>
                  <a:pt x="142" y="772"/>
                </a:lnTo>
                <a:lnTo>
                  <a:pt x="145" y="781"/>
                </a:lnTo>
                <a:lnTo>
                  <a:pt x="148" y="789"/>
                </a:lnTo>
                <a:lnTo>
                  <a:pt x="151" y="795"/>
                </a:lnTo>
                <a:lnTo>
                  <a:pt x="152" y="802"/>
                </a:lnTo>
                <a:lnTo>
                  <a:pt x="155" y="808"/>
                </a:lnTo>
                <a:lnTo>
                  <a:pt x="158" y="816"/>
                </a:lnTo>
                <a:lnTo>
                  <a:pt x="161" y="822"/>
                </a:lnTo>
                <a:lnTo>
                  <a:pt x="164" y="827"/>
                </a:lnTo>
                <a:lnTo>
                  <a:pt x="167" y="833"/>
                </a:lnTo>
                <a:lnTo>
                  <a:pt x="169" y="839"/>
                </a:lnTo>
                <a:lnTo>
                  <a:pt x="172" y="845"/>
                </a:lnTo>
                <a:lnTo>
                  <a:pt x="175" y="851"/>
                </a:lnTo>
                <a:lnTo>
                  <a:pt x="178" y="857"/>
                </a:lnTo>
                <a:lnTo>
                  <a:pt x="181" y="862"/>
                </a:lnTo>
                <a:lnTo>
                  <a:pt x="184" y="866"/>
                </a:lnTo>
                <a:lnTo>
                  <a:pt x="187" y="871"/>
                </a:lnTo>
                <a:lnTo>
                  <a:pt x="188" y="877"/>
                </a:lnTo>
                <a:lnTo>
                  <a:pt x="191" y="881"/>
                </a:lnTo>
                <a:lnTo>
                  <a:pt x="194" y="886"/>
                </a:lnTo>
                <a:lnTo>
                  <a:pt x="197" y="890"/>
                </a:lnTo>
                <a:lnTo>
                  <a:pt x="199" y="893"/>
                </a:lnTo>
                <a:lnTo>
                  <a:pt x="202" y="898"/>
                </a:lnTo>
                <a:lnTo>
                  <a:pt x="204" y="901"/>
                </a:lnTo>
                <a:lnTo>
                  <a:pt x="207" y="905"/>
                </a:lnTo>
                <a:lnTo>
                  <a:pt x="210" y="908"/>
                </a:lnTo>
                <a:lnTo>
                  <a:pt x="213" y="911"/>
                </a:lnTo>
                <a:lnTo>
                  <a:pt x="216" y="916"/>
                </a:lnTo>
                <a:lnTo>
                  <a:pt x="218" y="919"/>
                </a:lnTo>
                <a:lnTo>
                  <a:pt x="221" y="922"/>
                </a:lnTo>
                <a:lnTo>
                  <a:pt x="224" y="923"/>
                </a:lnTo>
                <a:lnTo>
                  <a:pt x="227" y="926"/>
                </a:lnTo>
                <a:lnTo>
                  <a:pt x="230" y="929"/>
                </a:lnTo>
                <a:lnTo>
                  <a:pt x="233" y="931"/>
                </a:lnTo>
                <a:lnTo>
                  <a:pt x="234" y="934"/>
                </a:lnTo>
                <a:lnTo>
                  <a:pt x="237" y="935"/>
                </a:lnTo>
                <a:lnTo>
                  <a:pt x="240" y="938"/>
                </a:lnTo>
                <a:lnTo>
                  <a:pt x="243" y="940"/>
                </a:lnTo>
                <a:lnTo>
                  <a:pt x="246" y="941"/>
                </a:lnTo>
                <a:lnTo>
                  <a:pt x="249" y="943"/>
                </a:lnTo>
                <a:lnTo>
                  <a:pt x="252" y="946"/>
                </a:lnTo>
                <a:lnTo>
                  <a:pt x="254" y="947"/>
                </a:lnTo>
                <a:lnTo>
                  <a:pt x="257" y="947"/>
                </a:lnTo>
                <a:lnTo>
                  <a:pt x="260" y="949"/>
                </a:lnTo>
                <a:lnTo>
                  <a:pt x="263" y="950"/>
                </a:lnTo>
                <a:lnTo>
                  <a:pt x="264" y="952"/>
                </a:lnTo>
                <a:lnTo>
                  <a:pt x="267" y="953"/>
                </a:lnTo>
                <a:lnTo>
                  <a:pt x="270" y="953"/>
                </a:lnTo>
                <a:lnTo>
                  <a:pt x="273" y="955"/>
                </a:lnTo>
                <a:lnTo>
                  <a:pt x="276" y="955"/>
                </a:lnTo>
                <a:lnTo>
                  <a:pt x="279" y="955"/>
                </a:lnTo>
                <a:lnTo>
                  <a:pt x="282" y="956"/>
                </a:lnTo>
                <a:lnTo>
                  <a:pt x="284" y="956"/>
                </a:lnTo>
                <a:lnTo>
                  <a:pt x="287" y="956"/>
                </a:lnTo>
                <a:lnTo>
                  <a:pt x="290" y="956"/>
                </a:lnTo>
                <a:lnTo>
                  <a:pt x="293" y="956"/>
                </a:lnTo>
                <a:lnTo>
                  <a:pt x="296" y="956"/>
                </a:lnTo>
                <a:lnTo>
                  <a:pt x="299" y="956"/>
                </a:lnTo>
                <a:lnTo>
                  <a:pt x="300" y="956"/>
                </a:lnTo>
                <a:lnTo>
                  <a:pt x="303" y="956"/>
                </a:lnTo>
                <a:lnTo>
                  <a:pt x="306" y="956"/>
                </a:lnTo>
                <a:lnTo>
                  <a:pt x="309" y="956"/>
                </a:lnTo>
                <a:lnTo>
                  <a:pt x="311" y="955"/>
                </a:lnTo>
                <a:lnTo>
                  <a:pt x="314" y="955"/>
                </a:lnTo>
                <a:lnTo>
                  <a:pt x="317" y="955"/>
                </a:lnTo>
                <a:lnTo>
                  <a:pt x="319" y="953"/>
                </a:lnTo>
                <a:lnTo>
                  <a:pt x="322" y="953"/>
                </a:lnTo>
                <a:lnTo>
                  <a:pt x="325" y="952"/>
                </a:lnTo>
                <a:lnTo>
                  <a:pt x="328" y="952"/>
                </a:lnTo>
                <a:lnTo>
                  <a:pt x="330" y="950"/>
                </a:lnTo>
                <a:lnTo>
                  <a:pt x="333" y="949"/>
                </a:lnTo>
                <a:lnTo>
                  <a:pt x="336" y="947"/>
                </a:lnTo>
                <a:lnTo>
                  <a:pt x="339" y="947"/>
                </a:lnTo>
                <a:lnTo>
                  <a:pt x="342" y="946"/>
                </a:lnTo>
                <a:lnTo>
                  <a:pt x="345" y="944"/>
                </a:lnTo>
                <a:lnTo>
                  <a:pt x="346" y="943"/>
                </a:lnTo>
                <a:lnTo>
                  <a:pt x="349" y="941"/>
                </a:lnTo>
                <a:lnTo>
                  <a:pt x="352" y="941"/>
                </a:lnTo>
                <a:lnTo>
                  <a:pt x="355" y="938"/>
                </a:lnTo>
                <a:lnTo>
                  <a:pt x="358" y="937"/>
                </a:lnTo>
                <a:lnTo>
                  <a:pt x="361" y="935"/>
                </a:lnTo>
                <a:lnTo>
                  <a:pt x="363" y="934"/>
                </a:lnTo>
                <a:lnTo>
                  <a:pt x="366" y="932"/>
                </a:lnTo>
                <a:lnTo>
                  <a:pt x="369" y="931"/>
                </a:lnTo>
                <a:lnTo>
                  <a:pt x="372" y="929"/>
                </a:lnTo>
                <a:lnTo>
                  <a:pt x="375" y="928"/>
                </a:lnTo>
                <a:lnTo>
                  <a:pt x="376" y="925"/>
                </a:lnTo>
                <a:lnTo>
                  <a:pt x="379" y="923"/>
                </a:lnTo>
                <a:lnTo>
                  <a:pt x="382" y="922"/>
                </a:lnTo>
                <a:lnTo>
                  <a:pt x="385" y="919"/>
                </a:lnTo>
                <a:lnTo>
                  <a:pt x="388" y="917"/>
                </a:lnTo>
                <a:lnTo>
                  <a:pt x="391" y="914"/>
                </a:lnTo>
                <a:lnTo>
                  <a:pt x="394" y="913"/>
                </a:lnTo>
                <a:lnTo>
                  <a:pt x="396" y="910"/>
                </a:lnTo>
                <a:lnTo>
                  <a:pt x="399" y="908"/>
                </a:lnTo>
                <a:lnTo>
                  <a:pt x="402" y="905"/>
                </a:lnTo>
                <a:lnTo>
                  <a:pt x="405" y="904"/>
                </a:lnTo>
                <a:lnTo>
                  <a:pt x="408" y="901"/>
                </a:lnTo>
                <a:lnTo>
                  <a:pt x="411" y="898"/>
                </a:lnTo>
                <a:lnTo>
                  <a:pt x="412" y="896"/>
                </a:lnTo>
                <a:lnTo>
                  <a:pt x="415" y="893"/>
                </a:lnTo>
                <a:lnTo>
                  <a:pt x="418" y="890"/>
                </a:lnTo>
                <a:lnTo>
                  <a:pt x="421" y="889"/>
                </a:lnTo>
                <a:lnTo>
                  <a:pt x="424" y="886"/>
                </a:lnTo>
                <a:lnTo>
                  <a:pt x="426" y="883"/>
                </a:lnTo>
                <a:lnTo>
                  <a:pt x="429" y="880"/>
                </a:lnTo>
                <a:lnTo>
                  <a:pt x="432" y="878"/>
                </a:lnTo>
                <a:lnTo>
                  <a:pt x="435" y="875"/>
                </a:lnTo>
                <a:lnTo>
                  <a:pt x="437" y="872"/>
                </a:lnTo>
                <a:lnTo>
                  <a:pt x="440" y="869"/>
                </a:lnTo>
                <a:lnTo>
                  <a:pt x="442" y="866"/>
                </a:lnTo>
                <a:lnTo>
                  <a:pt x="445" y="865"/>
                </a:lnTo>
                <a:lnTo>
                  <a:pt x="448" y="860"/>
                </a:lnTo>
                <a:lnTo>
                  <a:pt x="451" y="859"/>
                </a:lnTo>
                <a:lnTo>
                  <a:pt x="454" y="856"/>
                </a:lnTo>
                <a:lnTo>
                  <a:pt x="457" y="853"/>
                </a:lnTo>
                <a:lnTo>
                  <a:pt x="460" y="850"/>
                </a:lnTo>
                <a:lnTo>
                  <a:pt x="461" y="845"/>
                </a:lnTo>
                <a:lnTo>
                  <a:pt x="464" y="844"/>
                </a:lnTo>
                <a:lnTo>
                  <a:pt x="467" y="839"/>
                </a:lnTo>
                <a:lnTo>
                  <a:pt x="470" y="838"/>
                </a:lnTo>
                <a:lnTo>
                  <a:pt x="472" y="833"/>
                </a:lnTo>
                <a:lnTo>
                  <a:pt x="475" y="830"/>
                </a:lnTo>
                <a:lnTo>
                  <a:pt x="478" y="827"/>
                </a:lnTo>
                <a:lnTo>
                  <a:pt x="481" y="825"/>
                </a:lnTo>
                <a:lnTo>
                  <a:pt x="484" y="822"/>
                </a:lnTo>
                <a:lnTo>
                  <a:pt x="487" y="819"/>
                </a:lnTo>
                <a:lnTo>
                  <a:pt x="490" y="816"/>
                </a:lnTo>
                <a:lnTo>
                  <a:pt x="491" y="813"/>
                </a:lnTo>
                <a:lnTo>
                  <a:pt x="494" y="808"/>
                </a:lnTo>
                <a:lnTo>
                  <a:pt x="497" y="805"/>
                </a:lnTo>
                <a:lnTo>
                  <a:pt x="500" y="802"/>
                </a:lnTo>
                <a:lnTo>
                  <a:pt x="503" y="799"/>
                </a:lnTo>
                <a:lnTo>
                  <a:pt x="505" y="796"/>
                </a:lnTo>
                <a:lnTo>
                  <a:pt x="508" y="792"/>
                </a:lnTo>
                <a:lnTo>
                  <a:pt x="511" y="789"/>
                </a:lnTo>
                <a:lnTo>
                  <a:pt x="514" y="786"/>
                </a:lnTo>
                <a:lnTo>
                  <a:pt x="517" y="783"/>
                </a:lnTo>
                <a:lnTo>
                  <a:pt x="520" y="778"/>
                </a:lnTo>
                <a:lnTo>
                  <a:pt x="521" y="775"/>
                </a:lnTo>
                <a:lnTo>
                  <a:pt x="524" y="772"/>
                </a:lnTo>
                <a:lnTo>
                  <a:pt x="527" y="769"/>
                </a:lnTo>
                <a:lnTo>
                  <a:pt x="530" y="765"/>
                </a:lnTo>
                <a:lnTo>
                  <a:pt x="533" y="762"/>
                </a:lnTo>
                <a:lnTo>
                  <a:pt x="536" y="759"/>
                </a:lnTo>
                <a:lnTo>
                  <a:pt x="538" y="754"/>
                </a:lnTo>
                <a:lnTo>
                  <a:pt x="541" y="751"/>
                </a:lnTo>
                <a:lnTo>
                  <a:pt x="544" y="748"/>
                </a:lnTo>
                <a:lnTo>
                  <a:pt x="547" y="744"/>
                </a:lnTo>
                <a:lnTo>
                  <a:pt x="550" y="741"/>
                </a:lnTo>
                <a:lnTo>
                  <a:pt x="551" y="738"/>
                </a:lnTo>
                <a:lnTo>
                  <a:pt x="554" y="733"/>
                </a:lnTo>
                <a:lnTo>
                  <a:pt x="557" y="730"/>
                </a:lnTo>
                <a:lnTo>
                  <a:pt x="560" y="727"/>
                </a:lnTo>
                <a:lnTo>
                  <a:pt x="563" y="724"/>
                </a:lnTo>
                <a:lnTo>
                  <a:pt x="566" y="720"/>
                </a:lnTo>
                <a:lnTo>
                  <a:pt x="567" y="717"/>
                </a:lnTo>
                <a:lnTo>
                  <a:pt x="570" y="712"/>
                </a:lnTo>
                <a:lnTo>
                  <a:pt x="573" y="709"/>
                </a:lnTo>
                <a:lnTo>
                  <a:pt x="576" y="706"/>
                </a:lnTo>
                <a:lnTo>
                  <a:pt x="579" y="702"/>
                </a:lnTo>
                <a:lnTo>
                  <a:pt x="582" y="699"/>
                </a:lnTo>
                <a:lnTo>
                  <a:pt x="585" y="696"/>
                </a:lnTo>
                <a:lnTo>
                  <a:pt x="587" y="691"/>
                </a:lnTo>
                <a:lnTo>
                  <a:pt x="590" y="688"/>
                </a:lnTo>
                <a:lnTo>
                  <a:pt x="593" y="685"/>
                </a:lnTo>
                <a:lnTo>
                  <a:pt x="596" y="681"/>
                </a:lnTo>
                <a:lnTo>
                  <a:pt x="599" y="678"/>
                </a:lnTo>
                <a:lnTo>
                  <a:pt x="602" y="675"/>
                </a:lnTo>
                <a:lnTo>
                  <a:pt x="603" y="670"/>
                </a:lnTo>
                <a:lnTo>
                  <a:pt x="606" y="667"/>
                </a:lnTo>
                <a:lnTo>
                  <a:pt x="609" y="663"/>
                </a:lnTo>
                <a:lnTo>
                  <a:pt x="612" y="660"/>
                </a:lnTo>
                <a:lnTo>
                  <a:pt x="615" y="655"/>
                </a:lnTo>
                <a:lnTo>
                  <a:pt x="617" y="652"/>
                </a:lnTo>
                <a:lnTo>
                  <a:pt x="620" y="649"/>
                </a:lnTo>
                <a:lnTo>
                  <a:pt x="623" y="645"/>
                </a:lnTo>
                <a:lnTo>
                  <a:pt x="626" y="642"/>
                </a:lnTo>
                <a:lnTo>
                  <a:pt x="629" y="639"/>
                </a:lnTo>
                <a:lnTo>
                  <a:pt x="632" y="634"/>
                </a:lnTo>
                <a:lnTo>
                  <a:pt x="633" y="631"/>
                </a:lnTo>
                <a:lnTo>
                  <a:pt x="636" y="628"/>
                </a:lnTo>
                <a:lnTo>
                  <a:pt x="639" y="624"/>
                </a:lnTo>
                <a:lnTo>
                  <a:pt x="642" y="621"/>
                </a:lnTo>
                <a:lnTo>
                  <a:pt x="645" y="616"/>
                </a:lnTo>
                <a:lnTo>
                  <a:pt x="648" y="613"/>
                </a:lnTo>
                <a:lnTo>
                  <a:pt x="651" y="610"/>
                </a:lnTo>
                <a:lnTo>
                  <a:pt x="653" y="606"/>
                </a:lnTo>
                <a:lnTo>
                  <a:pt x="656" y="603"/>
                </a:lnTo>
                <a:lnTo>
                  <a:pt x="659" y="600"/>
                </a:lnTo>
                <a:lnTo>
                  <a:pt x="662" y="595"/>
                </a:lnTo>
                <a:lnTo>
                  <a:pt x="665" y="592"/>
                </a:lnTo>
                <a:lnTo>
                  <a:pt x="666" y="589"/>
                </a:lnTo>
                <a:lnTo>
                  <a:pt x="669" y="585"/>
                </a:lnTo>
                <a:lnTo>
                  <a:pt x="672" y="582"/>
                </a:lnTo>
                <a:lnTo>
                  <a:pt x="675" y="579"/>
                </a:lnTo>
                <a:lnTo>
                  <a:pt x="678" y="575"/>
                </a:lnTo>
                <a:lnTo>
                  <a:pt x="681" y="572"/>
                </a:lnTo>
                <a:lnTo>
                  <a:pt x="682" y="567"/>
                </a:lnTo>
                <a:lnTo>
                  <a:pt x="685" y="564"/>
                </a:lnTo>
                <a:lnTo>
                  <a:pt x="688" y="561"/>
                </a:lnTo>
                <a:lnTo>
                  <a:pt x="691" y="557"/>
                </a:lnTo>
                <a:lnTo>
                  <a:pt x="694" y="554"/>
                </a:lnTo>
                <a:lnTo>
                  <a:pt x="697" y="551"/>
                </a:lnTo>
                <a:lnTo>
                  <a:pt x="699" y="548"/>
                </a:lnTo>
                <a:lnTo>
                  <a:pt x="702" y="543"/>
                </a:lnTo>
                <a:lnTo>
                  <a:pt x="705" y="540"/>
                </a:lnTo>
                <a:lnTo>
                  <a:pt x="708" y="536"/>
                </a:lnTo>
                <a:lnTo>
                  <a:pt x="711" y="533"/>
                </a:lnTo>
                <a:lnTo>
                  <a:pt x="712" y="530"/>
                </a:lnTo>
                <a:lnTo>
                  <a:pt x="715" y="527"/>
                </a:lnTo>
                <a:lnTo>
                  <a:pt x="718" y="522"/>
                </a:lnTo>
                <a:lnTo>
                  <a:pt x="721" y="519"/>
                </a:lnTo>
                <a:lnTo>
                  <a:pt x="724" y="516"/>
                </a:lnTo>
                <a:lnTo>
                  <a:pt x="727" y="512"/>
                </a:lnTo>
                <a:lnTo>
                  <a:pt x="729" y="509"/>
                </a:lnTo>
                <a:lnTo>
                  <a:pt x="732" y="506"/>
                </a:lnTo>
                <a:lnTo>
                  <a:pt x="735" y="503"/>
                </a:lnTo>
                <a:lnTo>
                  <a:pt x="738" y="498"/>
                </a:lnTo>
                <a:lnTo>
                  <a:pt x="741" y="495"/>
                </a:lnTo>
                <a:lnTo>
                  <a:pt x="744" y="492"/>
                </a:lnTo>
                <a:lnTo>
                  <a:pt x="745" y="488"/>
                </a:lnTo>
                <a:lnTo>
                  <a:pt x="748" y="485"/>
                </a:lnTo>
                <a:lnTo>
                  <a:pt x="751" y="482"/>
                </a:lnTo>
                <a:lnTo>
                  <a:pt x="754" y="477"/>
                </a:lnTo>
                <a:lnTo>
                  <a:pt x="757" y="474"/>
                </a:lnTo>
                <a:lnTo>
                  <a:pt x="760" y="471"/>
                </a:lnTo>
                <a:lnTo>
                  <a:pt x="763" y="468"/>
                </a:lnTo>
                <a:lnTo>
                  <a:pt x="765" y="465"/>
                </a:lnTo>
                <a:lnTo>
                  <a:pt x="768" y="461"/>
                </a:lnTo>
                <a:lnTo>
                  <a:pt x="771" y="458"/>
                </a:lnTo>
                <a:lnTo>
                  <a:pt x="774" y="455"/>
                </a:lnTo>
                <a:lnTo>
                  <a:pt x="775" y="452"/>
                </a:lnTo>
                <a:lnTo>
                  <a:pt x="778" y="449"/>
                </a:lnTo>
                <a:lnTo>
                  <a:pt x="781" y="446"/>
                </a:lnTo>
                <a:lnTo>
                  <a:pt x="784" y="441"/>
                </a:lnTo>
                <a:lnTo>
                  <a:pt x="787" y="438"/>
                </a:lnTo>
                <a:lnTo>
                  <a:pt x="790" y="435"/>
                </a:lnTo>
                <a:lnTo>
                  <a:pt x="793" y="432"/>
                </a:lnTo>
                <a:lnTo>
                  <a:pt x="794" y="428"/>
                </a:lnTo>
                <a:lnTo>
                  <a:pt x="797" y="425"/>
                </a:lnTo>
                <a:lnTo>
                  <a:pt x="800" y="422"/>
                </a:lnTo>
                <a:lnTo>
                  <a:pt x="803" y="419"/>
                </a:lnTo>
                <a:lnTo>
                  <a:pt x="806" y="416"/>
                </a:lnTo>
                <a:lnTo>
                  <a:pt x="809" y="413"/>
                </a:lnTo>
                <a:lnTo>
                  <a:pt x="811" y="410"/>
                </a:lnTo>
                <a:lnTo>
                  <a:pt x="814" y="407"/>
                </a:lnTo>
                <a:lnTo>
                  <a:pt x="817" y="402"/>
                </a:lnTo>
                <a:lnTo>
                  <a:pt x="820" y="399"/>
                </a:lnTo>
                <a:lnTo>
                  <a:pt x="823" y="396"/>
                </a:lnTo>
                <a:lnTo>
                  <a:pt x="826" y="393"/>
                </a:lnTo>
                <a:lnTo>
                  <a:pt x="829" y="390"/>
                </a:lnTo>
                <a:lnTo>
                  <a:pt x="830" y="387"/>
                </a:lnTo>
                <a:lnTo>
                  <a:pt x="833" y="384"/>
                </a:lnTo>
                <a:lnTo>
                  <a:pt x="836" y="381"/>
                </a:lnTo>
                <a:lnTo>
                  <a:pt x="839" y="378"/>
                </a:lnTo>
                <a:lnTo>
                  <a:pt x="842" y="375"/>
                </a:lnTo>
                <a:lnTo>
                  <a:pt x="845" y="372"/>
                </a:lnTo>
                <a:lnTo>
                  <a:pt x="847" y="369"/>
                </a:lnTo>
                <a:lnTo>
                  <a:pt x="850" y="365"/>
                </a:lnTo>
                <a:lnTo>
                  <a:pt x="853" y="363"/>
                </a:lnTo>
                <a:lnTo>
                  <a:pt x="856" y="359"/>
                </a:lnTo>
                <a:lnTo>
                  <a:pt x="859" y="356"/>
                </a:lnTo>
                <a:lnTo>
                  <a:pt x="860" y="353"/>
                </a:lnTo>
                <a:lnTo>
                  <a:pt x="863" y="3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3665520" y="2662200"/>
            <a:ext cx="844560" cy="825480"/>
          </a:xfrm>
          <a:custGeom>
            <a:avLst/>
            <a:gdLst/>
            <a:ahLst/>
            <a:rect l="l" t="t" r="r" b="b"/>
            <a:pathLst>
              <a:path w="435" h="364">
                <a:moveTo>
                  <a:pt x="0" y="364"/>
                </a:moveTo>
                <a:lnTo>
                  <a:pt x="3" y="361"/>
                </a:lnTo>
                <a:lnTo>
                  <a:pt x="6" y="358"/>
                </a:lnTo>
                <a:lnTo>
                  <a:pt x="9" y="355"/>
                </a:lnTo>
                <a:lnTo>
                  <a:pt x="12" y="352"/>
                </a:lnTo>
                <a:lnTo>
                  <a:pt x="14" y="349"/>
                </a:lnTo>
                <a:lnTo>
                  <a:pt x="17" y="346"/>
                </a:lnTo>
                <a:lnTo>
                  <a:pt x="20" y="345"/>
                </a:lnTo>
                <a:lnTo>
                  <a:pt x="23" y="340"/>
                </a:lnTo>
                <a:lnTo>
                  <a:pt x="26" y="339"/>
                </a:lnTo>
                <a:lnTo>
                  <a:pt x="29" y="336"/>
                </a:lnTo>
                <a:lnTo>
                  <a:pt x="32" y="333"/>
                </a:lnTo>
                <a:lnTo>
                  <a:pt x="33" y="330"/>
                </a:lnTo>
                <a:lnTo>
                  <a:pt x="36" y="327"/>
                </a:lnTo>
                <a:lnTo>
                  <a:pt x="39" y="324"/>
                </a:lnTo>
                <a:lnTo>
                  <a:pt x="42" y="321"/>
                </a:lnTo>
                <a:lnTo>
                  <a:pt x="45" y="318"/>
                </a:lnTo>
                <a:lnTo>
                  <a:pt x="48" y="315"/>
                </a:lnTo>
                <a:lnTo>
                  <a:pt x="49" y="312"/>
                </a:lnTo>
                <a:lnTo>
                  <a:pt x="52" y="309"/>
                </a:lnTo>
                <a:lnTo>
                  <a:pt x="55" y="307"/>
                </a:lnTo>
                <a:lnTo>
                  <a:pt x="58" y="304"/>
                </a:lnTo>
                <a:lnTo>
                  <a:pt x="61" y="301"/>
                </a:lnTo>
                <a:lnTo>
                  <a:pt x="63" y="298"/>
                </a:lnTo>
                <a:lnTo>
                  <a:pt x="66" y="295"/>
                </a:lnTo>
                <a:lnTo>
                  <a:pt x="69" y="292"/>
                </a:lnTo>
                <a:lnTo>
                  <a:pt x="72" y="289"/>
                </a:lnTo>
                <a:lnTo>
                  <a:pt x="75" y="288"/>
                </a:lnTo>
                <a:lnTo>
                  <a:pt x="78" y="285"/>
                </a:lnTo>
                <a:lnTo>
                  <a:pt x="79" y="282"/>
                </a:lnTo>
                <a:lnTo>
                  <a:pt x="82" y="279"/>
                </a:lnTo>
                <a:lnTo>
                  <a:pt x="85" y="276"/>
                </a:lnTo>
                <a:lnTo>
                  <a:pt x="88" y="273"/>
                </a:lnTo>
                <a:lnTo>
                  <a:pt x="91" y="271"/>
                </a:lnTo>
                <a:lnTo>
                  <a:pt x="94" y="268"/>
                </a:lnTo>
                <a:lnTo>
                  <a:pt x="96" y="265"/>
                </a:lnTo>
                <a:lnTo>
                  <a:pt x="99" y="262"/>
                </a:lnTo>
                <a:lnTo>
                  <a:pt x="102" y="259"/>
                </a:lnTo>
                <a:lnTo>
                  <a:pt x="105" y="258"/>
                </a:lnTo>
                <a:lnTo>
                  <a:pt x="108" y="255"/>
                </a:lnTo>
                <a:lnTo>
                  <a:pt x="109" y="252"/>
                </a:lnTo>
                <a:lnTo>
                  <a:pt x="112" y="250"/>
                </a:lnTo>
                <a:lnTo>
                  <a:pt x="115" y="247"/>
                </a:lnTo>
                <a:lnTo>
                  <a:pt x="118" y="244"/>
                </a:lnTo>
                <a:lnTo>
                  <a:pt x="121" y="241"/>
                </a:lnTo>
                <a:lnTo>
                  <a:pt x="124" y="238"/>
                </a:lnTo>
                <a:lnTo>
                  <a:pt x="127" y="237"/>
                </a:lnTo>
                <a:lnTo>
                  <a:pt x="129" y="234"/>
                </a:lnTo>
                <a:lnTo>
                  <a:pt x="132" y="231"/>
                </a:lnTo>
                <a:lnTo>
                  <a:pt x="135" y="229"/>
                </a:lnTo>
                <a:lnTo>
                  <a:pt x="138" y="226"/>
                </a:lnTo>
                <a:lnTo>
                  <a:pt x="141" y="223"/>
                </a:lnTo>
                <a:lnTo>
                  <a:pt x="144" y="220"/>
                </a:lnTo>
                <a:lnTo>
                  <a:pt x="145" y="219"/>
                </a:lnTo>
                <a:lnTo>
                  <a:pt x="148" y="216"/>
                </a:lnTo>
                <a:lnTo>
                  <a:pt x="151" y="213"/>
                </a:lnTo>
                <a:lnTo>
                  <a:pt x="154" y="211"/>
                </a:lnTo>
                <a:lnTo>
                  <a:pt x="157" y="208"/>
                </a:lnTo>
                <a:lnTo>
                  <a:pt x="159" y="205"/>
                </a:lnTo>
                <a:lnTo>
                  <a:pt x="161" y="204"/>
                </a:lnTo>
                <a:lnTo>
                  <a:pt x="164" y="201"/>
                </a:lnTo>
                <a:lnTo>
                  <a:pt x="167" y="199"/>
                </a:lnTo>
                <a:lnTo>
                  <a:pt x="170" y="196"/>
                </a:lnTo>
                <a:lnTo>
                  <a:pt x="173" y="193"/>
                </a:lnTo>
                <a:lnTo>
                  <a:pt x="175" y="192"/>
                </a:lnTo>
                <a:lnTo>
                  <a:pt x="178" y="189"/>
                </a:lnTo>
                <a:lnTo>
                  <a:pt x="181" y="186"/>
                </a:lnTo>
                <a:lnTo>
                  <a:pt x="184" y="184"/>
                </a:lnTo>
                <a:lnTo>
                  <a:pt x="187" y="181"/>
                </a:lnTo>
                <a:lnTo>
                  <a:pt x="190" y="180"/>
                </a:lnTo>
                <a:lnTo>
                  <a:pt x="193" y="177"/>
                </a:lnTo>
                <a:lnTo>
                  <a:pt x="194" y="174"/>
                </a:lnTo>
                <a:lnTo>
                  <a:pt x="197" y="172"/>
                </a:lnTo>
                <a:lnTo>
                  <a:pt x="200" y="169"/>
                </a:lnTo>
                <a:lnTo>
                  <a:pt x="203" y="168"/>
                </a:lnTo>
                <a:lnTo>
                  <a:pt x="206" y="165"/>
                </a:lnTo>
                <a:lnTo>
                  <a:pt x="209" y="163"/>
                </a:lnTo>
                <a:lnTo>
                  <a:pt x="211" y="160"/>
                </a:lnTo>
                <a:lnTo>
                  <a:pt x="214" y="159"/>
                </a:lnTo>
                <a:lnTo>
                  <a:pt x="217" y="156"/>
                </a:lnTo>
                <a:lnTo>
                  <a:pt x="220" y="154"/>
                </a:lnTo>
                <a:lnTo>
                  <a:pt x="223" y="151"/>
                </a:lnTo>
                <a:lnTo>
                  <a:pt x="224" y="150"/>
                </a:lnTo>
                <a:lnTo>
                  <a:pt x="227" y="147"/>
                </a:lnTo>
                <a:lnTo>
                  <a:pt x="230" y="145"/>
                </a:lnTo>
                <a:lnTo>
                  <a:pt x="233" y="142"/>
                </a:lnTo>
                <a:lnTo>
                  <a:pt x="236" y="141"/>
                </a:lnTo>
                <a:lnTo>
                  <a:pt x="239" y="138"/>
                </a:lnTo>
                <a:lnTo>
                  <a:pt x="241" y="136"/>
                </a:lnTo>
                <a:lnTo>
                  <a:pt x="244" y="135"/>
                </a:lnTo>
                <a:lnTo>
                  <a:pt x="247" y="132"/>
                </a:lnTo>
                <a:lnTo>
                  <a:pt x="250" y="129"/>
                </a:lnTo>
                <a:lnTo>
                  <a:pt x="253" y="127"/>
                </a:lnTo>
                <a:lnTo>
                  <a:pt x="256" y="126"/>
                </a:lnTo>
                <a:lnTo>
                  <a:pt x="259" y="123"/>
                </a:lnTo>
                <a:lnTo>
                  <a:pt x="260" y="121"/>
                </a:lnTo>
                <a:lnTo>
                  <a:pt x="263" y="118"/>
                </a:lnTo>
                <a:lnTo>
                  <a:pt x="266" y="117"/>
                </a:lnTo>
                <a:lnTo>
                  <a:pt x="269" y="115"/>
                </a:lnTo>
                <a:lnTo>
                  <a:pt x="271" y="112"/>
                </a:lnTo>
                <a:lnTo>
                  <a:pt x="274" y="111"/>
                </a:lnTo>
                <a:lnTo>
                  <a:pt x="277" y="109"/>
                </a:lnTo>
                <a:lnTo>
                  <a:pt x="279" y="107"/>
                </a:lnTo>
                <a:lnTo>
                  <a:pt x="282" y="105"/>
                </a:lnTo>
                <a:lnTo>
                  <a:pt x="285" y="102"/>
                </a:lnTo>
                <a:lnTo>
                  <a:pt x="288" y="101"/>
                </a:lnTo>
                <a:lnTo>
                  <a:pt x="290" y="99"/>
                </a:lnTo>
                <a:lnTo>
                  <a:pt x="293" y="96"/>
                </a:lnTo>
                <a:lnTo>
                  <a:pt x="296" y="95"/>
                </a:lnTo>
                <a:lnTo>
                  <a:pt x="299" y="92"/>
                </a:lnTo>
                <a:lnTo>
                  <a:pt x="302" y="90"/>
                </a:lnTo>
                <a:lnTo>
                  <a:pt x="305" y="89"/>
                </a:lnTo>
                <a:lnTo>
                  <a:pt x="306" y="86"/>
                </a:lnTo>
                <a:lnTo>
                  <a:pt x="309" y="84"/>
                </a:lnTo>
                <a:lnTo>
                  <a:pt x="312" y="83"/>
                </a:lnTo>
                <a:lnTo>
                  <a:pt x="315" y="80"/>
                </a:lnTo>
                <a:lnTo>
                  <a:pt x="318" y="78"/>
                </a:lnTo>
                <a:lnTo>
                  <a:pt x="320" y="77"/>
                </a:lnTo>
                <a:lnTo>
                  <a:pt x="323" y="75"/>
                </a:lnTo>
                <a:lnTo>
                  <a:pt x="326" y="72"/>
                </a:lnTo>
                <a:lnTo>
                  <a:pt x="329" y="71"/>
                </a:lnTo>
                <a:lnTo>
                  <a:pt x="332" y="69"/>
                </a:lnTo>
                <a:lnTo>
                  <a:pt x="335" y="66"/>
                </a:lnTo>
                <a:lnTo>
                  <a:pt x="336" y="65"/>
                </a:lnTo>
                <a:lnTo>
                  <a:pt x="339" y="63"/>
                </a:lnTo>
                <a:lnTo>
                  <a:pt x="342" y="60"/>
                </a:lnTo>
                <a:lnTo>
                  <a:pt x="345" y="59"/>
                </a:lnTo>
                <a:lnTo>
                  <a:pt x="348" y="57"/>
                </a:lnTo>
                <a:lnTo>
                  <a:pt x="351" y="56"/>
                </a:lnTo>
                <a:lnTo>
                  <a:pt x="354" y="53"/>
                </a:lnTo>
                <a:lnTo>
                  <a:pt x="356" y="51"/>
                </a:lnTo>
                <a:lnTo>
                  <a:pt x="359" y="50"/>
                </a:lnTo>
                <a:lnTo>
                  <a:pt x="362" y="48"/>
                </a:lnTo>
                <a:lnTo>
                  <a:pt x="365" y="47"/>
                </a:lnTo>
                <a:lnTo>
                  <a:pt x="368" y="44"/>
                </a:lnTo>
                <a:lnTo>
                  <a:pt x="371" y="42"/>
                </a:lnTo>
                <a:lnTo>
                  <a:pt x="372" y="41"/>
                </a:lnTo>
                <a:lnTo>
                  <a:pt x="375" y="39"/>
                </a:lnTo>
                <a:lnTo>
                  <a:pt x="378" y="36"/>
                </a:lnTo>
                <a:lnTo>
                  <a:pt x="381" y="35"/>
                </a:lnTo>
                <a:lnTo>
                  <a:pt x="383" y="33"/>
                </a:lnTo>
                <a:lnTo>
                  <a:pt x="386" y="32"/>
                </a:lnTo>
                <a:lnTo>
                  <a:pt x="389" y="30"/>
                </a:lnTo>
                <a:lnTo>
                  <a:pt x="392" y="27"/>
                </a:lnTo>
                <a:lnTo>
                  <a:pt x="395" y="26"/>
                </a:lnTo>
                <a:lnTo>
                  <a:pt x="397" y="24"/>
                </a:lnTo>
                <a:lnTo>
                  <a:pt x="400" y="23"/>
                </a:lnTo>
                <a:lnTo>
                  <a:pt x="402" y="21"/>
                </a:lnTo>
                <a:lnTo>
                  <a:pt x="405" y="20"/>
                </a:lnTo>
                <a:lnTo>
                  <a:pt x="408" y="17"/>
                </a:lnTo>
                <a:lnTo>
                  <a:pt x="411" y="15"/>
                </a:lnTo>
                <a:lnTo>
                  <a:pt x="414" y="14"/>
                </a:lnTo>
                <a:lnTo>
                  <a:pt x="417" y="12"/>
                </a:lnTo>
                <a:lnTo>
                  <a:pt x="418" y="11"/>
                </a:lnTo>
                <a:lnTo>
                  <a:pt x="421" y="9"/>
                </a:lnTo>
                <a:lnTo>
                  <a:pt x="424" y="8"/>
                </a:lnTo>
                <a:lnTo>
                  <a:pt x="427" y="6"/>
                </a:lnTo>
                <a:lnTo>
                  <a:pt x="430" y="3"/>
                </a:lnTo>
                <a:lnTo>
                  <a:pt x="432" y="2"/>
                </a:lnTo>
                <a:lnTo>
                  <a:pt x="43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2128680" y="2660760"/>
            <a:ext cx="1536840" cy="2236680"/>
          </a:xfrm>
          <a:custGeom>
            <a:avLst/>
            <a:gdLst/>
            <a:ahLst/>
            <a:rect l="l" t="t" r="r" b="b"/>
            <a:pathLst>
              <a:path w="791" h="986">
                <a:moveTo>
                  <a:pt x="0" y="0"/>
                </a:moveTo>
                <a:lnTo>
                  <a:pt x="1" y="24"/>
                </a:lnTo>
                <a:lnTo>
                  <a:pt x="4" y="48"/>
                </a:lnTo>
                <a:lnTo>
                  <a:pt x="7" y="70"/>
                </a:lnTo>
                <a:lnTo>
                  <a:pt x="10" y="93"/>
                </a:lnTo>
                <a:lnTo>
                  <a:pt x="13" y="115"/>
                </a:lnTo>
                <a:lnTo>
                  <a:pt x="16" y="136"/>
                </a:lnTo>
                <a:lnTo>
                  <a:pt x="19" y="158"/>
                </a:lnTo>
                <a:lnTo>
                  <a:pt x="20" y="179"/>
                </a:lnTo>
                <a:lnTo>
                  <a:pt x="23" y="200"/>
                </a:lnTo>
                <a:lnTo>
                  <a:pt x="26" y="220"/>
                </a:lnTo>
                <a:lnTo>
                  <a:pt x="29" y="239"/>
                </a:lnTo>
                <a:lnTo>
                  <a:pt x="31" y="259"/>
                </a:lnTo>
                <a:lnTo>
                  <a:pt x="34" y="278"/>
                </a:lnTo>
                <a:lnTo>
                  <a:pt x="37" y="296"/>
                </a:lnTo>
                <a:lnTo>
                  <a:pt x="40" y="314"/>
                </a:lnTo>
                <a:lnTo>
                  <a:pt x="43" y="334"/>
                </a:lnTo>
                <a:lnTo>
                  <a:pt x="46" y="352"/>
                </a:lnTo>
                <a:lnTo>
                  <a:pt x="49" y="368"/>
                </a:lnTo>
                <a:lnTo>
                  <a:pt x="50" y="384"/>
                </a:lnTo>
                <a:lnTo>
                  <a:pt x="53" y="401"/>
                </a:lnTo>
                <a:lnTo>
                  <a:pt x="56" y="417"/>
                </a:lnTo>
                <a:lnTo>
                  <a:pt x="59" y="434"/>
                </a:lnTo>
                <a:lnTo>
                  <a:pt x="62" y="449"/>
                </a:lnTo>
                <a:lnTo>
                  <a:pt x="65" y="465"/>
                </a:lnTo>
                <a:lnTo>
                  <a:pt x="67" y="480"/>
                </a:lnTo>
                <a:lnTo>
                  <a:pt x="70" y="495"/>
                </a:lnTo>
                <a:lnTo>
                  <a:pt x="73" y="509"/>
                </a:lnTo>
                <a:lnTo>
                  <a:pt x="76" y="524"/>
                </a:lnTo>
                <a:lnTo>
                  <a:pt x="79" y="537"/>
                </a:lnTo>
                <a:lnTo>
                  <a:pt x="80" y="551"/>
                </a:lnTo>
                <a:lnTo>
                  <a:pt x="83" y="564"/>
                </a:lnTo>
                <a:lnTo>
                  <a:pt x="86" y="576"/>
                </a:lnTo>
                <a:lnTo>
                  <a:pt x="89" y="590"/>
                </a:lnTo>
                <a:lnTo>
                  <a:pt x="92" y="601"/>
                </a:lnTo>
                <a:lnTo>
                  <a:pt x="95" y="613"/>
                </a:lnTo>
                <a:lnTo>
                  <a:pt x="97" y="625"/>
                </a:lnTo>
                <a:lnTo>
                  <a:pt x="100" y="637"/>
                </a:lnTo>
                <a:lnTo>
                  <a:pt x="103" y="649"/>
                </a:lnTo>
                <a:lnTo>
                  <a:pt x="106" y="660"/>
                </a:lnTo>
                <a:lnTo>
                  <a:pt x="109" y="670"/>
                </a:lnTo>
                <a:lnTo>
                  <a:pt x="112" y="682"/>
                </a:lnTo>
                <a:lnTo>
                  <a:pt x="115" y="693"/>
                </a:lnTo>
                <a:lnTo>
                  <a:pt x="116" y="702"/>
                </a:lnTo>
                <a:lnTo>
                  <a:pt x="119" y="712"/>
                </a:lnTo>
                <a:lnTo>
                  <a:pt x="122" y="721"/>
                </a:lnTo>
                <a:lnTo>
                  <a:pt x="125" y="732"/>
                </a:lnTo>
                <a:lnTo>
                  <a:pt x="127" y="741"/>
                </a:lnTo>
                <a:lnTo>
                  <a:pt x="130" y="750"/>
                </a:lnTo>
                <a:lnTo>
                  <a:pt x="132" y="759"/>
                </a:lnTo>
                <a:lnTo>
                  <a:pt x="135" y="768"/>
                </a:lnTo>
                <a:lnTo>
                  <a:pt x="138" y="775"/>
                </a:lnTo>
                <a:lnTo>
                  <a:pt x="141" y="784"/>
                </a:lnTo>
                <a:lnTo>
                  <a:pt x="144" y="792"/>
                </a:lnTo>
                <a:lnTo>
                  <a:pt x="146" y="799"/>
                </a:lnTo>
                <a:lnTo>
                  <a:pt x="149" y="807"/>
                </a:lnTo>
                <a:lnTo>
                  <a:pt x="152" y="814"/>
                </a:lnTo>
                <a:lnTo>
                  <a:pt x="155" y="822"/>
                </a:lnTo>
                <a:lnTo>
                  <a:pt x="158" y="829"/>
                </a:lnTo>
                <a:lnTo>
                  <a:pt x="161" y="835"/>
                </a:lnTo>
                <a:lnTo>
                  <a:pt x="162" y="842"/>
                </a:lnTo>
                <a:lnTo>
                  <a:pt x="165" y="848"/>
                </a:lnTo>
                <a:lnTo>
                  <a:pt x="168" y="854"/>
                </a:lnTo>
                <a:lnTo>
                  <a:pt x="171" y="860"/>
                </a:lnTo>
                <a:lnTo>
                  <a:pt x="174" y="866"/>
                </a:lnTo>
                <a:lnTo>
                  <a:pt x="177" y="872"/>
                </a:lnTo>
                <a:lnTo>
                  <a:pt x="180" y="877"/>
                </a:lnTo>
                <a:lnTo>
                  <a:pt x="182" y="883"/>
                </a:lnTo>
                <a:lnTo>
                  <a:pt x="185" y="887"/>
                </a:lnTo>
                <a:lnTo>
                  <a:pt x="188" y="892"/>
                </a:lnTo>
                <a:lnTo>
                  <a:pt x="191" y="898"/>
                </a:lnTo>
                <a:lnTo>
                  <a:pt x="192" y="902"/>
                </a:lnTo>
                <a:lnTo>
                  <a:pt x="195" y="907"/>
                </a:lnTo>
                <a:lnTo>
                  <a:pt x="198" y="911"/>
                </a:lnTo>
                <a:lnTo>
                  <a:pt x="201" y="916"/>
                </a:lnTo>
                <a:lnTo>
                  <a:pt x="204" y="920"/>
                </a:lnTo>
                <a:lnTo>
                  <a:pt x="207" y="923"/>
                </a:lnTo>
                <a:lnTo>
                  <a:pt x="210" y="928"/>
                </a:lnTo>
                <a:lnTo>
                  <a:pt x="212" y="931"/>
                </a:lnTo>
                <a:lnTo>
                  <a:pt x="215" y="935"/>
                </a:lnTo>
                <a:lnTo>
                  <a:pt x="218" y="938"/>
                </a:lnTo>
                <a:lnTo>
                  <a:pt x="221" y="941"/>
                </a:lnTo>
                <a:lnTo>
                  <a:pt x="224" y="944"/>
                </a:lnTo>
                <a:lnTo>
                  <a:pt x="227" y="947"/>
                </a:lnTo>
                <a:lnTo>
                  <a:pt x="228" y="950"/>
                </a:lnTo>
                <a:lnTo>
                  <a:pt x="231" y="953"/>
                </a:lnTo>
                <a:lnTo>
                  <a:pt x="234" y="956"/>
                </a:lnTo>
                <a:lnTo>
                  <a:pt x="237" y="958"/>
                </a:lnTo>
                <a:lnTo>
                  <a:pt x="240" y="961"/>
                </a:lnTo>
                <a:lnTo>
                  <a:pt x="242" y="962"/>
                </a:lnTo>
                <a:lnTo>
                  <a:pt x="245" y="965"/>
                </a:lnTo>
                <a:lnTo>
                  <a:pt x="247" y="967"/>
                </a:lnTo>
                <a:lnTo>
                  <a:pt x="250" y="968"/>
                </a:lnTo>
                <a:lnTo>
                  <a:pt x="253" y="970"/>
                </a:lnTo>
                <a:lnTo>
                  <a:pt x="256" y="973"/>
                </a:lnTo>
                <a:lnTo>
                  <a:pt x="258" y="974"/>
                </a:lnTo>
                <a:lnTo>
                  <a:pt x="261" y="976"/>
                </a:lnTo>
                <a:lnTo>
                  <a:pt x="264" y="977"/>
                </a:lnTo>
                <a:lnTo>
                  <a:pt x="267" y="977"/>
                </a:lnTo>
                <a:lnTo>
                  <a:pt x="270" y="979"/>
                </a:lnTo>
                <a:lnTo>
                  <a:pt x="273" y="980"/>
                </a:lnTo>
                <a:lnTo>
                  <a:pt x="274" y="982"/>
                </a:lnTo>
                <a:lnTo>
                  <a:pt x="277" y="982"/>
                </a:lnTo>
                <a:lnTo>
                  <a:pt x="280" y="983"/>
                </a:lnTo>
                <a:lnTo>
                  <a:pt x="283" y="983"/>
                </a:lnTo>
                <a:lnTo>
                  <a:pt x="286" y="983"/>
                </a:lnTo>
                <a:lnTo>
                  <a:pt x="289" y="985"/>
                </a:lnTo>
                <a:lnTo>
                  <a:pt x="291" y="985"/>
                </a:lnTo>
                <a:lnTo>
                  <a:pt x="294" y="985"/>
                </a:lnTo>
                <a:lnTo>
                  <a:pt x="297" y="985"/>
                </a:lnTo>
                <a:lnTo>
                  <a:pt x="300" y="986"/>
                </a:lnTo>
                <a:lnTo>
                  <a:pt x="303" y="986"/>
                </a:lnTo>
                <a:lnTo>
                  <a:pt x="304" y="986"/>
                </a:lnTo>
                <a:lnTo>
                  <a:pt x="307" y="985"/>
                </a:lnTo>
                <a:lnTo>
                  <a:pt x="310" y="985"/>
                </a:lnTo>
                <a:lnTo>
                  <a:pt x="313" y="985"/>
                </a:lnTo>
                <a:lnTo>
                  <a:pt x="316" y="985"/>
                </a:lnTo>
                <a:lnTo>
                  <a:pt x="319" y="985"/>
                </a:lnTo>
                <a:lnTo>
                  <a:pt x="322" y="983"/>
                </a:lnTo>
                <a:lnTo>
                  <a:pt x="324" y="983"/>
                </a:lnTo>
                <a:lnTo>
                  <a:pt x="327" y="982"/>
                </a:lnTo>
                <a:lnTo>
                  <a:pt x="330" y="982"/>
                </a:lnTo>
                <a:lnTo>
                  <a:pt x="333" y="982"/>
                </a:lnTo>
                <a:lnTo>
                  <a:pt x="336" y="980"/>
                </a:lnTo>
                <a:lnTo>
                  <a:pt x="339" y="979"/>
                </a:lnTo>
                <a:lnTo>
                  <a:pt x="340" y="979"/>
                </a:lnTo>
                <a:lnTo>
                  <a:pt x="343" y="977"/>
                </a:lnTo>
                <a:lnTo>
                  <a:pt x="346" y="976"/>
                </a:lnTo>
                <a:lnTo>
                  <a:pt x="349" y="976"/>
                </a:lnTo>
                <a:lnTo>
                  <a:pt x="352" y="974"/>
                </a:lnTo>
                <a:lnTo>
                  <a:pt x="354" y="973"/>
                </a:lnTo>
                <a:lnTo>
                  <a:pt x="357" y="971"/>
                </a:lnTo>
                <a:lnTo>
                  <a:pt x="360" y="970"/>
                </a:lnTo>
                <a:lnTo>
                  <a:pt x="363" y="968"/>
                </a:lnTo>
                <a:lnTo>
                  <a:pt x="365" y="967"/>
                </a:lnTo>
                <a:lnTo>
                  <a:pt x="368" y="965"/>
                </a:lnTo>
                <a:lnTo>
                  <a:pt x="370" y="964"/>
                </a:lnTo>
                <a:lnTo>
                  <a:pt x="373" y="962"/>
                </a:lnTo>
                <a:lnTo>
                  <a:pt x="376" y="961"/>
                </a:lnTo>
                <a:lnTo>
                  <a:pt x="379" y="959"/>
                </a:lnTo>
                <a:lnTo>
                  <a:pt x="382" y="956"/>
                </a:lnTo>
                <a:lnTo>
                  <a:pt x="385" y="955"/>
                </a:lnTo>
                <a:lnTo>
                  <a:pt x="388" y="953"/>
                </a:lnTo>
                <a:lnTo>
                  <a:pt x="389" y="952"/>
                </a:lnTo>
                <a:lnTo>
                  <a:pt x="392" y="949"/>
                </a:lnTo>
                <a:lnTo>
                  <a:pt x="395" y="947"/>
                </a:lnTo>
                <a:lnTo>
                  <a:pt x="398" y="944"/>
                </a:lnTo>
                <a:lnTo>
                  <a:pt x="400" y="943"/>
                </a:lnTo>
                <a:lnTo>
                  <a:pt x="403" y="941"/>
                </a:lnTo>
                <a:lnTo>
                  <a:pt x="406" y="938"/>
                </a:lnTo>
                <a:lnTo>
                  <a:pt x="409" y="937"/>
                </a:lnTo>
                <a:lnTo>
                  <a:pt x="412" y="934"/>
                </a:lnTo>
                <a:lnTo>
                  <a:pt x="415" y="932"/>
                </a:lnTo>
                <a:lnTo>
                  <a:pt x="418" y="929"/>
                </a:lnTo>
                <a:lnTo>
                  <a:pt x="419" y="926"/>
                </a:lnTo>
                <a:lnTo>
                  <a:pt x="422" y="925"/>
                </a:lnTo>
                <a:lnTo>
                  <a:pt x="425" y="922"/>
                </a:lnTo>
                <a:lnTo>
                  <a:pt x="428" y="919"/>
                </a:lnTo>
                <a:lnTo>
                  <a:pt x="431" y="917"/>
                </a:lnTo>
                <a:lnTo>
                  <a:pt x="433" y="914"/>
                </a:lnTo>
                <a:lnTo>
                  <a:pt x="436" y="911"/>
                </a:lnTo>
                <a:lnTo>
                  <a:pt x="439" y="910"/>
                </a:lnTo>
                <a:lnTo>
                  <a:pt x="442" y="907"/>
                </a:lnTo>
                <a:lnTo>
                  <a:pt x="445" y="904"/>
                </a:lnTo>
                <a:lnTo>
                  <a:pt x="448" y="901"/>
                </a:lnTo>
                <a:lnTo>
                  <a:pt x="449" y="899"/>
                </a:lnTo>
                <a:lnTo>
                  <a:pt x="452" y="896"/>
                </a:lnTo>
                <a:lnTo>
                  <a:pt x="455" y="893"/>
                </a:lnTo>
                <a:lnTo>
                  <a:pt x="458" y="890"/>
                </a:lnTo>
                <a:lnTo>
                  <a:pt x="461" y="887"/>
                </a:lnTo>
                <a:lnTo>
                  <a:pt x="464" y="884"/>
                </a:lnTo>
                <a:lnTo>
                  <a:pt x="466" y="881"/>
                </a:lnTo>
                <a:lnTo>
                  <a:pt x="469" y="878"/>
                </a:lnTo>
                <a:lnTo>
                  <a:pt x="472" y="875"/>
                </a:lnTo>
                <a:lnTo>
                  <a:pt x="475" y="872"/>
                </a:lnTo>
                <a:lnTo>
                  <a:pt x="478" y="869"/>
                </a:lnTo>
                <a:lnTo>
                  <a:pt x="479" y="866"/>
                </a:lnTo>
                <a:lnTo>
                  <a:pt x="482" y="863"/>
                </a:lnTo>
                <a:lnTo>
                  <a:pt x="485" y="860"/>
                </a:lnTo>
                <a:lnTo>
                  <a:pt x="488" y="857"/>
                </a:lnTo>
                <a:lnTo>
                  <a:pt x="491" y="854"/>
                </a:lnTo>
                <a:lnTo>
                  <a:pt x="494" y="851"/>
                </a:lnTo>
                <a:lnTo>
                  <a:pt x="495" y="848"/>
                </a:lnTo>
                <a:lnTo>
                  <a:pt x="498" y="845"/>
                </a:lnTo>
                <a:lnTo>
                  <a:pt x="501" y="842"/>
                </a:lnTo>
                <a:lnTo>
                  <a:pt x="504" y="838"/>
                </a:lnTo>
                <a:lnTo>
                  <a:pt x="507" y="835"/>
                </a:lnTo>
                <a:lnTo>
                  <a:pt x="510" y="832"/>
                </a:lnTo>
                <a:lnTo>
                  <a:pt x="513" y="829"/>
                </a:lnTo>
                <a:lnTo>
                  <a:pt x="515" y="826"/>
                </a:lnTo>
                <a:lnTo>
                  <a:pt x="518" y="823"/>
                </a:lnTo>
                <a:lnTo>
                  <a:pt x="521" y="819"/>
                </a:lnTo>
                <a:lnTo>
                  <a:pt x="524" y="816"/>
                </a:lnTo>
                <a:lnTo>
                  <a:pt x="527" y="813"/>
                </a:lnTo>
                <a:lnTo>
                  <a:pt x="530" y="810"/>
                </a:lnTo>
                <a:lnTo>
                  <a:pt x="531" y="805"/>
                </a:lnTo>
                <a:lnTo>
                  <a:pt x="534" y="802"/>
                </a:lnTo>
                <a:lnTo>
                  <a:pt x="537" y="799"/>
                </a:lnTo>
                <a:lnTo>
                  <a:pt x="540" y="796"/>
                </a:lnTo>
                <a:lnTo>
                  <a:pt x="543" y="792"/>
                </a:lnTo>
                <a:lnTo>
                  <a:pt x="545" y="789"/>
                </a:lnTo>
                <a:lnTo>
                  <a:pt x="548" y="786"/>
                </a:lnTo>
                <a:lnTo>
                  <a:pt x="551" y="783"/>
                </a:lnTo>
                <a:lnTo>
                  <a:pt x="554" y="778"/>
                </a:lnTo>
                <a:lnTo>
                  <a:pt x="557" y="775"/>
                </a:lnTo>
                <a:lnTo>
                  <a:pt x="560" y="772"/>
                </a:lnTo>
                <a:lnTo>
                  <a:pt x="561" y="769"/>
                </a:lnTo>
                <a:lnTo>
                  <a:pt x="564" y="765"/>
                </a:lnTo>
                <a:lnTo>
                  <a:pt x="567" y="762"/>
                </a:lnTo>
                <a:lnTo>
                  <a:pt x="570" y="759"/>
                </a:lnTo>
                <a:lnTo>
                  <a:pt x="573" y="754"/>
                </a:lnTo>
                <a:lnTo>
                  <a:pt x="576" y="751"/>
                </a:lnTo>
                <a:lnTo>
                  <a:pt x="579" y="748"/>
                </a:lnTo>
                <a:lnTo>
                  <a:pt x="581" y="745"/>
                </a:lnTo>
                <a:lnTo>
                  <a:pt x="584" y="741"/>
                </a:lnTo>
                <a:lnTo>
                  <a:pt x="587" y="738"/>
                </a:lnTo>
                <a:lnTo>
                  <a:pt x="590" y="733"/>
                </a:lnTo>
                <a:lnTo>
                  <a:pt x="593" y="730"/>
                </a:lnTo>
                <a:lnTo>
                  <a:pt x="594" y="727"/>
                </a:lnTo>
                <a:lnTo>
                  <a:pt x="597" y="723"/>
                </a:lnTo>
                <a:lnTo>
                  <a:pt x="600" y="720"/>
                </a:lnTo>
                <a:lnTo>
                  <a:pt x="603" y="717"/>
                </a:lnTo>
                <a:lnTo>
                  <a:pt x="606" y="714"/>
                </a:lnTo>
                <a:lnTo>
                  <a:pt x="609" y="709"/>
                </a:lnTo>
                <a:lnTo>
                  <a:pt x="610" y="706"/>
                </a:lnTo>
                <a:lnTo>
                  <a:pt x="613" y="702"/>
                </a:lnTo>
                <a:lnTo>
                  <a:pt x="616" y="699"/>
                </a:lnTo>
                <a:lnTo>
                  <a:pt x="619" y="696"/>
                </a:lnTo>
                <a:lnTo>
                  <a:pt x="622" y="691"/>
                </a:lnTo>
                <a:lnTo>
                  <a:pt x="625" y="688"/>
                </a:lnTo>
                <a:lnTo>
                  <a:pt x="627" y="685"/>
                </a:lnTo>
                <a:lnTo>
                  <a:pt x="630" y="681"/>
                </a:lnTo>
                <a:lnTo>
                  <a:pt x="633" y="678"/>
                </a:lnTo>
                <a:lnTo>
                  <a:pt x="636" y="675"/>
                </a:lnTo>
                <a:lnTo>
                  <a:pt x="639" y="670"/>
                </a:lnTo>
                <a:lnTo>
                  <a:pt x="640" y="667"/>
                </a:lnTo>
                <a:lnTo>
                  <a:pt x="643" y="664"/>
                </a:lnTo>
                <a:lnTo>
                  <a:pt x="646" y="660"/>
                </a:lnTo>
                <a:lnTo>
                  <a:pt x="649" y="657"/>
                </a:lnTo>
                <a:lnTo>
                  <a:pt x="652" y="654"/>
                </a:lnTo>
                <a:lnTo>
                  <a:pt x="655" y="649"/>
                </a:lnTo>
                <a:lnTo>
                  <a:pt x="657" y="646"/>
                </a:lnTo>
                <a:lnTo>
                  <a:pt x="660" y="643"/>
                </a:lnTo>
                <a:lnTo>
                  <a:pt x="663" y="639"/>
                </a:lnTo>
                <a:lnTo>
                  <a:pt x="666" y="636"/>
                </a:lnTo>
                <a:lnTo>
                  <a:pt x="669" y="631"/>
                </a:lnTo>
                <a:lnTo>
                  <a:pt x="672" y="628"/>
                </a:lnTo>
                <a:lnTo>
                  <a:pt x="675" y="625"/>
                </a:lnTo>
                <a:lnTo>
                  <a:pt x="676" y="622"/>
                </a:lnTo>
                <a:lnTo>
                  <a:pt x="679" y="618"/>
                </a:lnTo>
                <a:lnTo>
                  <a:pt x="682" y="615"/>
                </a:lnTo>
                <a:lnTo>
                  <a:pt x="685" y="612"/>
                </a:lnTo>
                <a:lnTo>
                  <a:pt x="688" y="607"/>
                </a:lnTo>
                <a:lnTo>
                  <a:pt x="691" y="604"/>
                </a:lnTo>
                <a:lnTo>
                  <a:pt x="693" y="600"/>
                </a:lnTo>
                <a:lnTo>
                  <a:pt x="696" y="597"/>
                </a:lnTo>
                <a:lnTo>
                  <a:pt x="699" y="594"/>
                </a:lnTo>
                <a:lnTo>
                  <a:pt x="702" y="591"/>
                </a:lnTo>
                <a:lnTo>
                  <a:pt x="705" y="587"/>
                </a:lnTo>
                <a:lnTo>
                  <a:pt x="706" y="584"/>
                </a:lnTo>
                <a:lnTo>
                  <a:pt x="709" y="581"/>
                </a:lnTo>
                <a:lnTo>
                  <a:pt x="712" y="576"/>
                </a:lnTo>
                <a:lnTo>
                  <a:pt x="715" y="573"/>
                </a:lnTo>
                <a:lnTo>
                  <a:pt x="718" y="570"/>
                </a:lnTo>
                <a:lnTo>
                  <a:pt x="721" y="567"/>
                </a:lnTo>
                <a:lnTo>
                  <a:pt x="722" y="563"/>
                </a:lnTo>
                <a:lnTo>
                  <a:pt x="725" y="560"/>
                </a:lnTo>
                <a:lnTo>
                  <a:pt x="728" y="555"/>
                </a:lnTo>
                <a:lnTo>
                  <a:pt x="731" y="552"/>
                </a:lnTo>
                <a:lnTo>
                  <a:pt x="734" y="549"/>
                </a:lnTo>
                <a:lnTo>
                  <a:pt x="737" y="546"/>
                </a:lnTo>
                <a:lnTo>
                  <a:pt x="739" y="543"/>
                </a:lnTo>
                <a:lnTo>
                  <a:pt x="742" y="539"/>
                </a:lnTo>
                <a:lnTo>
                  <a:pt x="745" y="536"/>
                </a:lnTo>
                <a:lnTo>
                  <a:pt x="748" y="533"/>
                </a:lnTo>
                <a:lnTo>
                  <a:pt x="751" y="530"/>
                </a:lnTo>
                <a:lnTo>
                  <a:pt x="754" y="525"/>
                </a:lnTo>
                <a:lnTo>
                  <a:pt x="757" y="522"/>
                </a:lnTo>
                <a:lnTo>
                  <a:pt x="758" y="519"/>
                </a:lnTo>
                <a:lnTo>
                  <a:pt x="761" y="515"/>
                </a:lnTo>
                <a:lnTo>
                  <a:pt x="764" y="512"/>
                </a:lnTo>
                <a:lnTo>
                  <a:pt x="767" y="509"/>
                </a:lnTo>
                <a:lnTo>
                  <a:pt x="770" y="506"/>
                </a:lnTo>
                <a:lnTo>
                  <a:pt x="773" y="503"/>
                </a:lnTo>
                <a:lnTo>
                  <a:pt x="775" y="498"/>
                </a:lnTo>
                <a:lnTo>
                  <a:pt x="778" y="495"/>
                </a:lnTo>
                <a:lnTo>
                  <a:pt x="781" y="492"/>
                </a:lnTo>
                <a:lnTo>
                  <a:pt x="784" y="489"/>
                </a:lnTo>
                <a:lnTo>
                  <a:pt x="787" y="486"/>
                </a:lnTo>
                <a:lnTo>
                  <a:pt x="788" y="482"/>
                </a:lnTo>
                <a:lnTo>
                  <a:pt x="791" y="479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3665520" y="2809800"/>
            <a:ext cx="862200" cy="938160"/>
          </a:xfrm>
          <a:custGeom>
            <a:avLst/>
            <a:gdLst/>
            <a:ahLst/>
            <a:rect l="l" t="t" r="r" b="b"/>
            <a:pathLst>
              <a:path w="444" h="413">
                <a:moveTo>
                  <a:pt x="0" y="413"/>
                </a:moveTo>
                <a:lnTo>
                  <a:pt x="3" y="410"/>
                </a:lnTo>
                <a:lnTo>
                  <a:pt x="6" y="407"/>
                </a:lnTo>
                <a:lnTo>
                  <a:pt x="9" y="402"/>
                </a:lnTo>
                <a:lnTo>
                  <a:pt x="12" y="399"/>
                </a:lnTo>
                <a:lnTo>
                  <a:pt x="14" y="396"/>
                </a:lnTo>
                <a:lnTo>
                  <a:pt x="17" y="393"/>
                </a:lnTo>
                <a:lnTo>
                  <a:pt x="20" y="390"/>
                </a:lnTo>
                <a:lnTo>
                  <a:pt x="23" y="387"/>
                </a:lnTo>
                <a:lnTo>
                  <a:pt x="26" y="384"/>
                </a:lnTo>
                <a:lnTo>
                  <a:pt x="29" y="381"/>
                </a:lnTo>
                <a:lnTo>
                  <a:pt x="32" y="377"/>
                </a:lnTo>
                <a:lnTo>
                  <a:pt x="33" y="374"/>
                </a:lnTo>
                <a:lnTo>
                  <a:pt x="36" y="371"/>
                </a:lnTo>
                <a:lnTo>
                  <a:pt x="39" y="368"/>
                </a:lnTo>
                <a:lnTo>
                  <a:pt x="42" y="365"/>
                </a:lnTo>
                <a:lnTo>
                  <a:pt x="45" y="362"/>
                </a:lnTo>
                <a:lnTo>
                  <a:pt x="48" y="359"/>
                </a:lnTo>
                <a:lnTo>
                  <a:pt x="49" y="356"/>
                </a:lnTo>
                <a:lnTo>
                  <a:pt x="52" y="351"/>
                </a:lnTo>
                <a:lnTo>
                  <a:pt x="55" y="350"/>
                </a:lnTo>
                <a:lnTo>
                  <a:pt x="58" y="345"/>
                </a:lnTo>
                <a:lnTo>
                  <a:pt x="61" y="342"/>
                </a:lnTo>
                <a:lnTo>
                  <a:pt x="63" y="339"/>
                </a:lnTo>
                <a:lnTo>
                  <a:pt x="66" y="336"/>
                </a:lnTo>
                <a:lnTo>
                  <a:pt x="69" y="333"/>
                </a:lnTo>
                <a:lnTo>
                  <a:pt x="72" y="330"/>
                </a:lnTo>
                <a:lnTo>
                  <a:pt x="75" y="327"/>
                </a:lnTo>
                <a:lnTo>
                  <a:pt x="78" y="324"/>
                </a:lnTo>
                <a:lnTo>
                  <a:pt x="79" y="321"/>
                </a:lnTo>
                <a:lnTo>
                  <a:pt x="82" y="318"/>
                </a:lnTo>
                <a:lnTo>
                  <a:pt x="85" y="315"/>
                </a:lnTo>
                <a:lnTo>
                  <a:pt x="88" y="312"/>
                </a:lnTo>
                <a:lnTo>
                  <a:pt x="91" y="309"/>
                </a:lnTo>
                <a:lnTo>
                  <a:pt x="94" y="306"/>
                </a:lnTo>
                <a:lnTo>
                  <a:pt x="96" y="303"/>
                </a:lnTo>
                <a:lnTo>
                  <a:pt x="99" y="300"/>
                </a:lnTo>
                <a:lnTo>
                  <a:pt x="102" y="297"/>
                </a:lnTo>
                <a:lnTo>
                  <a:pt x="105" y="294"/>
                </a:lnTo>
                <a:lnTo>
                  <a:pt x="108" y="291"/>
                </a:lnTo>
                <a:lnTo>
                  <a:pt x="109" y="288"/>
                </a:lnTo>
                <a:lnTo>
                  <a:pt x="112" y="286"/>
                </a:lnTo>
                <a:lnTo>
                  <a:pt x="115" y="283"/>
                </a:lnTo>
                <a:lnTo>
                  <a:pt x="118" y="280"/>
                </a:lnTo>
                <a:lnTo>
                  <a:pt x="121" y="277"/>
                </a:lnTo>
                <a:lnTo>
                  <a:pt x="124" y="274"/>
                </a:lnTo>
                <a:lnTo>
                  <a:pt x="127" y="272"/>
                </a:lnTo>
                <a:lnTo>
                  <a:pt x="129" y="269"/>
                </a:lnTo>
                <a:lnTo>
                  <a:pt x="132" y="266"/>
                </a:lnTo>
                <a:lnTo>
                  <a:pt x="135" y="263"/>
                </a:lnTo>
                <a:lnTo>
                  <a:pt x="138" y="260"/>
                </a:lnTo>
                <a:lnTo>
                  <a:pt x="141" y="257"/>
                </a:lnTo>
                <a:lnTo>
                  <a:pt x="144" y="254"/>
                </a:lnTo>
                <a:lnTo>
                  <a:pt x="145" y="251"/>
                </a:lnTo>
                <a:lnTo>
                  <a:pt x="148" y="248"/>
                </a:lnTo>
                <a:lnTo>
                  <a:pt x="151" y="247"/>
                </a:lnTo>
                <a:lnTo>
                  <a:pt x="154" y="244"/>
                </a:lnTo>
                <a:lnTo>
                  <a:pt x="157" y="241"/>
                </a:lnTo>
                <a:lnTo>
                  <a:pt x="159" y="238"/>
                </a:lnTo>
                <a:lnTo>
                  <a:pt x="161" y="235"/>
                </a:lnTo>
                <a:lnTo>
                  <a:pt x="164" y="233"/>
                </a:lnTo>
                <a:lnTo>
                  <a:pt x="167" y="230"/>
                </a:lnTo>
                <a:lnTo>
                  <a:pt x="170" y="227"/>
                </a:lnTo>
                <a:lnTo>
                  <a:pt x="173" y="224"/>
                </a:lnTo>
                <a:lnTo>
                  <a:pt x="175" y="221"/>
                </a:lnTo>
                <a:lnTo>
                  <a:pt x="178" y="218"/>
                </a:lnTo>
                <a:lnTo>
                  <a:pt x="181" y="217"/>
                </a:lnTo>
                <a:lnTo>
                  <a:pt x="184" y="214"/>
                </a:lnTo>
                <a:lnTo>
                  <a:pt x="187" y="211"/>
                </a:lnTo>
                <a:lnTo>
                  <a:pt x="190" y="208"/>
                </a:lnTo>
                <a:lnTo>
                  <a:pt x="193" y="206"/>
                </a:lnTo>
                <a:lnTo>
                  <a:pt x="194" y="203"/>
                </a:lnTo>
                <a:lnTo>
                  <a:pt x="197" y="200"/>
                </a:lnTo>
                <a:lnTo>
                  <a:pt x="200" y="197"/>
                </a:lnTo>
                <a:lnTo>
                  <a:pt x="203" y="196"/>
                </a:lnTo>
                <a:lnTo>
                  <a:pt x="206" y="193"/>
                </a:lnTo>
                <a:lnTo>
                  <a:pt x="209" y="190"/>
                </a:lnTo>
                <a:lnTo>
                  <a:pt x="211" y="187"/>
                </a:lnTo>
                <a:lnTo>
                  <a:pt x="214" y="185"/>
                </a:lnTo>
                <a:lnTo>
                  <a:pt x="217" y="182"/>
                </a:lnTo>
                <a:lnTo>
                  <a:pt x="220" y="179"/>
                </a:lnTo>
                <a:lnTo>
                  <a:pt x="223" y="178"/>
                </a:lnTo>
                <a:lnTo>
                  <a:pt x="224" y="175"/>
                </a:lnTo>
                <a:lnTo>
                  <a:pt x="227" y="172"/>
                </a:lnTo>
                <a:lnTo>
                  <a:pt x="230" y="170"/>
                </a:lnTo>
                <a:lnTo>
                  <a:pt x="233" y="167"/>
                </a:lnTo>
                <a:lnTo>
                  <a:pt x="236" y="164"/>
                </a:lnTo>
                <a:lnTo>
                  <a:pt x="239" y="161"/>
                </a:lnTo>
                <a:lnTo>
                  <a:pt x="241" y="160"/>
                </a:lnTo>
                <a:lnTo>
                  <a:pt x="244" y="157"/>
                </a:lnTo>
                <a:lnTo>
                  <a:pt x="247" y="154"/>
                </a:lnTo>
                <a:lnTo>
                  <a:pt x="250" y="152"/>
                </a:lnTo>
                <a:lnTo>
                  <a:pt x="253" y="149"/>
                </a:lnTo>
                <a:lnTo>
                  <a:pt x="256" y="146"/>
                </a:lnTo>
                <a:lnTo>
                  <a:pt x="259" y="145"/>
                </a:lnTo>
                <a:lnTo>
                  <a:pt x="260" y="142"/>
                </a:lnTo>
                <a:lnTo>
                  <a:pt x="263" y="140"/>
                </a:lnTo>
                <a:lnTo>
                  <a:pt x="266" y="137"/>
                </a:lnTo>
                <a:lnTo>
                  <a:pt x="269" y="134"/>
                </a:lnTo>
                <a:lnTo>
                  <a:pt x="271" y="133"/>
                </a:lnTo>
                <a:lnTo>
                  <a:pt x="274" y="130"/>
                </a:lnTo>
                <a:lnTo>
                  <a:pt x="277" y="128"/>
                </a:lnTo>
                <a:lnTo>
                  <a:pt x="279" y="125"/>
                </a:lnTo>
                <a:lnTo>
                  <a:pt x="282" y="122"/>
                </a:lnTo>
                <a:lnTo>
                  <a:pt x="285" y="121"/>
                </a:lnTo>
                <a:lnTo>
                  <a:pt x="288" y="118"/>
                </a:lnTo>
                <a:lnTo>
                  <a:pt x="290" y="116"/>
                </a:lnTo>
                <a:lnTo>
                  <a:pt x="293" y="113"/>
                </a:lnTo>
                <a:lnTo>
                  <a:pt x="296" y="112"/>
                </a:lnTo>
                <a:lnTo>
                  <a:pt x="299" y="109"/>
                </a:lnTo>
                <a:lnTo>
                  <a:pt x="302" y="107"/>
                </a:lnTo>
                <a:lnTo>
                  <a:pt x="305" y="104"/>
                </a:lnTo>
                <a:lnTo>
                  <a:pt x="306" y="101"/>
                </a:lnTo>
                <a:lnTo>
                  <a:pt x="309" y="100"/>
                </a:lnTo>
                <a:lnTo>
                  <a:pt x="312" y="97"/>
                </a:lnTo>
                <a:lnTo>
                  <a:pt x="315" y="95"/>
                </a:lnTo>
                <a:lnTo>
                  <a:pt x="318" y="94"/>
                </a:lnTo>
                <a:lnTo>
                  <a:pt x="320" y="91"/>
                </a:lnTo>
                <a:lnTo>
                  <a:pt x="323" y="89"/>
                </a:lnTo>
                <a:lnTo>
                  <a:pt x="326" y="86"/>
                </a:lnTo>
                <a:lnTo>
                  <a:pt x="329" y="83"/>
                </a:lnTo>
                <a:lnTo>
                  <a:pt x="332" y="82"/>
                </a:lnTo>
                <a:lnTo>
                  <a:pt x="335" y="80"/>
                </a:lnTo>
                <a:lnTo>
                  <a:pt x="336" y="77"/>
                </a:lnTo>
                <a:lnTo>
                  <a:pt x="339" y="76"/>
                </a:lnTo>
                <a:lnTo>
                  <a:pt x="342" y="73"/>
                </a:lnTo>
                <a:lnTo>
                  <a:pt x="345" y="71"/>
                </a:lnTo>
                <a:lnTo>
                  <a:pt x="348" y="68"/>
                </a:lnTo>
                <a:lnTo>
                  <a:pt x="351" y="67"/>
                </a:lnTo>
                <a:lnTo>
                  <a:pt x="354" y="64"/>
                </a:lnTo>
                <a:lnTo>
                  <a:pt x="356" y="62"/>
                </a:lnTo>
                <a:lnTo>
                  <a:pt x="359" y="61"/>
                </a:lnTo>
                <a:lnTo>
                  <a:pt x="362" y="58"/>
                </a:lnTo>
                <a:lnTo>
                  <a:pt x="365" y="56"/>
                </a:lnTo>
                <a:lnTo>
                  <a:pt x="368" y="53"/>
                </a:lnTo>
                <a:lnTo>
                  <a:pt x="371" y="52"/>
                </a:lnTo>
                <a:lnTo>
                  <a:pt x="372" y="50"/>
                </a:lnTo>
                <a:lnTo>
                  <a:pt x="375" y="47"/>
                </a:lnTo>
                <a:lnTo>
                  <a:pt x="378" y="46"/>
                </a:lnTo>
                <a:lnTo>
                  <a:pt x="381" y="44"/>
                </a:lnTo>
                <a:lnTo>
                  <a:pt x="383" y="42"/>
                </a:lnTo>
                <a:lnTo>
                  <a:pt x="386" y="40"/>
                </a:lnTo>
                <a:lnTo>
                  <a:pt x="389" y="39"/>
                </a:lnTo>
                <a:lnTo>
                  <a:pt x="392" y="36"/>
                </a:lnTo>
                <a:lnTo>
                  <a:pt x="395" y="34"/>
                </a:lnTo>
                <a:lnTo>
                  <a:pt x="397" y="33"/>
                </a:lnTo>
                <a:lnTo>
                  <a:pt x="400" y="30"/>
                </a:lnTo>
                <a:lnTo>
                  <a:pt x="402" y="28"/>
                </a:lnTo>
                <a:lnTo>
                  <a:pt x="405" y="25"/>
                </a:lnTo>
                <a:lnTo>
                  <a:pt x="408" y="24"/>
                </a:lnTo>
                <a:lnTo>
                  <a:pt x="411" y="22"/>
                </a:lnTo>
                <a:lnTo>
                  <a:pt x="414" y="21"/>
                </a:lnTo>
                <a:lnTo>
                  <a:pt x="417" y="18"/>
                </a:lnTo>
                <a:lnTo>
                  <a:pt x="418" y="16"/>
                </a:lnTo>
                <a:lnTo>
                  <a:pt x="421" y="15"/>
                </a:lnTo>
                <a:lnTo>
                  <a:pt x="424" y="13"/>
                </a:lnTo>
                <a:lnTo>
                  <a:pt x="427" y="10"/>
                </a:lnTo>
                <a:lnTo>
                  <a:pt x="430" y="9"/>
                </a:lnTo>
                <a:lnTo>
                  <a:pt x="432" y="7"/>
                </a:lnTo>
                <a:lnTo>
                  <a:pt x="435" y="6"/>
                </a:lnTo>
                <a:lnTo>
                  <a:pt x="438" y="3"/>
                </a:lnTo>
                <a:lnTo>
                  <a:pt x="441" y="1"/>
                </a:lnTo>
                <a:lnTo>
                  <a:pt x="444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1303200" y="4937040"/>
            <a:ext cx="3348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1274760" y="4684680"/>
            <a:ext cx="61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1303200" y="4437000"/>
            <a:ext cx="3348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1274760" y="4184640"/>
            <a:ext cx="619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1303200" y="3932280"/>
            <a:ext cx="3348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274760" y="3679920"/>
            <a:ext cx="6192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303200" y="3433680"/>
            <a:ext cx="3348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1274760" y="3182760"/>
            <a:ext cx="61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1303200" y="2930400"/>
            <a:ext cx="3348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1274760" y="2679840"/>
            <a:ext cx="619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 flipV="1">
            <a:off x="1336680" y="2679480"/>
            <a:ext cx="3240" cy="25081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 flipV="1">
            <a:off x="1336680" y="5159160"/>
            <a:ext cx="3240" cy="37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 flipV="1">
            <a:off x="2139840" y="5159160"/>
            <a:ext cx="3240" cy="745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 flipV="1">
            <a:off x="2941560" y="5159160"/>
            <a:ext cx="1800" cy="37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3741840" y="5159160"/>
            <a:ext cx="1440" cy="745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 flipV="1">
            <a:off x="4545000" y="5159160"/>
            <a:ext cx="1440" cy="37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1336680" y="5159520"/>
            <a:ext cx="3208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1274760" y="5159520"/>
            <a:ext cx="619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 flipV="1">
            <a:off x="1719360" y="5176800"/>
            <a:ext cx="1440" cy="36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V="1">
            <a:off x="2525760" y="5176800"/>
            <a:ext cx="1440" cy="36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3335400" y="5176800"/>
            <a:ext cx="1440" cy="36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V="1">
            <a:off x="4140360" y="5176800"/>
            <a:ext cx="1440" cy="36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6" name=""/>
          <p:cNvGrpSpPr/>
          <p:nvPr/>
        </p:nvGrpSpPr>
        <p:grpSpPr>
          <a:xfrm>
            <a:off x="5380200" y="2668320"/>
            <a:ext cx="3557520" cy="2589120"/>
            <a:chOff x="5380200" y="2668320"/>
            <a:chExt cx="3557520" cy="2589120"/>
          </a:xfrm>
        </p:grpSpPr>
        <p:sp>
          <p:nvSpPr>
            <p:cNvPr id="5777" name=""/>
            <p:cNvSpPr/>
            <p:nvPr/>
          </p:nvSpPr>
          <p:spPr>
            <a:xfrm>
              <a:off x="5419800" y="4946040"/>
              <a:ext cx="36360" cy="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388120" y="4693680"/>
              <a:ext cx="680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419800" y="4439880"/>
              <a:ext cx="36360" cy="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388120" y="4189320"/>
              <a:ext cx="6804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419800" y="3934080"/>
              <a:ext cx="363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388120" y="3678840"/>
              <a:ext cx="6804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419800" y="3428280"/>
              <a:ext cx="3636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388120" y="3171600"/>
              <a:ext cx="68040" cy="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419800" y="2916360"/>
              <a:ext cx="36360" cy="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380200" y="2669760"/>
              <a:ext cx="680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V="1">
              <a:off x="5456160" y="2668320"/>
              <a:ext cx="1800" cy="2532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521320" y="2668680"/>
              <a:ext cx="2657520" cy="2100240"/>
            </a:xfrm>
            <a:custGeom>
              <a:avLst/>
              <a:gdLst/>
              <a:ahLst/>
              <a:rect l="l" t="t" r="r" b="b"/>
              <a:pathLst>
                <a:path w="1262" h="915">
                  <a:moveTo>
                    <a:pt x="0" y="0"/>
                  </a:moveTo>
                  <a:lnTo>
                    <a:pt x="2" y="13"/>
                  </a:lnTo>
                  <a:lnTo>
                    <a:pt x="5" y="33"/>
                  </a:lnTo>
                  <a:lnTo>
                    <a:pt x="8" y="54"/>
                  </a:lnTo>
                  <a:lnTo>
                    <a:pt x="9" y="73"/>
                  </a:lnTo>
                  <a:lnTo>
                    <a:pt x="12" y="93"/>
                  </a:lnTo>
                  <a:lnTo>
                    <a:pt x="15" y="111"/>
                  </a:lnTo>
                  <a:lnTo>
                    <a:pt x="18" y="130"/>
                  </a:lnTo>
                  <a:lnTo>
                    <a:pt x="21" y="148"/>
                  </a:lnTo>
                  <a:lnTo>
                    <a:pt x="23" y="166"/>
                  </a:lnTo>
                  <a:lnTo>
                    <a:pt x="26" y="184"/>
                  </a:lnTo>
                  <a:lnTo>
                    <a:pt x="29" y="201"/>
                  </a:lnTo>
                  <a:lnTo>
                    <a:pt x="32" y="219"/>
                  </a:lnTo>
                  <a:lnTo>
                    <a:pt x="35" y="235"/>
                  </a:lnTo>
                  <a:lnTo>
                    <a:pt x="37" y="251"/>
                  </a:lnTo>
                  <a:lnTo>
                    <a:pt x="39" y="268"/>
                  </a:lnTo>
                  <a:lnTo>
                    <a:pt x="42" y="284"/>
                  </a:lnTo>
                  <a:lnTo>
                    <a:pt x="45" y="299"/>
                  </a:lnTo>
                  <a:lnTo>
                    <a:pt x="48" y="314"/>
                  </a:lnTo>
                  <a:lnTo>
                    <a:pt x="51" y="331"/>
                  </a:lnTo>
                  <a:lnTo>
                    <a:pt x="54" y="344"/>
                  </a:lnTo>
                  <a:lnTo>
                    <a:pt x="57" y="359"/>
                  </a:lnTo>
                  <a:lnTo>
                    <a:pt x="58" y="374"/>
                  </a:lnTo>
                  <a:lnTo>
                    <a:pt x="61" y="389"/>
                  </a:lnTo>
                  <a:lnTo>
                    <a:pt x="64" y="403"/>
                  </a:lnTo>
                  <a:lnTo>
                    <a:pt x="67" y="416"/>
                  </a:lnTo>
                  <a:lnTo>
                    <a:pt x="69" y="430"/>
                  </a:lnTo>
                  <a:lnTo>
                    <a:pt x="72" y="442"/>
                  </a:lnTo>
                  <a:lnTo>
                    <a:pt x="75" y="455"/>
                  </a:lnTo>
                  <a:lnTo>
                    <a:pt x="78" y="469"/>
                  </a:lnTo>
                  <a:lnTo>
                    <a:pt x="81" y="481"/>
                  </a:lnTo>
                  <a:lnTo>
                    <a:pt x="84" y="492"/>
                  </a:lnTo>
                  <a:lnTo>
                    <a:pt x="87" y="504"/>
                  </a:lnTo>
                  <a:lnTo>
                    <a:pt x="88" y="516"/>
                  </a:lnTo>
                  <a:lnTo>
                    <a:pt x="91" y="528"/>
                  </a:lnTo>
                  <a:lnTo>
                    <a:pt x="94" y="539"/>
                  </a:lnTo>
                  <a:lnTo>
                    <a:pt x="97" y="549"/>
                  </a:lnTo>
                  <a:lnTo>
                    <a:pt x="100" y="561"/>
                  </a:lnTo>
                  <a:lnTo>
                    <a:pt x="103" y="572"/>
                  </a:lnTo>
                  <a:lnTo>
                    <a:pt x="105" y="582"/>
                  </a:lnTo>
                  <a:lnTo>
                    <a:pt x="108" y="593"/>
                  </a:lnTo>
                  <a:lnTo>
                    <a:pt x="111" y="602"/>
                  </a:lnTo>
                  <a:lnTo>
                    <a:pt x="114" y="612"/>
                  </a:lnTo>
                  <a:lnTo>
                    <a:pt x="117" y="621"/>
                  </a:lnTo>
                  <a:lnTo>
                    <a:pt x="118" y="630"/>
                  </a:lnTo>
                  <a:lnTo>
                    <a:pt x="121" y="641"/>
                  </a:lnTo>
                  <a:lnTo>
                    <a:pt x="124" y="650"/>
                  </a:lnTo>
                  <a:lnTo>
                    <a:pt x="127" y="657"/>
                  </a:lnTo>
                  <a:lnTo>
                    <a:pt x="130" y="666"/>
                  </a:lnTo>
                  <a:lnTo>
                    <a:pt x="133" y="675"/>
                  </a:lnTo>
                  <a:lnTo>
                    <a:pt x="135" y="683"/>
                  </a:lnTo>
                  <a:lnTo>
                    <a:pt x="138" y="692"/>
                  </a:lnTo>
                  <a:lnTo>
                    <a:pt x="141" y="699"/>
                  </a:lnTo>
                  <a:lnTo>
                    <a:pt x="144" y="707"/>
                  </a:lnTo>
                  <a:lnTo>
                    <a:pt x="147" y="714"/>
                  </a:lnTo>
                  <a:lnTo>
                    <a:pt x="150" y="722"/>
                  </a:lnTo>
                  <a:lnTo>
                    <a:pt x="153" y="729"/>
                  </a:lnTo>
                  <a:lnTo>
                    <a:pt x="154" y="736"/>
                  </a:lnTo>
                  <a:lnTo>
                    <a:pt x="157" y="742"/>
                  </a:lnTo>
                  <a:lnTo>
                    <a:pt x="160" y="750"/>
                  </a:lnTo>
                  <a:lnTo>
                    <a:pt x="163" y="756"/>
                  </a:lnTo>
                  <a:lnTo>
                    <a:pt x="164" y="762"/>
                  </a:lnTo>
                  <a:lnTo>
                    <a:pt x="167" y="768"/>
                  </a:lnTo>
                  <a:lnTo>
                    <a:pt x="170" y="774"/>
                  </a:lnTo>
                  <a:lnTo>
                    <a:pt x="173" y="780"/>
                  </a:lnTo>
                  <a:lnTo>
                    <a:pt x="176" y="786"/>
                  </a:lnTo>
                  <a:lnTo>
                    <a:pt x="179" y="792"/>
                  </a:lnTo>
                  <a:lnTo>
                    <a:pt x="181" y="796"/>
                  </a:lnTo>
                  <a:lnTo>
                    <a:pt x="184" y="802"/>
                  </a:lnTo>
                  <a:lnTo>
                    <a:pt x="187" y="808"/>
                  </a:lnTo>
                  <a:lnTo>
                    <a:pt x="190" y="813"/>
                  </a:lnTo>
                  <a:lnTo>
                    <a:pt x="193" y="817"/>
                  </a:lnTo>
                  <a:lnTo>
                    <a:pt x="196" y="822"/>
                  </a:lnTo>
                  <a:lnTo>
                    <a:pt x="197" y="826"/>
                  </a:lnTo>
                  <a:lnTo>
                    <a:pt x="200" y="831"/>
                  </a:lnTo>
                  <a:lnTo>
                    <a:pt x="203" y="835"/>
                  </a:lnTo>
                  <a:lnTo>
                    <a:pt x="206" y="840"/>
                  </a:lnTo>
                  <a:lnTo>
                    <a:pt x="209" y="843"/>
                  </a:lnTo>
                  <a:lnTo>
                    <a:pt x="211" y="847"/>
                  </a:lnTo>
                  <a:lnTo>
                    <a:pt x="214" y="852"/>
                  </a:lnTo>
                  <a:lnTo>
                    <a:pt x="217" y="855"/>
                  </a:lnTo>
                  <a:lnTo>
                    <a:pt x="220" y="858"/>
                  </a:lnTo>
                  <a:lnTo>
                    <a:pt x="223" y="862"/>
                  </a:lnTo>
                  <a:lnTo>
                    <a:pt x="226" y="865"/>
                  </a:lnTo>
                  <a:lnTo>
                    <a:pt x="229" y="868"/>
                  </a:lnTo>
                  <a:lnTo>
                    <a:pt x="230" y="871"/>
                  </a:lnTo>
                  <a:lnTo>
                    <a:pt x="233" y="874"/>
                  </a:lnTo>
                  <a:lnTo>
                    <a:pt x="236" y="877"/>
                  </a:lnTo>
                  <a:lnTo>
                    <a:pt x="239" y="879"/>
                  </a:lnTo>
                  <a:lnTo>
                    <a:pt x="242" y="882"/>
                  </a:lnTo>
                  <a:lnTo>
                    <a:pt x="245" y="885"/>
                  </a:lnTo>
                  <a:lnTo>
                    <a:pt x="247" y="886"/>
                  </a:lnTo>
                  <a:lnTo>
                    <a:pt x="250" y="889"/>
                  </a:lnTo>
                  <a:lnTo>
                    <a:pt x="253" y="891"/>
                  </a:lnTo>
                  <a:lnTo>
                    <a:pt x="256" y="894"/>
                  </a:lnTo>
                  <a:lnTo>
                    <a:pt x="259" y="895"/>
                  </a:lnTo>
                  <a:lnTo>
                    <a:pt x="260" y="897"/>
                  </a:lnTo>
                  <a:lnTo>
                    <a:pt x="263" y="898"/>
                  </a:lnTo>
                  <a:lnTo>
                    <a:pt x="266" y="900"/>
                  </a:lnTo>
                  <a:lnTo>
                    <a:pt x="269" y="903"/>
                  </a:lnTo>
                  <a:lnTo>
                    <a:pt x="272" y="904"/>
                  </a:lnTo>
                  <a:lnTo>
                    <a:pt x="275" y="904"/>
                  </a:lnTo>
                  <a:lnTo>
                    <a:pt x="276" y="906"/>
                  </a:lnTo>
                  <a:lnTo>
                    <a:pt x="279" y="907"/>
                  </a:lnTo>
                  <a:lnTo>
                    <a:pt x="282" y="909"/>
                  </a:lnTo>
                  <a:lnTo>
                    <a:pt x="285" y="909"/>
                  </a:lnTo>
                  <a:lnTo>
                    <a:pt x="288" y="910"/>
                  </a:lnTo>
                  <a:lnTo>
                    <a:pt x="291" y="910"/>
                  </a:lnTo>
                  <a:lnTo>
                    <a:pt x="294" y="912"/>
                  </a:lnTo>
                  <a:lnTo>
                    <a:pt x="296" y="912"/>
                  </a:lnTo>
                  <a:lnTo>
                    <a:pt x="299" y="913"/>
                  </a:lnTo>
                  <a:lnTo>
                    <a:pt x="302" y="913"/>
                  </a:lnTo>
                  <a:lnTo>
                    <a:pt x="305" y="913"/>
                  </a:lnTo>
                  <a:lnTo>
                    <a:pt x="308" y="913"/>
                  </a:lnTo>
                  <a:lnTo>
                    <a:pt x="311" y="915"/>
                  </a:lnTo>
                  <a:lnTo>
                    <a:pt x="312" y="915"/>
                  </a:lnTo>
                  <a:lnTo>
                    <a:pt x="315" y="915"/>
                  </a:lnTo>
                  <a:lnTo>
                    <a:pt x="318" y="915"/>
                  </a:lnTo>
                  <a:lnTo>
                    <a:pt x="321" y="915"/>
                  </a:lnTo>
                  <a:lnTo>
                    <a:pt x="324" y="915"/>
                  </a:lnTo>
                  <a:lnTo>
                    <a:pt x="327" y="913"/>
                  </a:lnTo>
                  <a:lnTo>
                    <a:pt x="330" y="913"/>
                  </a:lnTo>
                  <a:lnTo>
                    <a:pt x="332" y="913"/>
                  </a:lnTo>
                  <a:lnTo>
                    <a:pt x="335" y="913"/>
                  </a:lnTo>
                  <a:lnTo>
                    <a:pt x="338" y="912"/>
                  </a:lnTo>
                  <a:lnTo>
                    <a:pt x="341" y="912"/>
                  </a:lnTo>
                  <a:lnTo>
                    <a:pt x="342" y="912"/>
                  </a:lnTo>
                  <a:lnTo>
                    <a:pt x="345" y="910"/>
                  </a:lnTo>
                  <a:lnTo>
                    <a:pt x="348" y="910"/>
                  </a:lnTo>
                  <a:lnTo>
                    <a:pt x="351" y="909"/>
                  </a:lnTo>
                  <a:lnTo>
                    <a:pt x="354" y="909"/>
                  </a:lnTo>
                  <a:lnTo>
                    <a:pt x="357" y="907"/>
                  </a:lnTo>
                  <a:lnTo>
                    <a:pt x="360" y="906"/>
                  </a:lnTo>
                  <a:lnTo>
                    <a:pt x="362" y="906"/>
                  </a:lnTo>
                  <a:lnTo>
                    <a:pt x="365" y="904"/>
                  </a:lnTo>
                  <a:lnTo>
                    <a:pt x="368" y="903"/>
                  </a:lnTo>
                  <a:lnTo>
                    <a:pt x="371" y="901"/>
                  </a:lnTo>
                  <a:lnTo>
                    <a:pt x="374" y="901"/>
                  </a:lnTo>
                  <a:lnTo>
                    <a:pt x="377" y="900"/>
                  </a:lnTo>
                  <a:lnTo>
                    <a:pt x="378" y="898"/>
                  </a:lnTo>
                  <a:lnTo>
                    <a:pt x="381" y="897"/>
                  </a:lnTo>
                  <a:lnTo>
                    <a:pt x="384" y="895"/>
                  </a:lnTo>
                  <a:lnTo>
                    <a:pt x="387" y="894"/>
                  </a:lnTo>
                  <a:lnTo>
                    <a:pt x="390" y="892"/>
                  </a:lnTo>
                  <a:lnTo>
                    <a:pt x="393" y="891"/>
                  </a:lnTo>
                  <a:lnTo>
                    <a:pt x="396" y="889"/>
                  </a:lnTo>
                  <a:lnTo>
                    <a:pt x="397" y="886"/>
                  </a:lnTo>
                  <a:lnTo>
                    <a:pt x="400" y="885"/>
                  </a:lnTo>
                  <a:lnTo>
                    <a:pt x="403" y="883"/>
                  </a:lnTo>
                  <a:lnTo>
                    <a:pt x="406" y="882"/>
                  </a:lnTo>
                  <a:lnTo>
                    <a:pt x="408" y="880"/>
                  </a:lnTo>
                  <a:lnTo>
                    <a:pt x="411" y="879"/>
                  </a:lnTo>
                  <a:lnTo>
                    <a:pt x="414" y="876"/>
                  </a:lnTo>
                  <a:lnTo>
                    <a:pt x="417" y="874"/>
                  </a:lnTo>
                  <a:lnTo>
                    <a:pt x="420" y="873"/>
                  </a:lnTo>
                  <a:lnTo>
                    <a:pt x="423" y="870"/>
                  </a:lnTo>
                  <a:lnTo>
                    <a:pt x="426" y="868"/>
                  </a:lnTo>
                  <a:lnTo>
                    <a:pt x="427" y="865"/>
                  </a:lnTo>
                  <a:lnTo>
                    <a:pt x="430" y="864"/>
                  </a:lnTo>
                  <a:lnTo>
                    <a:pt x="433" y="861"/>
                  </a:lnTo>
                  <a:lnTo>
                    <a:pt x="436" y="859"/>
                  </a:lnTo>
                  <a:lnTo>
                    <a:pt x="439" y="856"/>
                  </a:lnTo>
                  <a:lnTo>
                    <a:pt x="442" y="855"/>
                  </a:lnTo>
                  <a:lnTo>
                    <a:pt x="444" y="852"/>
                  </a:lnTo>
                  <a:lnTo>
                    <a:pt x="447" y="849"/>
                  </a:lnTo>
                  <a:lnTo>
                    <a:pt x="450" y="847"/>
                  </a:lnTo>
                  <a:lnTo>
                    <a:pt x="453" y="844"/>
                  </a:lnTo>
                  <a:lnTo>
                    <a:pt x="456" y="841"/>
                  </a:lnTo>
                  <a:lnTo>
                    <a:pt x="457" y="840"/>
                  </a:lnTo>
                  <a:lnTo>
                    <a:pt x="460" y="837"/>
                  </a:lnTo>
                  <a:lnTo>
                    <a:pt x="463" y="834"/>
                  </a:lnTo>
                  <a:lnTo>
                    <a:pt x="466" y="832"/>
                  </a:lnTo>
                  <a:lnTo>
                    <a:pt x="469" y="829"/>
                  </a:lnTo>
                  <a:lnTo>
                    <a:pt x="472" y="826"/>
                  </a:lnTo>
                  <a:lnTo>
                    <a:pt x="474" y="823"/>
                  </a:lnTo>
                  <a:lnTo>
                    <a:pt x="477" y="822"/>
                  </a:lnTo>
                  <a:lnTo>
                    <a:pt x="480" y="819"/>
                  </a:lnTo>
                  <a:lnTo>
                    <a:pt x="483" y="816"/>
                  </a:lnTo>
                  <a:lnTo>
                    <a:pt x="486" y="813"/>
                  </a:lnTo>
                  <a:lnTo>
                    <a:pt x="489" y="810"/>
                  </a:lnTo>
                  <a:lnTo>
                    <a:pt x="492" y="807"/>
                  </a:lnTo>
                  <a:lnTo>
                    <a:pt x="493" y="804"/>
                  </a:lnTo>
                  <a:lnTo>
                    <a:pt x="496" y="801"/>
                  </a:lnTo>
                  <a:lnTo>
                    <a:pt x="499" y="798"/>
                  </a:lnTo>
                  <a:lnTo>
                    <a:pt x="502" y="795"/>
                  </a:lnTo>
                  <a:lnTo>
                    <a:pt x="504" y="792"/>
                  </a:lnTo>
                  <a:lnTo>
                    <a:pt x="507" y="789"/>
                  </a:lnTo>
                  <a:lnTo>
                    <a:pt x="509" y="786"/>
                  </a:lnTo>
                  <a:lnTo>
                    <a:pt x="512" y="783"/>
                  </a:lnTo>
                  <a:lnTo>
                    <a:pt x="515" y="780"/>
                  </a:lnTo>
                  <a:lnTo>
                    <a:pt x="518" y="777"/>
                  </a:lnTo>
                  <a:lnTo>
                    <a:pt x="521" y="774"/>
                  </a:lnTo>
                  <a:lnTo>
                    <a:pt x="523" y="771"/>
                  </a:lnTo>
                  <a:lnTo>
                    <a:pt x="526" y="768"/>
                  </a:lnTo>
                  <a:lnTo>
                    <a:pt x="529" y="765"/>
                  </a:lnTo>
                  <a:lnTo>
                    <a:pt x="532" y="762"/>
                  </a:lnTo>
                  <a:lnTo>
                    <a:pt x="535" y="759"/>
                  </a:lnTo>
                  <a:lnTo>
                    <a:pt x="538" y="756"/>
                  </a:lnTo>
                  <a:lnTo>
                    <a:pt x="539" y="751"/>
                  </a:lnTo>
                  <a:lnTo>
                    <a:pt x="542" y="748"/>
                  </a:lnTo>
                  <a:lnTo>
                    <a:pt x="545" y="745"/>
                  </a:lnTo>
                  <a:lnTo>
                    <a:pt x="548" y="742"/>
                  </a:lnTo>
                  <a:lnTo>
                    <a:pt x="551" y="739"/>
                  </a:lnTo>
                  <a:lnTo>
                    <a:pt x="554" y="736"/>
                  </a:lnTo>
                  <a:lnTo>
                    <a:pt x="557" y="732"/>
                  </a:lnTo>
                  <a:lnTo>
                    <a:pt x="559" y="729"/>
                  </a:lnTo>
                  <a:lnTo>
                    <a:pt x="562" y="726"/>
                  </a:lnTo>
                  <a:lnTo>
                    <a:pt x="565" y="723"/>
                  </a:lnTo>
                  <a:lnTo>
                    <a:pt x="568" y="720"/>
                  </a:lnTo>
                  <a:lnTo>
                    <a:pt x="569" y="717"/>
                  </a:lnTo>
                  <a:lnTo>
                    <a:pt x="572" y="713"/>
                  </a:lnTo>
                  <a:lnTo>
                    <a:pt x="575" y="710"/>
                  </a:lnTo>
                  <a:lnTo>
                    <a:pt x="578" y="707"/>
                  </a:lnTo>
                  <a:lnTo>
                    <a:pt x="581" y="704"/>
                  </a:lnTo>
                  <a:lnTo>
                    <a:pt x="584" y="701"/>
                  </a:lnTo>
                  <a:lnTo>
                    <a:pt x="587" y="696"/>
                  </a:lnTo>
                  <a:lnTo>
                    <a:pt x="589" y="693"/>
                  </a:lnTo>
                  <a:lnTo>
                    <a:pt x="592" y="690"/>
                  </a:lnTo>
                  <a:lnTo>
                    <a:pt x="595" y="687"/>
                  </a:lnTo>
                  <a:lnTo>
                    <a:pt x="598" y="683"/>
                  </a:lnTo>
                  <a:lnTo>
                    <a:pt x="601" y="680"/>
                  </a:lnTo>
                  <a:lnTo>
                    <a:pt x="604" y="677"/>
                  </a:lnTo>
                  <a:lnTo>
                    <a:pt x="605" y="672"/>
                  </a:lnTo>
                  <a:lnTo>
                    <a:pt x="608" y="669"/>
                  </a:lnTo>
                  <a:lnTo>
                    <a:pt x="611" y="666"/>
                  </a:lnTo>
                  <a:lnTo>
                    <a:pt x="614" y="662"/>
                  </a:lnTo>
                  <a:lnTo>
                    <a:pt x="617" y="659"/>
                  </a:lnTo>
                  <a:lnTo>
                    <a:pt x="619" y="656"/>
                  </a:lnTo>
                  <a:lnTo>
                    <a:pt x="622" y="653"/>
                  </a:lnTo>
                  <a:lnTo>
                    <a:pt x="624" y="650"/>
                  </a:lnTo>
                  <a:lnTo>
                    <a:pt x="627" y="645"/>
                  </a:lnTo>
                  <a:lnTo>
                    <a:pt x="630" y="642"/>
                  </a:lnTo>
                  <a:lnTo>
                    <a:pt x="633" y="638"/>
                  </a:lnTo>
                  <a:lnTo>
                    <a:pt x="635" y="635"/>
                  </a:lnTo>
                  <a:lnTo>
                    <a:pt x="638" y="632"/>
                  </a:lnTo>
                  <a:lnTo>
                    <a:pt x="641" y="629"/>
                  </a:lnTo>
                  <a:lnTo>
                    <a:pt x="644" y="624"/>
                  </a:lnTo>
                  <a:lnTo>
                    <a:pt x="647" y="621"/>
                  </a:lnTo>
                  <a:lnTo>
                    <a:pt x="650" y="618"/>
                  </a:lnTo>
                  <a:lnTo>
                    <a:pt x="653" y="614"/>
                  </a:lnTo>
                  <a:lnTo>
                    <a:pt x="654" y="611"/>
                  </a:lnTo>
                  <a:lnTo>
                    <a:pt x="657" y="608"/>
                  </a:lnTo>
                  <a:lnTo>
                    <a:pt x="660" y="603"/>
                  </a:lnTo>
                  <a:lnTo>
                    <a:pt x="663" y="600"/>
                  </a:lnTo>
                  <a:lnTo>
                    <a:pt x="666" y="597"/>
                  </a:lnTo>
                  <a:lnTo>
                    <a:pt x="668" y="593"/>
                  </a:lnTo>
                  <a:lnTo>
                    <a:pt x="671" y="590"/>
                  </a:lnTo>
                  <a:lnTo>
                    <a:pt x="674" y="587"/>
                  </a:lnTo>
                  <a:lnTo>
                    <a:pt x="677" y="584"/>
                  </a:lnTo>
                  <a:lnTo>
                    <a:pt x="680" y="579"/>
                  </a:lnTo>
                  <a:lnTo>
                    <a:pt x="681" y="576"/>
                  </a:lnTo>
                  <a:lnTo>
                    <a:pt x="684" y="573"/>
                  </a:lnTo>
                  <a:lnTo>
                    <a:pt x="687" y="569"/>
                  </a:lnTo>
                  <a:lnTo>
                    <a:pt x="690" y="566"/>
                  </a:lnTo>
                  <a:lnTo>
                    <a:pt x="693" y="563"/>
                  </a:lnTo>
                  <a:lnTo>
                    <a:pt x="696" y="558"/>
                  </a:lnTo>
                  <a:lnTo>
                    <a:pt x="699" y="555"/>
                  </a:lnTo>
                  <a:lnTo>
                    <a:pt x="701" y="552"/>
                  </a:lnTo>
                  <a:lnTo>
                    <a:pt x="704" y="548"/>
                  </a:lnTo>
                  <a:lnTo>
                    <a:pt x="707" y="545"/>
                  </a:lnTo>
                  <a:lnTo>
                    <a:pt x="710" y="542"/>
                  </a:lnTo>
                  <a:lnTo>
                    <a:pt x="713" y="537"/>
                  </a:lnTo>
                  <a:lnTo>
                    <a:pt x="716" y="534"/>
                  </a:lnTo>
                  <a:lnTo>
                    <a:pt x="717" y="531"/>
                  </a:lnTo>
                  <a:lnTo>
                    <a:pt x="720" y="528"/>
                  </a:lnTo>
                  <a:lnTo>
                    <a:pt x="723" y="524"/>
                  </a:lnTo>
                  <a:lnTo>
                    <a:pt x="726" y="521"/>
                  </a:lnTo>
                  <a:lnTo>
                    <a:pt x="729" y="518"/>
                  </a:lnTo>
                  <a:lnTo>
                    <a:pt x="731" y="515"/>
                  </a:lnTo>
                  <a:lnTo>
                    <a:pt x="734" y="510"/>
                  </a:lnTo>
                  <a:lnTo>
                    <a:pt x="737" y="507"/>
                  </a:lnTo>
                  <a:lnTo>
                    <a:pt x="740" y="504"/>
                  </a:lnTo>
                  <a:lnTo>
                    <a:pt x="742" y="500"/>
                  </a:lnTo>
                  <a:lnTo>
                    <a:pt x="745" y="497"/>
                  </a:lnTo>
                  <a:lnTo>
                    <a:pt x="747" y="494"/>
                  </a:lnTo>
                  <a:lnTo>
                    <a:pt x="750" y="491"/>
                  </a:lnTo>
                  <a:lnTo>
                    <a:pt x="753" y="486"/>
                  </a:lnTo>
                  <a:lnTo>
                    <a:pt x="756" y="483"/>
                  </a:lnTo>
                  <a:lnTo>
                    <a:pt x="759" y="481"/>
                  </a:lnTo>
                  <a:lnTo>
                    <a:pt x="762" y="478"/>
                  </a:lnTo>
                  <a:lnTo>
                    <a:pt x="765" y="473"/>
                  </a:lnTo>
                  <a:lnTo>
                    <a:pt x="766" y="470"/>
                  </a:lnTo>
                  <a:lnTo>
                    <a:pt x="769" y="467"/>
                  </a:lnTo>
                  <a:lnTo>
                    <a:pt x="772" y="464"/>
                  </a:lnTo>
                  <a:lnTo>
                    <a:pt x="775" y="460"/>
                  </a:lnTo>
                  <a:lnTo>
                    <a:pt x="777" y="457"/>
                  </a:lnTo>
                  <a:lnTo>
                    <a:pt x="780" y="454"/>
                  </a:lnTo>
                  <a:lnTo>
                    <a:pt x="783" y="451"/>
                  </a:lnTo>
                  <a:lnTo>
                    <a:pt x="786" y="448"/>
                  </a:lnTo>
                  <a:lnTo>
                    <a:pt x="789" y="445"/>
                  </a:lnTo>
                  <a:lnTo>
                    <a:pt x="792" y="440"/>
                  </a:lnTo>
                  <a:lnTo>
                    <a:pt x="795" y="437"/>
                  </a:lnTo>
                  <a:lnTo>
                    <a:pt x="796" y="434"/>
                  </a:lnTo>
                  <a:lnTo>
                    <a:pt x="799" y="431"/>
                  </a:lnTo>
                  <a:lnTo>
                    <a:pt x="802" y="427"/>
                  </a:lnTo>
                  <a:lnTo>
                    <a:pt x="805" y="424"/>
                  </a:lnTo>
                  <a:lnTo>
                    <a:pt x="808" y="421"/>
                  </a:lnTo>
                  <a:lnTo>
                    <a:pt x="810" y="418"/>
                  </a:lnTo>
                  <a:lnTo>
                    <a:pt x="813" y="415"/>
                  </a:lnTo>
                  <a:lnTo>
                    <a:pt x="816" y="412"/>
                  </a:lnTo>
                  <a:lnTo>
                    <a:pt x="819" y="409"/>
                  </a:lnTo>
                  <a:lnTo>
                    <a:pt x="822" y="404"/>
                  </a:lnTo>
                  <a:lnTo>
                    <a:pt x="825" y="401"/>
                  </a:lnTo>
                  <a:lnTo>
                    <a:pt x="826" y="398"/>
                  </a:lnTo>
                  <a:lnTo>
                    <a:pt x="829" y="395"/>
                  </a:lnTo>
                  <a:lnTo>
                    <a:pt x="832" y="392"/>
                  </a:lnTo>
                  <a:lnTo>
                    <a:pt x="835" y="389"/>
                  </a:lnTo>
                  <a:lnTo>
                    <a:pt x="838" y="385"/>
                  </a:lnTo>
                  <a:lnTo>
                    <a:pt x="841" y="382"/>
                  </a:lnTo>
                  <a:lnTo>
                    <a:pt x="843" y="379"/>
                  </a:lnTo>
                  <a:lnTo>
                    <a:pt x="846" y="376"/>
                  </a:lnTo>
                  <a:lnTo>
                    <a:pt x="849" y="373"/>
                  </a:lnTo>
                  <a:lnTo>
                    <a:pt x="852" y="370"/>
                  </a:lnTo>
                  <a:lnTo>
                    <a:pt x="855" y="367"/>
                  </a:lnTo>
                  <a:lnTo>
                    <a:pt x="856" y="364"/>
                  </a:lnTo>
                  <a:lnTo>
                    <a:pt x="859" y="359"/>
                  </a:lnTo>
                  <a:lnTo>
                    <a:pt x="862" y="356"/>
                  </a:lnTo>
                  <a:lnTo>
                    <a:pt x="865" y="353"/>
                  </a:lnTo>
                  <a:lnTo>
                    <a:pt x="868" y="350"/>
                  </a:lnTo>
                  <a:lnTo>
                    <a:pt x="871" y="347"/>
                  </a:lnTo>
                  <a:lnTo>
                    <a:pt x="872" y="344"/>
                  </a:lnTo>
                  <a:lnTo>
                    <a:pt x="875" y="341"/>
                  </a:lnTo>
                  <a:lnTo>
                    <a:pt x="878" y="338"/>
                  </a:lnTo>
                  <a:lnTo>
                    <a:pt x="881" y="335"/>
                  </a:lnTo>
                  <a:lnTo>
                    <a:pt x="884" y="332"/>
                  </a:lnTo>
                  <a:lnTo>
                    <a:pt x="887" y="329"/>
                  </a:lnTo>
                  <a:lnTo>
                    <a:pt x="890" y="326"/>
                  </a:lnTo>
                  <a:lnTo>
                    <a:pt x="892" y="323"/>
                  </a:lnTo>
                  <a:lnTo>
                    <a:pt x="895" y="320"/>
                  </a:lnTo>
                  <a:lnTo>
                    <a:pt x="898" y="317"/>
                  </a:lnTo>
                  <a:lnTo>
                    <a:pt x="901" y="314"/>
                  </a:lnTo>
                  <a:lnTo>
                    <a:pt x="904" y="311"/>
                  </a:lnTo>
                  <a:lnTo>
                    <a:pt x="907" y="308"/>
                  </a:lnTo>
                  <a:lnTo>
                    <a:pt x="908" y="305"/>
                  </a:lnTo>
                  <a:lnTo>
                    <a:pt x="911" y="302"/>
                  </a:lnTo>
                  <a:lnTo>
                    <a:pt x="914" y="299"/>
                  </a:lnTo>
                  <a:lnTo>
                    <a:pt x="917" y="296"/>
                  </a:lnTo>
                  <a:lnTo>
                    <a:pt x="920" y="293"/>
                  </a:lnTo>
                  <a:lnTo>
                    <a:pt x="922" y="290"/>
                  </a:lnTo>
                  <a:lnTo>
                    <a:pt x="925" y="287"/>
                  </a:lnTo>
                  <a:lnTo>
                    <a:pt x="928" y="284"/>
                  </a:lnTo>
                  <a:lnTo>
                    <a:pt x="931" y="281"/>
                  </a:lnTo>
                  <a:lnTo>
                    <a:pt x="934" y="278"/>
                  </a:lnTo>
                  <a:lnTo>
                    <a:pt x="937" y="275"/>
                  </a:lnTo>
                  <a:lnTo>
                    <a:pt x="938" y="274"/>
                  </a:lnTo>
                  <a:lnTo>
                    <a:pt x="941" y="271"/>
                  </a:lnTo>
                  <a:lnTo>
                    <a:pt x="944" y="268"/>
                  </a:lnTo>
                  <a:lnTo>
                    <a:pt x="947" y="265"/>
                  </a:lnTo>
                  <a:lnTo>
                    <a:pt x="950" y="262"/>
                  </a:lnTo>
                  <a:lnTo>
                    <a:pt x="953" y="259"/>
                  </a:lnTo>
                  <a:lnTo>
                    <a:pt x="956" y="256"/>
                  </a:lnTo>
                  <a:lnTo>
                    <a:pt x="958" y="253"/>
                  </a:lnTo>
                  <a:lnTo>
                    <a:pt x="961" y="250"/>
                  </a:lnTo>
                  <a:lnTo>
                    <a:pt x="964" y="248"/>
                  </a:lnTo>
                  <a:lnTo>
                    <a:pt x="967" y="245"/>
                  </a:lnTo>
                  <a:lnTo>
                    <a:pt x="970" y="242"/>
                  </a:lnTo>
                  <a:lnTo>
                    <a:pt x="971" y="239"/>
                  </a:lnTo>
                  <a:lnTo>
                    <a:pt x="974" y="237"/>
                  </a:lnTo>
                  <a:lnTo>
                    <a:pt x="977" y="235"/>
                  </a:lnTo>
                  <a:lnTo>
                    <a:pt x="980" y="232"/>
                  </a:lnTo>
                  <a:lnTo>
                    <a:pt x="983" y="229"/>
                  </a:lnTo>
                  <a:lnTo>
                    <a:pt x="986" y="226"/>
                  </a:lnTo>
                  <a:lnTo>
                    <a:pt x="987" y="223"/>
                  </a:lnTo>
                  <a:lnTo>
                    <a:pt x="990" y="222"/>
                  </a:lnTo>
                  <a:lnTo>
                    <a:pt x="993" y="219"/>
                  </a:lnTo>
                  <a:lnTo>
                    <a:pt x="996" y="216"/>
                  </a:lnTo>
                  <a:lnTo>
                    <a:pt x="999" y="213"/>
                  </a:lnTo>
                  <a:lnTo>
                    <a:pt x="1002" y="211"/>
                  </a:lnTo>
                  <a:lnTo>
                    <a:pt x="1004" y="208"/>
                  </a:lnTo>
                  <a:lnTo>
                    <a:pt x="1007" y="205"/>
                  </a:lnTo>
                  <a:lnTo>
                    <a:pt x="1010" y="202"/>
                  </a:lnTo>
                  <a:lnTo>
                    <a:pt x="1013" y="199"/>
                  </a:lnTo>
                  <a:lnTo>
                    <a:pt x="1016" y="198"/>
                  </a:lnTo>
                  <a:lnTo>
                    <a:pt x="1017" y="195"/>
                  </a:lnTo>
                  <a:lnTo>
                    <a:pt x="1020" y="192"/>
                  </a:lnTo>
                  <a:lnTo>
                    <a:pt x="1023" y="190"/>
                  </a:lnTo>
                  <a:lnTo>
                    <a:pt x="1026" y="187"/>
                  </a:lnTo>
                  <a:lnTo>
                    <a:pt x="1029" y="184"/>
                  </a:lnTo>
                  <a:lnTo>
                    <a:pt x="1032" y="181"/>
                  </a:lnTo>
                  <a:lnTo>
                    <a:pt x="1034" y="180"/>
                  </a:lnTo>
                  <a:lnTo>
                    <a:pt x="1037" y="177"/>
                  </a:lnTo>
                  <a:lnTo>
                    <a:pt x="1040" y="174"/>
                  </a:lnTo>
                  <a:lnTo>
                    <a:pt x="1043" y="172"/>
                  </a:lnTo>
                  <a:lnTo>
                    <a:pt x="1046" y="169"/>
                  </a:lnTo>
                  <a:lnTo>
                    <a:pt x="1049" y="166"/>
                  </a:lnTo>
                  <a:lnTo>
                    <a:pt x="1052" y="165"/>
                  </a:lnTo>
                  <a:lnTo>
                    <a:pt x="1053" y="162"/>
                  </a:lnTo>
                  <a:lnTo>
                    <a:pt x="1056" y="160"/>
                  </a:lnTo>
                  <a:lnTo>
                    <a:pt x="1059" y="157"/>
                  </a:lnTo>
                  <a:lnTo>
                    <a:pt x="1062" y="154"/>
                  </a:lnTo>
                  <a:lnTo>
                    <a:pt x="1065" y="153"/>
                  </a:lnTo>
                  <a:lnTo>
                    <a:pt x="1068" y="150"/>
                  </a:lnTo>
                  <a:lnTo>
                    <a:pt x="1070" y="147"/>
                  </a:lnTo>
                  <a:lnTo>
                    <a:pt x="1073" y="145"/>
                  </a:lnTo>
                  <a:lnTo>
                    <a:pt x="1076" y="142"/>
                  </a:lnTo>
                  <a:lnTo>
                    <a:pt x="1079" y="141"/>
                  </a:lnTo>
                  <a:lnTo>
                    <a:pt x="1082" y="138"/>
                  </a:lnTo>
                  <a:lnTo>
                    <a:pt x="1083" y="135"/>
                  </a:lnTo>
                  <a:lnTo>
                    <a:pt x="1086" y="133"/>
                  </a:lnTo>
                  <a:lnTo>
                    <a:pt x="1089" y="130"/>
                  </a:lnTo>
                  <a:lnTo>
                    <a:pt x="1092" y="129"/>
                  </a:lnTo>
                  <a:lnTo>
                    <a:pt x="1095" y="126"/>
                  </a:lnTo>
                  <a:lnTo>
                    <a:pt x="1098" y="123"/>
                  </a:lnTo>
                  <a:lnTo>
                    <a:pt x="1099" y="121"/>
                  </a:lnTo>
                  <a:lnTo>
                    <a:pt x="1102" y="118"/>
                  </a:lnTo>
                  <a:lnTo>
                    <a:pt x="1105" y="117"/>
                  </a:lnTo>
                  <a:lnTo>
                    <a:pt x="1108" y="115"/>
                  </a:lnTo>
                  <a:lnTo>
                    <a:pt x="1111" y="112"/>
                  </a:lnTo>
                  <a:lnTo>
                    <a:pt x="1114" y="109"/>
                  </a:lnTo>
                  <a:lnTo>
                    <a:pt x="1117" y="108"/>
                  </a:lnTo>
                  <a:lnTo>
                    <a:pt x="1119" y="105"/>
                  </a:lnTo>
                  <a:lnTo>
                    <a:pt x="1122" y="103"/>
                  </a:lnTo>
                  <a:lnTo>
                    <a:pt x="1125" y="100"/>
                  </a:lnTo>
                  <a:lnTo>
                    <a:pt x="1128" y="99"/>
                  </a:lnTo>
                  <a:lnTo>
                    <a:pt x="1131" y="96"/>
                  </a:lnTo>
                  <a:lnTo>
                    <a:pt x="1134" y="94"/>
                  </a:lnTo>
                  <a:lnTo>
                    <a:pt x="1135" y="91"/>
                  </a:lnTo>
                  <a:lnTo>
                    <a:pt x="1138" y="90"/>
                  </a:lnTo>
                  <a:lnTo>
                    <a:pt x="1141" y="88"/>
                  </a:lnTo>
                  <a:lnTo>
                    <a:pt x="1144" y="85"/>
                  </a:lnTo>
                  <a:lnTo>
                    <a:pt x="1147" y="84"/>
                  </a:lnTo>
                  <a:lnTo>
                    <a:pt x="1150" y="81"/>
                  </a:lnTo>
                  <a:lnTo>
                    <a:pt x="1153" y="79"/>
                  </a:lnTo>
                  <a:lnTo>
                    <a:pt x="1155" y="76"/>
                  </a:lnTo>
                  <a:lnTo>
                    <a:pt x="1158" y="75"/>
                  </a:lnTo>
                  <a:lnTo>
                    <a:pt x="1161" y="72"/>
                  </a:lnTo>
                  <a:lnTo>
                    <a:pt x="1164" y="70"/>
                  </a:lnTo>
                  <a:lnTo>
                    <a:pt x="1165" y="69"/>
                  </a:lnTo>
                  <a:lnTo>
                    <a:pt x="1168" y="66"/>
                  </a:lnTo>
                  <a:lnTo>
                    <a:pt x="1171" y="64"/>
                  </a:lnTo>
                  <a:lnTo>
                    <a:pt x="1174" y="61"/>
                  </a:lnTo>
                  <a:lnTo>
                    <a:pt x="1177" y="60"/>
                  </a:lnTo>
                  <a:lnTo>
                    <a:pt x="1180" y="58"/>
                  </a:lnTo>
                  <a:lnTo>
                    <a:pt x="1182" y="55"/>
                  </a:lnTo>
                  <a:lnTo>
                    <a:pt x="1185" y="54"/>
                  </a:lnTo>
                  <a:lnTo>
                    <a:pt x="1188" y="52"/>
                  </a:lnTo>
                  <a:lnTo>
                    <a:pt x="1191" y="49"/>
                  </a:lnTo>
                  <a:lnTo>
                    <a:pt x="1194" y="48"/>
                  </a:lnTo>
                  <a:lnTo>
                    <a:pt x="1197" y="45"/>
                  </a:lnTo>
                  <a:lnTo>
                    <a:pt x="1200" y="43"/>
                  </a:lnTo>
                  <a:lnTo>
                    <a:pt x="1201" y="42"/>
                  </a:lnTo>
                  <a:lnTo>
                    <a:pt x="1204" y="39"/>
                  </a:lnTo>
                  <a:lnTo>
                    <a:pt x="1207" y="37"/>
                  </a:lnTo>
                  <a:lnTo>
                    <a:pt x="1210" y="36"/>
                  </a:lnTo>
                  <a:lnTo>
                    <a:pt x="1213" y="33"/>
                  </a:lnTo>
                  <a:lnTo>
                    <a:pt x="1216" y="31"/>
                  </a:lnTo>
                  <a:lnTo>
                    <a:pt x="1217" y="30"/>
                  </a:lnTo>
                  <a:lnTo>
                    <a:pt x="1220" y="28"/>
                  </a:lnTo>
                  <a:lnTo>
                    <a:pt x="1223" y="25"/>
                  </a:lnTo>
                  <a:lnTo>
                    <a:pt x="1226" y="24"/>
                  </a:lnTo>
                  <a:lnTo>
                    <a:pt x="1229" y="22"/>
                  </a:lnTo>
                  <a:lnTo>
                    <a:pt x="1231" y="19"/>
                  </a:lnTo>
                  <a:lnTo>
                    <a:pt x="1234" y="18"/>
                  </a:lnTo>
                  <a:lnTo>
                    <a:pt x="1237" y="16"/>
                  </a:lnTo>
                  <a:lnTo>
                    <a:pt x="1240" y="15"/>
                  </a:lnTo>
                  <a:lnTo>
                    <a:pt x="1243" y="13"/>
                  </a:lnTo>
                  <a:lnTo>
                    <a:pt x="1246" y="10"/>
                  </a:lnTo>
                  <a:lnTo>
                    <a:pt x="1247" y="9"/>
                  </a:lnTo>
                  <a:lnTo>
                    <a:pt x="1250" y="7"/>
                  </a:lnTo>
                  <a:lnTo>
                    <a:pt x="1253" y="6"/>
                  </a:lnTo>
                  <a:lnTo>
                    <a:pt x="1256" y="3"/>
                  </a:lnTo>
                  <a:lnTo>
                    <a:pt x="1259" y="1"/>
                  </a:lnTo>
                  <a:lnTo>
                    <a:pt x="1262" y="0"/>
                  </a:lnTo>
                  <a:lnTo>
                    <a:pt x="12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533920" y="2668680"/>
              <a:ext cx="2700360" cy="2166480"/>
            </a:xfrm>
            <a:custGeom>
              <a:avLst/>
              <a:gdLst/>
              <a:ahLst/>
              <a:rect l="l" t="t" r="r" b="b"/>
              <a:pathLst>
                <a:path w="1282" h="943">
                  <a:moveTo>
                    <a:pt x="0" y="0"/>
                  </a:moveTo>
                  <a:lnTo>
                    <a:pt x="2" y="7"/>
                  </a:lnTo>
                  <a:lnTo>
                    <a:pt x="3" y="28"/>
                  </a:lnTo>
                  <a:lnTo>
                    <a:pt x="6" y="48"/>
                  </a:lnTo>
                  <a:lnTo>
                    <a:pt x="9" y="69"/>
                  </a:lnTo>
                  <a:lnTo>
                    <a:pt x="12" y="88"/>
                  </a:lnTo>
                  <a:lnTo>
                    <a:pt x="15" y="108"/>
                  </a:lnTo>
                  <a:lnTo>
                    <a:pt x="17" y="127"/>
                  </a:lnTo>
                  <a:lnTo>
                    <a:pt x="20" y="145"/>
                  </a:lnTo>
                  <a:lnTo>
                    <a:pt x="23" y="165"/>
                  </a:lnTo>
                  <a:lnTo>
                    <a:pt x="26" y="183"/>
                  </a:lnTo>
                  <a:lnTo>
                    <a:pt x="29" y="201"/>
                  </a:lnTo>
                  <a:lnTo>
                    <a:pt x="31" y="217"/>
                  </a:lnTo>
                  <a:lnTo>
                    <a:pt x="33" y="235"/>
                  </a:lnTo>
                  <a:lnTo>
                    <a:pt x="36" y="251"/>
                  </a:lnTo>
                  <a:lnTo>
                    <a:pt x="39" y="268"/>
                  </a:lnTo>
                  <a:lnTo>
                    <a:pt x="42" y="286"/>
                  </a:lnTo>
                  <a:lnTo>
                    <a:pt x="45" y="301"/>
                  </a:lnTo>
                  <a:lnTo>
                    <a:pt x="48" y="317"/>
                  </a:lnTo>
                  <a:lnTo>
                    <a:pt x="51" y="332"/>
                  </a:lnTo>
                  <a:lnTo>
                    <a:pt x="52" y="349"/>
                  </a:lnTo>
                  <a:lnTo>
                    <a:pt x="55" y="364"/>
                  </a:lnTo>
                  <a:lnTo>
                    <a:pt x="58" y="379"/>
                  </a:lnTo>
                  <a:lnTo>
                    <a:pt x="61" y="392"/>
                  </a:lnTo>
                  <a:lnTo>
                    <a:pt x="63" y="407"/>
                  </a:lnTo>
                  <a:lnTo>
                    <a:pt x="66" y="421"/>
                  </a:lnTo>
                  <a:lnTo>
                    <a:pt x="69" y="434"/>
                  </a:lnTo>
                  <a:lnTo>
                    <a:pt x="72" y="449"/>
                  </a:lnTo>
                  <a:lnTo>
                    <a:pt x="75" y="461"/>
                  </a:lnTo>
                  <a:lnTo>
                    <a:pt x="78" y="475"/>
                  </a:lnTo>
                  <a:lnTo>
                    <a:pt x="81" y="488"/>
                  </a:lnTo>
                  <a:lnTo>
                    <a:pt x="82" y="500"/>
                  </a:lnTo>
                  <a:lnTo>
                    <a:pt x="85" y="512"/>
                  </a:lnTo>
                  <a:lnTo>
                    <a:pt x="88" y="524"/>
                  </a:lnTo>
                  <a:lnTo>
                    <a:pt x="91" y="536"/>
                  </a:lnTo>
                  <a:lnTo>
                    <a:pt x="94" y="548"/>
                  </a:lnTo>
                  <a:lnTo>
                    <a:pt x="97" y="560"/>
                  </a:lnTo>
                  <a:lnTo>
                    <a:pt x="99" y="570"/>
                  </a:lnTo>
                  <a:lnTo>
                    <a:pt x="102" y="582"/>
                  </a:lnTo>
                  <a:lnTo>
                    <a:pt x="105" y="593"/>
                  </a:lnTo>
                  <a:lnTo>
                    <a:pt x="108" y="603"/>
                  </a:lnTo>
                  <a:lnTo>
                    <a:pt x="111" y="614"/>
                  </a:lnTo>
                  <a:lnTo>
                    <a:pt x="112" y="624"/>
                  </a:lnTo>
                  <a:lnTo>
                    <a:pt x="115" y="633"/>
                  </a:lnTo>
                  <a:lnTo>
                    <a:pt x="118" y="644"/>
                  </a:lnTo>
                  <a:lnTo>
                    <a:pt x="121" y="653"/>
                  </a:lnTo>
                  <a:lnTo>
                    <a:pt x="124" y="662"/>
                  </a:lnTo>
                  <a:lnTo>
                    <a:pt x="127" y="671"/>
                  </a:lnTo>
                  <a:lnTo>
                    <a:pt x="129" y="681"/>
                  </a:lnTo>
                  <a:lnTo>
                    <a:pt x="132" y="689"/>
                  </a:lnTo>
                  <a:lnTo>
                    <a:pt x="135" y="698"/>
                  </a:lnTo>
                  <a:lnTo>
                    <a:pt x="138" y="707"/>
                  </a:lnTo>
                  <a:lnTo>
                    <a:pt x="141" y="714"/>
                  </a:lnTo>
                  <a:lnTo>
                    <a:pt x="144" y="722"/>
                  </a:lnTo>
                  <a:lnTo>
                    <a:pt x="147" y="730"/>
                  </a:lnTo>
                  <a:lnTo>
                    <a:pt x="148" y="738"/>
                  </a:lnTo>
                  <a:lnTo>
                    <a:pt x="151" y="745"/>
                  </a:lnTo>
                  <a:lnTo>
                    <a:pt x="154" y="753"/>
                  </a:lnTo>
                  <a:lnTo>
                    <a:pt x="157" y="759"/>
                  </a:lnTo>
                  <a:lnTo>
                    <a:pt x="158" y="766"/>
                  </a:lnTo>
                  <a:lnTo>
                    <a:pt x="161" y="774"/>
                  </a:lnTo>
                  <a:lnTo>
                    <a:pt x="164" y="780"/>
                  </a:lnTo>
                  <a:lnTo>
                    <a:pt x="167" y="786"/>
                  </a:lnTo>
                  <a:lnTo>
                    <a:pt x="170" y="793"/>
                  </a:lnTo>
                  <a:lnTo>
                    <a:pt x="173" y="799"/>
                  </a:lnTo>
                  <a:lnTo>
                    <a:pt x="175" y="805"/>
                  </a:lnTo>
                  <a:lnTo>
                    <a:pt x="178" y="811"/>
                  </a:lnTo>
                  <a:lnTo>
                    <a:pt x="181" y="816"/>
                  </a:lnTo>
                  <a:lnTo>
                    <a:pt x="184" y="822"/>
                  </a:lnTo>
                  <a:lnTo>
                    <a:pt x="187" y="828"/>
                  </a:lnTo>
                  <a:lnTo>
                    <a:pt x="190" y="832"/>
                  </a:lnTo>
                  <a:lnTo>
                    <a:pt x="191" y="838"/>
                  </a:lnTo>
                  <a:lnTo>
                    <a:pt x="194" y="843"/>
                  </a:lnTo>
                  <a:lnTo>
                    <a:pt x="197" y="847"/>
                  </a:lnTo>
                  <a:lnTo>
                    <a:pt x="200" y="852"/>
                  </a:lnTo>
                  <a:lnTo>
                    <a:pt x="203" y="856"/>
                  </a:lnTo>
                  <a:lnTo>
                    <a:pt x="205" y="861"/>
                  </a:lnTo>
                  <a:lnTo>
                    <a:pt x="208" y="865"/>
                  </a:lnTo>
                  <a:lnTo>
                    <a:pt x="211" y="870"/>
                  </a:lnTo>
                  <a:lnTo>
                    <a:pt x="214" y="873"/>
                  </a:lnTo>
                  <a:lnTo>
                    <a:pt x="217" y="877"/>
                  </a:lnTo>
                  <a:lnTo>
                    <a:pt x="220" y="882"/>
                  </a:lnTo>
                  <a:lnTo>
                    <a:pt x="223" y="885"/>
                  </a:lnTo>
                  <a:lnTo>
                    <a:pt x="224" y="888"/>
                  </a:lnTo>
                  <a:lnTo>
                    <a:pt x="227" y="891"/>
                  </a:lnTo>
                  <a:lnTo>
                    <a:pt x="230" y="895"/>
                  </a:lnTo>
                  <a:lnTo>
                    <a:pt x="233" y="898"/>
                  </a:lnTo>
                  <a:lnTo>
                    <a:pt x="236" y="901"/>
                  </a:lnTo>
                  <a:lnTo>
                    <a:pt x="239" y="904"/>
                  </a:lnTo>
                  <a:lnTo>
                    <a:pt x="241" y="906"/>
                  </a:lnTo>
                  <a:lnTo>
                    <a:pt x="244" y="909"/>
                  </a:lnTo>
                  <a:lnTo>
                    <a:pt x="247" y="912"/>
                  </a:lnTo>
                  <a:lnTo>
                    <a:pt x="250" y="915"/>
                  </a:lnTo>
                  <a:lnTo>
                    <a:pt x="253" y="916"/>
                  </a:lnTo>
                  <a:lnTo>
                    <a:pt x="254" y="918"/>
                  </a:lnTo>
                  <a:lnTo>
                    <a:pt x="257" y="921"/>
                  </a:lnTo>
                  <a:lnTo>
                    <a:pt x="260" y="922"/>
                  </a:lnTo>
                  <a:lnTo>
                    <a:pt x="263" y="924"/>
                  </a:lnTo>
                  <a:lnTo>
                    <a:pt x="266" y="927"/>
                  </a:lnTo>
                  <a:lnTo>
                    <a:pt x="269" y="928"/>
                  </a:lnTo>
                  <a:lnTo>
                    <a:pt x="270" y="930"/>
                  </a:lnTo>
                  <a:lnTo>
                    <a:pt x="273" y="931"/>
                  </a:lnTo>
                  <a:lnTo>
                    <a:pt x="276" y="933"/>
                  </a:lnTo>
                  <a:lnTo>
                    <a:pt x="279" y="934"/>
                  </a:lnTo>
                  <a:lnTo>
                    <a:pt x="282" y="936"/>
                  </a:lnTo>
                  <a:lnTo>
                    <a:pt x="285" y="936"/>
                  </a:lnTo>
                  <a:lnTo>
                    <a:pt x="288" y="937"/>
                  </a:lnTo>
                  <a:lnTo>
                    <a:pt x="290" y="937"/>
                  </a:lnTo>
                  <a:lnTo>
                    <a:pt x="293" y="939"/>
                  </a:lnTo>
                  <a:lnTo>
                    <a:pt x="296" y="940"/>
                  </a:lnTo>
                  <a:lnTo>
                    <a:pt x="299" y="940"/>
                  </a:lnTo>
                  <a:lnTo>
                    <a:pt x="302" y="940"/>
                  </a:lnTo>
                  <a:lnTo>
                    <a:pt x="305" y="942"/>
                  </a:lnTo>
                  <a:lnTo>
                    <a:pt x="306" y="942"/>
                  </a:lnTo>
                  <a:lnTo>
                    <a:pt x="309" y="942"/>
                  </a:lnTo>
                  <a:lnTo>
                    <a:pt x="312" y="942"/>
                  </a:lnTo>
                  <a:lnTo>
                    <a:pt x="315" y="942"/>
                  </a:lnTo>
                  <a:lnTo>
                    <a:pt x="318" y="942"/>
                  </a:lnTo>
                  <a:lnTo>
                    <a:pt x="321" y="943"/>
                  </a:lnTo>
                  <a:lnTo>
                    <a:pt x="324" y="942"/>
                  </a:lnTo>
                  <a:lnTo>
                    <a:pt x="326" y="942"/>
                  </a:lnTo>
                  <a:lnTo>
                    <a:pt x="329" y="942"/>
                  </a:lnTo>
                  <a:lnTo>
                    <a:pt x="332" y="942"/>
                  </a:lnTo>
                  <a:lnTo>
                    <a:pt x="335" y="942"/>
                  </a:lnTo>
                  <a:lnTo>
                    <a:pt x="336" y="942"/>
                  </a:lnTo>
                  <a:lnTo>
                    <a:pt x="339" y="942"/>
                  </a:lnTo>
                  <a:lnTo>
                    <a:pt x="342" y="940"/>
                  </a:lnTo>
                  <a:lnTo>
                    <a:pt x="345" y="940"/>
                  </a:lnTo>
                  <a:lnTo>
                    <a:pt x="348" y="939"/>
                  </a:lnTo>
                  <a:lnTo>
                    <a:pt x="351" y="939"/>
                  </a:lnTo>
                  <a:lnTo>
                    <a:pt x="354" y="937"/>
                  </a:lnTo>
                  <a:lnTo>
                    <a:pt x="356" y="937"/>
                  </a:lnTo>
                  <a:lnTo>
                    <a:pt x="359" y="936"/>
                  </a:lnTo>
                  <a:lnTo>
                    <a:pt x="362" y="936"/>
                  </a:lnTo>
                  <a:lnTo>
                    <a:pt x="365" y="934"/>
                  </a:lnTo>
                  <a:lnTo>
                    <a:pt x="368" y="933"/>
                  </a:lnTo>
                  <a:lnTo>
                    <a:pt x="371" y="931"/>
                  </a:lnTo>
                  <a:lnTo>
                    <a:pt x="372" y="930"/>
                  </a:lnTo>
                  <a:lnTo>
                    <a:pt x="375" y="930"/>
                  </a:lnTo>
                  <a:lnTo>
                    <a:pt x="378" y="928"/>
                  </a:lnTo>
                  <a:lnTo>
                    <a:pt x="381" y="927"/>
                  </a:lnTo>
                  <a:lnTo>
                    <a:pt x="384" y="925"/>
                  </a:lnTo>
                  <a:lnTo>
                    <a:pt x="387" y="924"/>
                  </a:lnTo>
                  <a:lnTo>
                    <a:pt x="390" y="922"/>
                  </a:lnTo>
                  <a:lnTo>
                    <a:pt x="391" y="921"/>
                  </a:lnTo>
                  <a:lnTo>
                    <a:pt x="394" y="919"/>
                  </a:lnTo>
                  <a:lnTo>
                    <a:pt x="397" y="918"/>
                  </a:lnTo>
                  <a:lnTo>
                    <a:pt x="400" y="916"/>
                  </a:lnTo>
                  <a:lnTo>
                    <a:pt x="402" y="915"/>
                  </a:lnTo>
                  <a:lnTo>
                    <a:pt x="405" y="912"/>
                  </a:lnTo>
                  <a:lnTo>
                    <a:pt x="408" y="910"/>
                  </a:lnTo>
                  <a:lnTo>
                    <a:pt x="411" y="909"/>
                  </a:lnTo>
                  <a:lnTo>
                    <a:pt x="414" y="907"/>
                  </a:lnTo>
                  <a:lnTo>
                    <a:pt x="417" y="904"/>
                  </a:lnTo>
                  <a:lnTo>
                    <a:pt x="420" y="903"/>
                  </a:lnTo>
                  <a:lnTo>
                    <a:pt x="421" y="900"/>
                  </a:lnTo>
                  <a:lnTo>
                    <a:pt x="424" y="898"/>
                  </a:lnTo>
                  <a:lnTo>
                    <a:pt x="427" y="897"/>
                  </a:lnTo>
                  <a:lnTo>
                    <a:pt x="430" y="894"/>
                  </a:lnTo>
                  <a:lnTo>
                    <a:pt x="433" y="892"/>
                  </a:lnTo>
                  <a:lnTo>
                    <a:pt x="436" y="889"/>
                  </a:lnTo>
                  <a:lnTo>
                    <a:pt x="438" y="888"/>
                  </a:lnTo>
                  <a:lnTo>
                    <a:pt x="441" y="885"/>
                  </a:lnTo>
                  <a:lnTo>
                    <a:pt x="444" y="883"/>
                  </a:lnTo>
                  <a:lnTo>
                    <a:pt x="447" y="880"/>
                  </a:lnTo>
                  <a:lnTo>
                    <a:pt x="450" y="879"/>
                  </a:lnTo>
                  <a:lnTo>
                    <a:pt x="451" y="876"/>
                  </a:lnTo>
                  <a:lnTo>
                    <a:pt x="454" y="873"/>
                  </a:lnTo>
                  <a:lnTo>
                    <a:pt x="457" y="870"/>
                  </a:lnTo>
                  <a:lnTo>
                    <a:pt x="460" y="868"/>
                  </a:lnTo>
                  <a:lnTo>
                    <a:pt x="463" y="865"/>
                  </a:lnTo>
                  <a:lnTo>
                    <a:pt x="466" y="862"/>
                  </a:lnTo>
                  <a:lnTo>
                    <a:pt x="468" y="859"/>
                  </a:lnTo>
                  <a:lnTo>
                    <a:pt x="471" y="858"/>
                  </a:lnTo>
                  <a:lnTo>
                    <a:pt x="474" y="855"/>
                  </a:lnTo>
                  <a:lnTo>
                    <a:pt x="477" y="852"/>
                  </a:lnTo>
                  <a:lnTo>
                    <a:pt x="480" y="849"/>
                  </a:lnTo>
                  <a:lnTo>
                    <a:pt x="483" y="846"/>
                  </a:lnTo>
                  <a:lnTo>
                    <a:pt x="486" y="843"/>
                  </a:lnTo>
                  <a:lnTo>
                    <a:pt x="487" y="840"/>
                  </a:lnTo>
                  <a:lnTo>
                    <a:pt x="490" y="838"/>
                  </a:lnTo>
                  <a:lnTo>
                    <a:pt x="493" y="835"/>
                  </a:lnTo>
                  <a:lnTo>
                    <a:pt x="496" y="832"/>
                  </a:lnTo>
                  <a:lnTo>
                    <a:pt x="498" y="829"/>
                  </a:lnTo>
                  <a:lnTo>
                    <a:pt x="501" y="826"/>
                  </a:lnTo>
                  <a:lnTo>
                    <a:pt x="503" y="823"/>
                  </a:lnTo>
                  <a:lnTo>
                    <a:pt x="506" y="820"/>
                  </a:lnTo>
                  <a:lnTo>
                    <a:pt x="509" y="817"/>
                  </a:lnTo>
                  <a:lnTo>
                    <a:pt x="512" y="814"/>
                  </a:lnTo>
                  <a:lnTo>
                    <a:pt x="515" y="811"/>
                  </a:lnTo>
                  <a:lnTo>
                    <a:pt x="517" y="808"/>
                  </a:lnTo>
                  <a:lnTo>
                    <a:pt x="520" y="805"/>
                  </a:lnTo>
                  <a:lnTo>
                    <a:pt x="523" y="802"/>
                  </a:lnTo>
                  <a:lnTo>
                    <a:pt x="526" y="799"/>
                  </a:lnTo>
                  <a:lnTo>
                    <a:pt x="529" y="796"/>
                  </a:lnTo>
                  <a:lnTo>
                    <a:pt x="532" y="792"/>
                  </a:lnTo>
                  <a:lnTo>
                    <a:pt x="533" y="789"/>
                  </a:lnTo>
                  <a:lnTo>
                    <a:pt x="536" y="786"/>
                  </a:lnTo>
                  <a:lnTo>
                    <a:pt x="539" y="783"/>
                  </a:lnTo>
                  <a:lnTo>
                    <a:pt x="542" y="780"/>
                  </a:lnTo>
                  <a:lnTo>
                    <a:pt x="545" y="777"/>
                  </a:lnTo>
                  <a:lnTo>
                    <a:pt x="548" y="772"/>
                  </a:lnTo>
                  <a:lnTo>
                    <a:pt x="551" y="769"/>
                  </a:lnTo>
                  <a:lnTo>
                    <a:pt x="553" y="766"/>
                  </a:lnTo>
                  <a:lnTo>
                    <a:pt x="556" y="763"/>
                  </a:lnTo>
                  <a:lnTo>
                    <a:pt x="559" y="760"/>
                  </a:lnTo>
                  <a:lnTo>
                    <a:pt x="562" y="757"/>
                  </a:lnTo>
                  <a:lnTo>
                    <a:pt x="563" y="753"/>
                  </a:lnTo>
                  <a:lnTo>
                    <a:pt x="566" y="750"/>
                  </a:lnTo>
                  <a:lnTo>
                    <a:pt x="569" y="747"/>
                  </a:lnTo>
                  <a:lnTo>
                    <a:pt x="572" y="744"/>
                  </a:lnTo>
                  <a:lnTo>
                    <a:pt x="575" y="739"/>
                  </a:lnTo>
                  <a:lnTo>
                    <a:pt x="578" y="736"/>
                  </a:lnTo>
                  <a:lnTo>
                    <a:pt x="581" y="733"/>
                  </a:lnTo>
                  <a:lnTo>
                    <a:pt x="583" y="730"/>
                  </a:lnTo>
                  <a:lnTo>
                    <a:pt x="586" y="726"/>
                  </a:lnTo>
                  <a:lnTo>
                    <a:pt x="589" y="723"/>
                  </a:lnTo>
                  <a:lnTo>
                    <a:pt x="592" y="720"/>
                  </a:lnTo>
                  <a:lnTo>
                    <a:pt x="595" y="716"/>
                  </a:lnTo>
                  <a:lnTo>
                    <a:pt x="598" y="713"/>
                  </a:lnTo>
                  <a:lnTo>
                    <a:pt x="599" y="710"/>
                  </a:lnTo>
                  <a:lnTo>
                    <a:pt x="602" y="707"/>
                  </a:lnTo>
                  <a:lnTo>
                    <a:pt x="605" y="702"/>
                  </a:lnTo>
                  <a:lnTo>
                    <a:pt x="608" y="699"/>
                  </a:lnTo>
                  <a:lnTo>
                    <a:pt x="611" y="695"/>
                  </a:lnTo>
                  <a:lnTo>
                    <a:pt x="613" y="692"/>
                  </a:lnTo>
                  <a:lnTo>
                    <a:pt x="616" y="689"/>
                  </a:lnTo>
                  <a:lnTo>
                    <a:pt x="618" y="684"/>
                  </a:lnTo>
                  <a:lnTo>
                    <a:pt x="621" y="681"/>
                  </a:lnTo>
                  <a:lnTo>
                    <a:pt x="624" y="678"/>
                  </a:lnTo>
                  <a:lnTo>
                    <a:pt x="627" y="675"/>
                  </a:lnTo>
                  <a:lnTo>
                    <a:pt x="629" y="671"/>
                  </a:lnTo>
                  <a:lnTo>
                    <a:pt x="632" y="668"/>
                  </a:lnTo>
                  <a:lnTo>
                    <a:pt x="635" y="663"/>
                  </a:lnTo>
                  <a:lnTo>
                    <a:pt x="638" y="660"/>
                  </a:lnTo>
                  <a:lnTo>
                    <a:pt x="641" y="657"/>
                  </a:lnTo>
                  <a:lnTo>
                    <a:pt x="644" y="653"/>
                  </a:lnTo>
                  <a:lnTo>
                    <a:pt x="645" y="650"/>
                  </a:lnTo>
                  <a:lnTo>
                    <a:pt x="648" y="647"/>
                  </a:lnTo>
                  <a:lnTo>
                    <a:pt x="651" y="642"/>
                  </a:lnTo>
                  <a:lnTo>
                    <a:pt x="654" y="639"/>
                  </a:lnTo>
                  <a:lnTo>
                    <a:pt x="657" y="636"/>
                  </a:lnTo>
                  <a:lnTo>
                    <a:pt x="660" y="632"/>
                  </a:lnTo>
                  <a:lnTo>
                    <a:pt x="662" y="629"/>
                  </a:lnTo>
                  <a:lnTo>
                    <a:pt x="665" y="624"/>
                  </a:lnTo>
                  <a:lnTo>
                    <a:pt x="668" y="621"/>
                  </a:lnTo>
                  <a:lnTo>
                    <a:pt x="671" y="618"/>
                  </a:lnTo>
                  <a:lnTo>
                    <a:pt x="674" y="614"/>
                  </a:lnTo>
                  <a:lnTo>
                    <a:pt x="675" y="611"/>
                  </a:lnTo>
                  <a:lnTo>
                    <a:pt x="678" y="608"/>
                  </a:lnTo>
                  <a:lnTo>
                    <a:pt x="681" y="603"/>
                  </a:lnTo>
                  <a:lnTo>
                    <a:pt x="684" y="600"/>
                  </a:lnTo>
                  <a:lnTo>
                    <a:pt x="687" y="597"/>
                  </a:lnTo>
                  <a:lnTo>
                    <a:pt x="690" y="593"/>
                  </a:lnTo>
                  <a:lnTo>
                    <a:pt x="693" y="590"/>
                  </a:lnTo>
                  <a:lnTo>
                    <a:pt x="695" y="585"/>
                  </a:lnTo>
                  <a:lnTo>
                    <a:pt x="698" y="582"/>
                  </a:lnTo>
                  <a:lnTo>
                    <a:pt x="701" y="579"/>
                  </a:lnTo>
                  <a:lnTo>
                    <a:pt x="704" y="575"/>
                  </a:lnTo>
                  <a:lnTo>
                    <a:pt x="707" y="572"/>
                  </a:lnTo>
                  <a:lnTo>
                    <a:pt x="710" y="569"/>
                  </a:lnTo>
                  <a:lnTo>
                    <a:pt x="711" y="564"/>
                  </a:lnTo>
                  <a:lnTo>
                    <a:pt x="714" y="561"/>
                  </a:lnTo>
                  <a:lnTo>
                    <a:pt x="717" y="558"/>
                  </a:lnTo>
                  <a:lnTo>
                    <a:pt x="720" y="554"/>
                  </a:lnTo>
                  <a:lnTo>
                    <a:pt x="723" y="551"/>
                  </a:lnTo>
                  <a:lnTo>
                    <a:pt x="725" y="548"/>
                  </a:lnTo>
                  <a:lnTo>
                    <a:pt x="728" y="543"/>
                  </a:lnTo>
                  <a:lnTo>
                    <a:pt x="731" y="540"/>
                  </a:lnTo>
                  <a:lnTo>
                    <a:pt x="734" y="537"/>
                  </a:lnTo>
                  <a:lnTo>
                    <a:pt x="736" y="533"/>
                  </a:lnTo>
                  <a:lnTo>
                    <a:pt x="739" y="530"/>
                  </a:lnTo>
                  <a:lnTo>
                    <a:pt x="741" y="527"/>
                  </a:lnTo>
                  <a:lnTo>
                    <a:pt x="744" y="522"/>
                  </a:lnTo>
                  <a:lnTo>
                    <a:pt x="747" y="519"/>
                  </a:lnTo>
                  <a:lnTo>
                    <a:pt x="750" y="516"/>
                  </a:lnTo>
                  <a:lnTo>
                    <a:pt x="753" y="512"/>
                  </a:lnTo>
                  <a:lnTo>
                    <a:pt x="756" y="509"/>
                  </a:lnTo>
                  <a:lnTo>
                    <a:pt x="759" y="506"/>
                  </a:lnTo>
                  <a:lnTo>
                    <a:pt x="760" y="503"/>
                  </a:lnTo>
                  <a:lnTo>
                    <a:pt x="763" y="498"/>
                  </a:lnTo>
                  <a:lnTo>
                    <a:pt x="766" y="495"/>
                  </a:lnTo>
                  <a:lnTo>
                    <a:pt x="769" y="492"/>
                  </a:lnTo>
                  <a:lnTo>
                    <a:pt x="771" y="488"/>
                  </a:lnTo>
                  <a:lnTo>
                    <a:pt x="774" y="485"/>
                  </a:lnTo>
                  <a:lnTo>
                    <a:pt x="777" y="482"/>
                  </a:lnTo>
                  <a:lnTo>
                    <a:pt x="780" y="478"/>
                  </a:lnTo>
                  <a:lnTo>
                    <a:pt x="783" y="475"/>
                  </a:lnTo>
                  <a:lnTo>
                    <a:pt x="786" y="472"/>
                  </a:lnTo>
                  <a:lnTo>
                    <a:pt x="789" y="469"/>
                  </a:lnTo>
                  <a:lnTo>
                    <a:pt x="790" y="466"/>
                  </a:lnTo>
                  <a:lnTo>
                    <a:pt x="793" y="461"/>
                  </a:lnTo>
                  <a:lnTo>
                    <a:pt x="796" y="458"/>
                  </a:lnTo>
                  <a:lnTo>
                    <a:pt x="799" y="455"/>
                  </a:lnTo>
                  <a:lnTo>
                    <a:pt x="802" y="452"/>
                  </a:lnTo>
                  <a:lnTo>
                    <a:pt x="804" y="448"/>
                  </a:lnTo>
                  <a:lnTo>
                    <a:pt x="807" y="445"/>
                  </a:lnTo>
                  <a:lnTo>
                    <a:pt x="810" y="442"/>
                  </a:lnTo>
                  <a:lnTo>
                    <a:pt x="813" y="439"/>
                  </a:lnTo>
                  <a:lnTo>
                    <a:pt x="816" y="434"/>
                  </a:lnTo>
                  <a:lnTo>
                    <a:pt x="819" y="431"/>
                  </a:lnTo>
                  <a:lnTo>
                    <a:pt x="820" y="428"/>
                  </a:lnTo>
                  <a:lnTo>
                    <a:pt x="823" y="425"/>
                  </a:lnTo>
                  <a:lnTo>
                    <a:pt x="826" y="421"/>
                  </a:lnTo>
                  <a:lnTo>
                    <a:pt x="829" y="418"/>
                  </a:lnTo>
                  <a:lnTo>
                    <a:pt x="832" y="415"/>
                  </a:lnTo>
                  <a:lnTo>
                    <a:pt x="835" y="412"/>
                  </a:lnTo>
                  <a:lnTo>
                    <a:pt x="837" y="409"/>
                  </a:lnTo>
                  <a:lnTo>
                    <a:pt x="840" y="406"/>
                  </a:lnTo>
                  <a:lnTo>
                    <a:pt x="843" y="401"/>
                  </a:lnTo>
                  <a:lnTo>
                    <a:pt x="846" y="398"/>
                  </a:lnTo>
                  <a:lnTo>
                    <a:pt x="849" y="395"/>
                  </a:lnTo>
                  <a:lnTo>
                    <a:pt x="850" y="392"/>
                  </a:lnTo>
                  <a:lnTo>
                    <a:pt x="853" y="389"/>
                  </a:lnTo>
                  <a:lnTo>
                    <a:pt x="856" y="386"/>
                  </a:lnTo>
                  <a:lnTo>
                    <a:pt x="859" y="383"/>
                  </a:lnTo>
                  <a:lnTo>
                    <a:pt x="862" y="379"/>
                  </a:lnTo>
                  <a:lnTo>
                    <a:pt x="865" y="376"/>
                  </a:lnTo>
                  <a:lnTo>
                    <a:pt x="866" y="373"/>
                  </a:lnTo>
                  <a:lnTo>
                    <a:pt x="869" y="370"/>
                  </a:lnTo>
                  <a:lnTo>
                    <a:pt x="872" y="367"/>
                  </a:lnTo>
                  <a:lnTo>
                    <a:pt x="875" y="364"/>
                  </a:lnTo>
                  <a:lnTo>
                    <a:pt x="878" y="361"/>
                  </a:lnTo>
                  <a:lnTo>
                    <a:pt x="881" y="358"/>
                  </a:lnTo>
                  <a:lnTo>
                    <a:pt x="884" y="355"/>
                  </a:lnTo>
                  <a:lnTo>
                    <a:pt x="886" y="350"/>
                  </a:lnTo>
                  <a:lnTo>
                    <a:pt x="889" y="347"/>
                  </a:lnTo>
                  <a:lnTo>
                    <a:pt x="892" y="344"/>
                  </a:lnTo>
                  <a:lnTo>
                    <a:pt x="895" y="341"/>
                  </a:lnTo>
                  <a:lnTo>
                    <a:pt x="898" y="338"/>
                  </a:lnTo>
                  <a:lnTo>
                    <a:pt x="901" y="335"/>
                  </a:lnTo>
                  <a:lnTo>
                    <a:pt x="902" y="332"/>
                  </a:lnTo>
                  <a:lnTo>
                    <a:pt x="905" y="329"/>
                  </a:lnTo>
                  <a:lnTo>
                    <a:pt x="908" y="326"/>
                  </a:lnTo>
                  <a:lnTo>
                    <a:pt x="911" y="323"/>
                  </a:lnTo>
                  <a:lnTo>
                    <a:pt x="914" y="320"/>
                  </a:lnTo>
                  <a:lnTo>
                    <a:pt x="916" y="317"/>
                  </a:lnTo>
                  <a:lnTo>
                    <a:pt x="919" y="314"/>
                  </a:lnTo>
                  <a:lnTo>
                    <a:pt x="922" y="311"/>
                  </a:lnTo>
                  <a:lnTo>
                    <a:pt x="925" y="308"/>
                  </a:lnTo>
                  <a:lnTo>
                    <a:pt x="928" y="305"/>
                  </a:lnTo>
                  <a:lnTo>
                    <a:pt x="931" y="302"/>
                  </a:lnTo>
                  <a:lnTo>
                    <a:pt x="932" y="299"/>
                  </a:lnTo>
                  <a:lnTo>
                    <a:pt x="935" y="296"/>
                  </a:lnTo>
                  <a:lnTo>
                    <a:pt x="938" y="293"/>
                  </a:lnTo>
                  <a:lnTo>
                    <a:pt x="941" y="290"/>
                  </a:lnTo>
                  <a:lnTo>
                    <a:pt x="944" y="287"/>
                  </a:lnTo>
                  <a:lnTo>
                    <a:pt x="947" y="286"/>
                  </a:lnTo>
                  <a:lnTo>
                    <a:pt x="950" y="283"/>
                  </a:lnTo>
                  <a:lnTo>
                    <a:pt x="952" y="280"/>
                  </a:lnTo>
                  <a:lnTo>
                    <a:pt x="955" y="277"/>
                  </a:lnTo>
                  <a:lnTo>
                    <a:pt x="958" y="274"/>
                  </a:lnTo>
                  <a:lnTo>
                    <a:pt x="961" y="271"/>
                  </a:lnTo>
                  <a:lnTo>
                    <a:pt x="964" y="268"/>
                  </a:lnTo>
                  <a:lnTo>
                    <a:pt x="965" y="265"/>
                  </a:lnTo>
                  <a:lnTo>
                    <a:pt x="968" y="262"/>
                  </a:lnTo>
                  <a:lnTo>
                    <a:pt x="971" y="259"/>
                  </a:lnTo>
                  <a:lnTo>
                    <a:pt x="974" y="256"/>
                  </a:lnTo>
                  <a:lnTo>
                    <a:pt x="977" y="254"/>
                  </a:lnTo>
                  <a:lnTo>
                    <a:pt x="980" y="251"/>
                  </a:lnTo>
                  <a:lnTo>
                    <a:pt x="981" y="248"/>
                  </a:lnTo>
                  <a:lnTo>
                    <a:pt x="984" y="245"/>
                  </a:lnTo>
                  <a:lnTo>
                    <a:pt x="987" y="242"/>
                  </a:lnTo>
                  <a:lnTo>
                    <a:pt x="990" y="239"/>
                  </a:lnTo>
                  <a:lnTo>
                    <a:pt x="993" y="237"/>
                  </a:lnTo>
                  <a:lnTo>
                    <a:pt x="996" y="235"/>
                  </a:lnTo>
                  <a:lnTo>
                    <a:pt x="998" y="232"/>
                  </a:lnTo>
                  <a:lnTo>
                    <a:pt x="1001" y="229"/>
                  </a:lnTo>
                  <a:lnTo>
                    <a:pt x="1004" y="226"/>
                  </a:lnTo>
                  <a:lnTo>
                    <a:pt x="1007" y="223"/>
                  </a:lnTo>
                  <a:lnTo>
                    <a:pt x="1010" y="222"/>
                  </a:lnTo>
                  <a:lnTo>
                    <a:pt x="1011" y="219"/>
                  </a:lnTo>
                  <a:lnTo>
                    <a:pt x="1014" y="216"/>
                  </a:lnTo>
                  <a:lnTo>
                    <a:pt x="1017" y="213"/>
                  </a:lnTo>
                  <a:lnTo>
                    <a:pt x="1020" y="211"/>
                  </a:lnTo>
                  <a:lnTo>
                    <a:pt x="1023" y="208"/>
                  </a:lnTo>
                  <a:lnTo>
                    <a:pt x="1026" y="205"/>
                  </a:lnTo>
                  <a:lnTo>
                    <a:pt x="1028" y="202"/>
                  </a:lnTo>
                  <a:lnTo>
                    <a:pt x="1031" y="199"/>
                  </a:lnTo>
                  <a:lnTo>
                    <a:pt x="1034" y="198"/>
                  </a:lnTo>
                  <a:lnTo>
                    <a:pt x="1037" y="195"/>
                  </a:lnTo>
                  <a:lnTo>
                    <a:pt x="1040" y="192"/>
                  </a:lnTo>
                  <a:lnTo>
                    <a:pt x="1043" y="190"/>
                  </a:lnTo>
                  <a:lnTo>
                    <a:pt x="1046" y="187"/>
                  </a:lnTo>
                  <a:lnTo>
                    <a:pt x="1047" y="184"/>
                  </a:lnTo>
                  <a:lnTo>
                    <a:pt x="1050" y="181"/>
                  </a:lnTo>
                  <a:lnTo>
                    <a:pt x="1053" y="180"/>
                  </a:lnTo>
                  <a:lnTo>
                    <a:pt x="1056" y="177"/>
                  </a:lnTo>
                  <a:lnTo>
                    <a:pt x="1059" y="174"/>
                  </a:lnTo>
                  <a:lnTo>
                    <a:pt x="1062" y="172"/>
                  </a:lnTo>
                  <a:lnTo>
                    <a:pt x="1064" y="169"/>
                  </a:lnTo>
                  <a:lnTo>
                    <a:pt x="1067" y="166"/>
                  </a:lnTo>
                  <a:lnTo>
                    <a:pt x="1070" y="165"/>
                  </a:lnTo>
                  <a:lnTo>
                    <a:pt x="1073" y="162"/>
                  </a:lnTo>
                  <a:lnTo>
                    <a:pt x="1074" y="159"/>
                  </a:lnTo>
                  <a:lnTo>
                    <a:pt x="1077" y="157"/>
                  </a:lnTo>
                  <a:lnTo>
                    <a:pt x="1080" y="154"/>
                  </a:lnTo>
                  <a:lnTo>
                    <a:pt x="1083" y="151"/>
                  </a:lnTo>
                  <a:lnTo>
                    <a:pt x="1086" y="150"/>
                  </a:lnTo>
                  <a:lnTo>
                    <a:pt x="1089" y="147"/>
                  </a:lnTo>
                  <a:lnTo>
                    <a:pt x="1092" y="144"/>
                  </a:lnTo>
                  <a:lnTo>
                    <a:pt x="1093" y="142"/>
                  </a:lnTo>
                  <a:lnTo>
                    <a:pt x="1096" y="139"/>
                  </a:lnTo>
                  <a:lnTo>
                    <a:pt x="1099" y="138"/>
                  </a:lnTo>
                  <a:lnTo>
                    <a:pt x="1102" y="135"/>
                  </a:lnTo>
                  <a:lnTo>
                    <a:pt x="1105" y="133"/>
                  </a:lnTo>
                  <a:lnTo>
                    <a:pt x="1108" y="130"/>
                  </a:lnTo>
                  <a:lnTo>
                    <a:pt x="1110" y="129"/>
                  </a:lnTo>
                  <a:lnTo>
                    <a:pt x="1113" y="126"/>
                  </a:lnTo>
                  <a:lnTo>
                    <a:pt x="1116" y="123"/>
                  </a:lnTo>
                  <a:lnTo>
                    <a:pt x="1119" y="121"/>
                  </a:lnTo>
                  <a:lnTo>
                    <a:pt x="1122" y="118"/>
                  </a:lnTo>
                  <a:lnTo>
                    <a:pt x="1125" y="117"/>
                  </a:lnTo>
                  <a:lnTo>
                    <a:pt x="1128" y="114"/>
                  </a:lnTo>
                  <a:lnTo>
                    <a:pt x="1129" y="112"/>
                  </a:lnTo>
                  <a:lnTo>
                    <a:pt x="1132" y="109"/>
                  </a:lnTo>
                  <a:lnTo>
                    <a:pt x="1135" y="108"/>
                  </a:lnTo>
                  <a:lnTo>
                    <a:pt x="1138" y="105"/>
                  </a:lnTo>
                  <a:lnTo>
                    <a:pt x="1141" y="103"/>
                  </a:lnTo>
                  <a:lnTo>
                    <a:pt x="1144" y="100"/>
                  </a:lnTo>
                  <a:lnTo>
                    <a:pt x="1146" y="99"/>
                  </a:lnTo>
                  <a:lnTo>
                    <a:pt x="1149" y="96"/>
                  </a:lnTo>
                  <a:lnTo>
                    <a:pt x="1152" y="94"/>
                  </a:lnTo>
                  <a:lnTo>
                    <a:pt x="1155" y="91"/>
                  </a:lnTo>
                  <a:lnTo>
                    <a:pt x="1158" y="90"/>
                  </a:lnTo>
                  <a:lnTo>
                    <a:pt x="1159" y="88"/>
                  </a:lnTo>
                  <a:lnTo>
                    <a:pt x="1162" y="85"/>
                  </a:lnTo>
                  <a:lnTo>
                    <a:pt x="1165" y="84"/>
                  </a:lnTo>
                  <a:lnTo>
                    <a:pt x="1168" y="81"/>
                  </a:lnTo>
                  <a:lnTo>
                    <a:pt x="1171" y="79"/>
                  </a:lnTo>
                  <a:lnTo>
                    <a:pt x="1174" y="78"/>
                  </a:lnTo>
                  <a:lnTo>
                    <a:pt x="1176" y="75"/>
                  </a:lnTo>
                  <a:lnTo>
                    <a:pt x="1179" y="73"/>
                  </a:lnTo>
                  <a:lnTo>
                    <a:pt x="1182" y="70"/>
                  </a:lnTo>
                  <a:lnTo>
                    <a:pt x="1185" y="69"/>
                  </a:lnTo>
                  <a:lnTo>
                    <a:pt x="1188" y="66"/>
                  </a:lnTo>
                  <a:lnTo>
                    <a:pt x="1191" y="64"/>
                  </a:lnTo>
                  <a:lnTo>
                    <a:pt x="1194" y="63"/>
                  </a:lnTo>
                  <a:lnTo>
                    <a:pt x="1195" y="60"/>
                  </a:lnTo>
                  <a:lnTo>
                    <a:pt x="1198" y="58"/>
                  </a:lnTo>
                  <a:lnTo>
                    <a:pt x="1201" y="57"/>
                  </a:lnTo>
                  <a:lnTo>
                    <a:pt x="1204" y="54"/>
                  </a:lnTo>
                  <a:lnTo>
                    <a:pt x="1207" y="52"/>
                  </a:lnTo>
                  <a:lnTo>
                    <a:pt x="1210" y="51"/>
                  </a:lnTo>
                  <a:lnTo>
                    <a:pt x="1211" y="48"/>
                  </a:lnTo>
                  <a:lnTo>
                    <a:pt x="1214" y="46"/>
                  </a:lnTo>
                  <a:lnTo>
                    <a:pt x="1217" y="45"/>
                  </a:lnTo>
                  <a:lnTo>
                    <a:pt x="1220" y="42"/>
                  </a:lnTo>
                  <a:lnTo>
                    <a:pt x="1223" y="40"/>
                  </a:lnTo>
                  <a:lnTo>
                    <a:pt x="1225" y="39"/>
                  </a:lnTo>
                  <a:lnTo>
                    <a:pt x="1228" y="36"/>
                  </a:lnTo>
                  <a:lnTo>
                    <a:pt x="1231" y="34"/>
                  </a:lnTo>
                  <a:lnTo>
                    <a:pt x="1234" y="33"/>
                  </a:lnTo>
                  <a:lnTo>
                    <a:pt x="1237" y="30"/>
                  </a:lnTo>
                  <a:lnTo>
                    <a:pt x="1240" y="28"/>
                  </a:lnTo>
                  <a:lnTo>
                    <a:pt x="1241" y="27"/>
                  </a:lnTo>
                  <a:lnTo>
                    <a:pt x="1244" y="24"/>
                  </a:lnTo>
                  <a:lnTo>
                    <a:pt x="1247" y="22"/>
                  </a:lnTo>
                  <a:lnTo>
                    <a:pt x="1250" y="21"/>
                  </a:lnTo>
                  <a:lnTo>
                    <a:pt x="1253" y="19"/>
                  </a:lnTo>
                  <a:lnTo>
                    <a:pt x="1256" y="16"/>
                  </a:lnTo>
                  <a:lnTo>
                    <a:pt x="1258" y="15"/>
                  </a:lnTo>
                  <a:lnTo>
                    <a:pt x="1261" y="13"/>
                  </a:lnTo>
                  <a:lnTo>
                    <a:pt x="1264" y="12"/>
                  </a:lnTo>
                  <a:lnTo>
                    <a:pt x="1267" y="9"/>
                  </a:lnTo>
                  <a:lnTo>
                    <a:pt x="1270" y="7"/>
                  </a:lnTo>
                  <a:lnTo>
                    <a:pt x="1271" y="6"/>
                  </a:lnTo>
                  <a:lnTo>
                    <a:pt x="1274" y="4"/>
                  </a:lnTo>
                  <a:lnTo>
                    <a:pt x="1277" y="1"/>
                  </a:lnTo>
                  <a:lnTo>
                    <a:pt x="1280" y="0"/>
                  </a:lnTo>
                  <a:lnTo>
                    <a:pt x="128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546880" y="2668680"/>
              <a:ext cx="2739960" cy="2235600"/>
            </a:xfrm>
            <a:custGeom>
              <a:avLst/>
              <a:gdLst/>
              <a:ahLst/>
              <a:rect l="l" t="t" r="r" b="b"/>
              <a:pathLst>
                <a:path w="1301" h="974">
                  <a:moveTo>
                    <a:pt x="0" y="0"/>
                  </a:moveTo>
                  <a:lnTo>
                    <a:pt x="0" y="0"/>
                  </a:lnTo>
                  <a:lnTo>
                    <a:pt x="3" y="21"/>
                  </a:lnTo>
                  <a:lnTo>
                    <a:pt x="6" y="42"/>
                  </a:lnTo>
                  <a:lnTo>
                    <a:pt x="9" y="63"/>
                  </a:lnTo>
                  <a:lnTo>
                    <a:pt x="11" y="82"/>
                  </a:lnTo>
                  <a:lnTo>
                    <a:pt x="14" y="103"/>
                  </a:lnTo>
                  <a:lnTo>
                    <a:pt x="17" y="123"/>
                  </a:lnTo>
                  <a:lnTo>
                    <a:pt x="20" y="142"/>
                  </a:lnTo>
                  <a:lnTo>
                    <a:pt x="23" y="160"/>
                  </a:lnTo>
                  <a:lnTo>
                    <a:pt x="25" y="180"/>
                  </a:lnTo>
                  <a:lnTo>
                    <a:pt x="27" y="198"/>
                  </a:lnTo>
                  <a:lnTo>
                    <a:pt x="30" y="217"/>
                  </a:lnTo>
                  <a:lnTo>
                    <a:pt x="33" y="234"/>
                  </a:lnTo>
                  <a:lnTo>
                    <a:pt x="36" y="251"/>
                  </a:lnTo>
                  <a:lnTo>
                    <a:pt x="39" y="269"/>
                  </a:lnTo>
                  <a:lnTo>
                    <a:pt x="42" y="286"/>
                  </a:lnTo>
                  <a:lnTo>
                    <a:pt x="45" y="302"/>
                  </a:lnTo>
                  <a:lnTo>
                    <a:pt x="46" y="319"/>
                  </a:lnTo>
                  <a:lnTo>
                    <a:pt x="49" y="335"/>
                  </a:lnTo>
                  <a:lnTo>
                    <a:pt x="52" y="352"/>
                  </a:lnTo>
                  <a:lnTo>
                    <a:pt x="55" y="367"/>
                  </a:lnTo>
                  <a:lnTo>
                    <a:pt x="57" y="382"/>
                  </a:lnTo>
                  <a:lnTo>
                    <a:pt x="60" y="397"/>
                  </a:lnTo>
                  <a:lnTo>
                    <a:pt x="63" y="412"/>
                  </a:lnTo>
                  <a:lnTo>
                    <a:pt x="66" y="427"/>
                  </a:lnTo>
                  <a:lnTo>
                    <a:pt x="69" y="440"/>
                  </a:lnTo>
                  <a:lnTo>
                    <a:pt x="72" y="455"/>
                  </a:lnTo>
                  <a:lnTo>
                    <a:pt x="75" y="469"/>
                  </a:lnTo>
                  <a:lnTo>
                    <a:pt x="76" y="482"/>
                  </a:lnTo>
                  <a:lnTo>
                    <a:pt x="79" y="495"/>
                  </a:lnTo>
                  <a:lnTo>
                    <a:pt x="82" y="509"/>
                  </a:lnTo>
                  <a:lnTo>
                    <a:pt x="85" y="522"/>
                  </a:lnTo>
                  <a:lnTo>
                    <a:pt x="88" y="534"/>
                  </a:lnTo>
                  <a:lnTo>
                    <a:pt x="91" y="546"/>
                  </a:lnTo>
                  <a:lnTo>
                    <a:pt x="93" y="558"/>
                  </a:lnTo>
                  <a:lnTo>
                    <a:pt x="96" y="570"/>
                  </a:lnTo>
                  <a:lnTo>
                    <a:pt x="99" y="582"/>
                  </a:lnTo>
                  <a:lnTo>
                    <a:pt x="102" y="593"/>
                  </a:lnTo>
                  <a:lnTo>
                    <a:pt x="105" y="605"/>
                  </a:lnTo>
                  <a:lnTo>
                    <a:pt x="106" y="615"/>
                  </a:lnTo>
                  <a:lnTo>
                    <a:pt x="109" y="626"/>
                  </a:lnTo>
                  <a:lnTo>
                    <a:pt x="112" y="636"/>
                  </a:lnTo>
                  <a:lnTo>
                    <a:pt x="115" y="648"/>
                  </a:lnTo>
                  <a:lnTo>
                    <a:pt x="118" y="657"/>
                  </a:lnTo>
                  <a:lnTo>
                    <a:pt x="121" y="668"/>
                  </a:lnTo>
                  <a:lnTo>
                    <a:pt x="123" y="677"/>
                  </a:lnTo>
                  <a:lnTo>
                    <a:pt x="126" y="687"/>
                  </a:lnTo>
                  <a:lnTo>
                    <a:pt x="129" y="696"/>
                  </a:lnTo>
                  <a:lnTo>
                    <a:pt x="132" y="705"/>
                  </a:lnTo>
                  <a:lnTo>
                    <a:pt x="135" y="714"/>
                  </a:lnTo>
                  <a:lnTo>
                    <a:pt x="138" y="723"/>
                  </a:lnTo>
                  <a:lnTo>
                    <a:pt x="141" y="732"/>
                  </a:lnTo>
                  <a:lnTo>
                    <a:pt x="142" y="739"/>
                  </a:lnTo>
                  <a:lnTo>
                    <a:pt x="145" y="748"/>
                  </a:lnTo>
                  <a:lnTo>
                    <a:pt x="148" y="756"/>
                  </a:lnTo>
                  <a:lnTo>
                    <a:pt x="151" y="763"/>
                  </a:lnTo>
                  <a:lnTo>
                    <a:pt x="152" y="771"/>
                  </a:lnTo>
                  <a:lnTo>
                    <a:pt x="155" y="778"/>
                  </a:lnTo>
                  <a:lnTo>
                    <a:pt x="158" y="786"/>
                  </a:lnTo>
                  <a:lnTo>
                    <a:pt x="161" y="793"/>
                  </a:lnTo>
                  <a:lnTo>
                    <a:pt x="164" y="801"/>
                  </a:lnTo>
                  <a:lnTo>
                    <a:pt x="167" y="807"/>
                  </a:lnTo>
                  <a:lnTo>
                    <a:pt x="169" y="814"/>
                  </a:lnTo>
                  <a:lnTo>
                    <a:pt x="172" y="820"/>
                  </a:lnTo>
                  <a:lnTo>
                    <a:pt x="175" y="826"/>
                  </a:lnTo>
                  <a:lnTo>
                    <a:pt x="178" y="832"/>
                  </a:lnTo>
                  <a:lnTo>
                    <a:pt x="181" y="838"/>
                  </a:lnTo>
                  <a:lnTo>
                    <a:pt x="184" y="844"/>
                  </a:lnTo>
                  <a:lnTo>
                    <a:pt x="185" y="850"/>
                  </a:lnTo>
                  <a:lnTo>
                    <a:pt x="188" y="855"/>
                  </a:lnTo>
                  <a:lnTo>
                    <a:pt x="191" y="861"/>
                  </a:lnTo>
                  <a:lnTo>
                    <a:pt x="194" y="865"/>
                  </a:lnTo>
                  <a:lnTo>
                    <a:pt x="197" y="871"/>
                  </a:lnTo>
                  <a:lnTo>
                    <a:pt x="199" y="876"/>
                  </a:lnTo>
                  <a:lnTo>
                    <a:pt x="202" y="880"/>
                  </a:lnTo>
                  <a:lnTo>
                    <a:pt x="205" y="885"/>
                  </a:lnTo>
                  <a:lnTo>
                    <a:pt x="208" y="889"/>
                  </a:lnTo>
                  <a:lnTo>
                    <a:pt x="211" y="894"/>
                  </a:lnTo>
                  <a:lnTo>
                    <a:pt x="214" y="898"/>
                  </a:lnTo>
                  <a:lnTo>
                    <a:pt x="217" y="903"/>
                  </a:lnTo>
                  <a:lnTo>
                    <a:pt x="218" y="906"/>
                  </a:lnTo>
                  <a:lnTo>
                    <a:pt x="221" y="910"/>
                  </a:lnTo>
                  <a:lnTo>
                    <a:pt x="224" y="913"/>
                  </a:lnTo>
                  <a:lnTo>
                    <a:pt x="227" y="918"/>
                  </a:lnTo>
                  <a:lnTo>
                    <a:pt x="230" y="921"/>
                  </a:lnTo>
                  <a:lnTo>
                    <a:pt x="233" y="924"/>
                  </a:lnTo>
                  <a:lnTo>
                    <a:pt x="235" y="928"/>
                  </a:lnTo>
                  <a:lnTo>
                    <a:pt x="238" y="930"/>
                  </a:lnTo>
                  <a:lnTo>
                    <a:pt x="241" y="934"/>
                  </a:lnTo>
                  <a:lnTo>
                    <a:pt x="244" y="936"/>
                  </a:lnTo>
                  <a:lnTo>
                    <a:pt x="247" y="939"/>
                  </a:lnTo>
                  <a:lnTo>
                    <a:pt x="248" y="942"/>
                  </a:lnTo>
                  <a:lnTo>
                    <a:pt x="251" y="945"/>
                  </a:lnTo>
                  <a:lnTo>
                    <a:pt x="254" y="946"/>
                  </a:lnTo>
                  <a:lnTo>
                    <a:pt x="257" y="949"/>
                  </a:lnTo>
                  <a:lnTo>
                    <a:pt x="260" y="951"/>
                  </a:lnTo>
                  <a:lnTo>
                    <a:pt x="263" y="954"/>
                  </a:lnTo>
                  <a:lnTo>
                    <a:pt x="264" y="955"/>
                  </a:lnTo>
                  <a:lnTo>
                    <a:pt x="267" y="957"/>
                  </a:lnTo>
                  <a:lnTo>
                    <a:pt x="270" y="960"/>
                  </a:lnTo>
                  <a:lnTo>
                    <a:pt x="273" y="961"/>
                  </a:lnTo>
                  <a:lnTo>
                    <a:pt x="276" y="963"/>
                  </a:lnTo>
                  <a:lnTo>
                    <a:pt x="279" y="964"/>
                  </a:lnTo>
                  <a:lnTo>
                    <a:pt x="282" y="966"/>
                  </a:lnTo>
                  <a:lnTo>
                    <a:pt x="284" y="967"/>
                  </a:lnTo>
                  <a:lnTo>
                    <a:pt x="287" y="967"/>
                  </a:lnTo>
                  <a:lnTo>
                    <a:pt x="290" y="969"/>
                  </a:lnTo>
                  <a:lnTo>
                    <a:pt x="293" y="970"/>
                  </a:lnTo>
                  <a:lnTo>
                    <a:pt x="296" y="970"/>
                  </a:lnTo>
                  <a:lnTo>
                    <a:pt x="299" y="971"/>
                  </a:lnTo>
                  <a:lnTo>
                    <a:pt x="300" y="971"/>
                  </a:lnTo>
                  <a:lnTo>
                    <a:pt x="303" y="973"/>
                  </a:lnTo>
                  <a:lnTo>
                    <a:pt x="306" y="973"/>
                  </a:lnTo>
                  <a:lnTo>
                    <a:pt x="309" y="973"/>
                  </a:lnTo>
                  <a:lnTo>
                    <a:pt x="312" y="973"/>
                  </a:lnTo>
                  <a:lnTo>
                    <a:pt x="315" y="974"/>
                  </a:lnTo>
                  <a:lnTo>
                    <a:pt x="318" y="974"/>
                  </a:lnTo>
                  <a:lnTo>
                    <a:pt x="320" y="974"/>
                  </a:lnTo>
                  <a:lnTo>
                    <a:pt x="323" y="974"/>
                  </a:lnTo>
                  <a:lnTo>
                    <a:pt x="326" y="974"/>
                  </a:lnTo>
                  <a:lnTo>
                    <a:pt x="329" y="974"/>
                  </a:lnTo>
                  <a:lnTo>
                    <a:pt x="330" y="974"/>
                  </a:lnTo>
                  <a:lnTo>
                    <a:pt x="333" y="974"/>
                  </a:lnTo>
                  <a:lnTo>
                    <a:pt x="336" y="973"/>
                  </a:lnTo>
                  <a:lnTo>
                    <a:pt x="339" y="973"/>
                  </a:lnTo>
                  <a:lnTo>
                    <a:pt x="342" y="973"/>
                  </a:lnTo>
                  <a:lnTo>
                    <a:pt x="345" y="973"/>
                  </a:lnTo>
                  <a:lnTo>
                    <a:pt x="348" y="971"/>
                  </a:lnTo>
                  <a:lnTo>
                    <a:pt x="350" y="971"/>
                  </a:lnTo>
                  <a:lnTo>
                    <a:pt x="353" y="970"/>
                  </a:lnTo>
                  <a:lnTo>
                    <a:pt x="356" y="970"/>
                  </a:lnTo>
                  <a:lnTo>
                    <a:pt x="359" y="969"/>
                  </a:lnTo>
                  <a:lnTo>
                    <a:pt x="362" y="969"/>
                  </a:lnTo>
                  <a:lnTo>
                    <a:pt x="365" y="967"/>
                  </a:lnTo>
                  <a:lnTo>
                    <a:pt x="366" y="966"/>
                  </a:lnTo>
                  <a:lnTo>
                    <a:pt x="369" y="966"/>
                  </a:lnTo>
                  <a:lnTo>
                    <a:pt x="372" y="964"/>
                  </a:lnTo>
                  <a:lnTo>
                    <a:pt x="375" y="963"/>
                  </a:lnTo>
                  <a:lnTo>
                    <a:pt x="378" y="961"/>
                  </a:lnTo>
                  <a:lnTo>
                    <a:pt x="381" y="960"/>
                  </a:lnTo>
                  <a:lnTo>
                    <a:pt x="384" y="960"/>
                  </a:lnTo>
                  <a:lnTo>
                    <a:pt x="385" y="958"/>
                  </a:lnTo>
                  <a:lnTo>
                    <a:pt x="388" y="955"/>
                  </a:lnTo>
                  <a:lnTo>
                    <a:pt x="391" y="955"/>
                  </a:lnTo>
                  <a:lnTo>
                    <a:pt x="394" y="954"/>
                  </a:lnTo>
                  <a:lnTo>
                    <a:pt x="396" y="951"/>
                  </a:lnTo>
                  <a:lnTo>
                    <a:pt x="399" y="949"/>
                  </a:lnTo>
                  <a:lnTo>
                    <a:pt x="402" y="948"/>
                  </a:lnTo>
                  <a:lnTo>
                    <a:pt x="405" y="946"/>
                  </a:lnTo>
                  <a:lnTo>
                    <a:pt x="408" y="945"/>
                  </a:lnTo>
                  <a:lnTo>
                    <a:pt x="411" y="942"/>
                  </a:lnTo>
                  <a:lnTo>
                    <a:pt x="414" y="940"/>
                  </a:lnTo>
                  <a:lnTo>
                    <a:pt x="415" y="939"/>
                  </a:lnTo>
                  <a:lnTo>
                    <a:pt x="418" y="937"/>
                  </a:lnTo>
                  <a:lnTo>
                    <a:pt x="421" y="934"/>
                  </a:lnTo>
                  <a:lnTo>
                    <a:pt x="424" y="933"/>
                  </a:lnTo>
                  <a:lnTo>
                    <a:pt x="427" y="930"/>
                  </a:lnTo>
                  <a:lnTo>
                    <a:pt x="430" y="928"/>
                  </a:lnTo>
                  <a:lnTo>
                    <a:pt x="432" y="927"/>
                  </a:lnTo>
                  <a:lnTo>
                    <a:pt x="435" y="924"/>
                  </a:lnTo>
                  <a:lnTo>
                    <a:pt x="438" y="922"/>
                  </a:lnTo>
                  <a:lnTo>
                    <a:pt x="441" y="919"/>
                  </a:lnTo>
                  <a:lnTo>
                    <a:pt x="444" y="916"/>
                  </a:lnTo>
                  <a:lnTo>
                    <a:pt x="445" y="915"/>
                  </a:lnTo>
                  <a:lnTo>
                    <a:pt x="448" y="912"/>
                  </a:lnTo>
                  <a:lnTo>
                    <a:pt x="451" y="910"/>
                  </a:lnTo>
                  <a:lnTo>
                    <a:pt x="454" y="907"/>
                  </a:lnTo>
                  <a:lnTo>
                    <a:pt x="457" y="904"/>
                  </a:lnTo>
                  <a:lnTo>
                    <a:pt x="460" y="903"/>
                  </a:lnTo>
                  <a:lnTo>
                    <a:pt x="462" y="900"/>
                  </a:lnTo>
                  <a:lnTo>
                    <a:pt x="465" y="897"/>
                  </a:lnTo>
                  <a:lnTo>
                    <a:pt x="468" y="895"/>
                  </a:lnTo>
                  <a:lnTo>
                    <a:pt x="471" y="892"/>
                  </a:lnTo>
                  <a:lnTo>
                    <a:pt x="474" y="889"/>
                  </a:lnTo>
                  <a:lnTo>
                    <a:pt x="477" y="886"/>
                  </a:lnTo>
                  <a:lnTo>
                    <a:pt x="480" y="883"/>
                  </a:lnTo>
                  <a:lnTo>
                    <a:pt x="481" y="880"/>
                  </a:lnTo>
                  <a:lnTo>
                    <a:pt x="484" y="879"/>
                  </a:lnTo>
                  <a:lnTo>
                    <a:pt x="487" y="876"/>
                  </a:lnTo>
                  <a:lnTo>
                    <a:pt x="490" y="873"/>
                  </a:lnTo>
                  <a:lnTo>
                    <a:pt x="492" y="870"/>
                  </a:lnTo>
                  <a:lnTo>
                    <a:pt x="495" y="867"/>
                  </a:lnTo>
                  <a:lnTo>
                    <a:pt x="497" y="864"/>
                  </a:lnTo>
                  <a:lnTo>
                    <a:pt x="500" y="861"/>
                  </a:lnTo>
                  <a:lnTo>
                    <a:pt x="503" y="858"/>
                  </a:lnTo>
                  <a:lnTo>
                    <a:pt x="506" y="855"/>
                  </a:lnTo>
                  <a:lnTo>
                    <a:pt x="509" y="852"/>
                  </a:lnTo>
                  <a:lnTo>
                    <a:pt x="511" y="849"/>
                  </a:lnTo>
                  <a:lnTo>
                    <a:pt x="514" y="846"/>
                  </a:lnTo>
                  <a:lnTo>
                    <a:pt x="517" y="843"/>
                  </a:lnTo>
                  <a:lnTo>
                    <a:pt x="520" y="840"/>
                  </a:lnTo>
                  <a:lnTo>
                    <a:pt x="523" y="837"/>
                  </a:lnTo>
                  <a:lnTo>
                    <a:pt x="526" y="834"/>
                  </a:lnTo>
                  <a:lnTo>
                    <a:pt x="527" y="829"/>
                  </a:lnTo>
                  <a:lnTo>
                    <a:pt x="530" y="826"/>
                  </a:lnTo>
                  <a:lnTo>
                    <a:pt x="533" y="823"/>
                  </a:lnTo>
                  <a:lnTo>
                    <a:pt x="536" y="820"/>
                  </a:lnTo>
                  <a:lnTo>
                    <a:pt x="539" y="817"/>
                  </a:lnTo>
                  <a:lnTo>
                    <a:pt x="542" y="814"/>
                  </a:lnTo>
                  <a:lnTo>
                    <a:pt x="545" y="810"/>
                  </a:lnTo>
                  <a:lnTo>
                    <a:pt x="547" y="807"/>
                  </a:lnTo>
                  <a:lnTo>
                    <a:pt x="550" y="804"/>
                  </a:lnTo>
                  <a:lnTo>
                    <a:pt x="553" y="801"/>
                  </a:lnTo>
                  <a:lnTo>
                    <a:pt x="556" y="796"/>
                  </a:lnTo>
                  <a:lnTo>
                    <a:pt x="557" y="793"/>
                  </a:lnTo>
                  <a:lnTo>
                    <a:pt x="560" y="790"/>
                  </a:lnTo>
                  <a:lnTo>
                    <a:pt x="563" y="787"/>
                  </a:lnTo>
                  <a:lnTo>
                    <a:pt x="566" y="783"/>
                  </a:lnTo>
                  <a:lnTo>
                    <a:pt x="569" y="780"/>
                  </a:lnTo>
                  <a:lnTo>
                    <a:pt x="572" y="777"/>
                  </a:lnTo>
                  <a:lnTo>
                    <a:pt x="575" y="774"/>
                  </a:lnTo>
                  <a:lnTo>
                    <a:pt x="577" y="769"/>
                  </a:lnTo>
                  <a:lnTo>
                    <a:pt x="580" y="766"/>
                  </a:lnTo>
                  <a:lnTo>
                    <a:pt x="583" y="763"/>
                  </a:lnTo>
                  <a:lnTo>
                    <a:pt x="586" y="759"/>
                  </a:lnTo>
                  <a:lnTo>
                    <a:pt x="589" y="756"/>
                  </a:lnTo>
                  <a:lnTo>
                    <a:pt x="592" y="753"/>
                  </a:lnTo>
                  <a:lnTo>
                    <a:pt x="593" y="750"/>
                  </a:lnTo>
                  <a:lnTo>
                    <a:pt x="596" y="745"/>
                  </a:lnTo>
                  <a:lnTo>
                    <a:pt x="599" y="742"/>
                  </a:lnTo>
                  <a:lnTo>
                    <a:pt x="602" y="738"/>
                  </a:lnTo>
                  <a:lnTo>
                    <a:pt x="605" y="735"/>
                  </a:lnTo>
                  <a:lnTo>
                    <a:pt x="607" y="732"/>
                  </a:lnTo>
                  <a:lnTo>
                    <a:pt x="610" y="727"/>
                  </a:lnTo>
                  <a:lnTo>
                    <a:pt x="612" y="725"/>
                  </a:lnTo>
                  <a:lnTo>
                    <a:pt x="615" y="720"/>
                  </a:lnTo>
                  <a:lnTo>
                    <a:pt x="618" y="717"/>
                  </a:lnTo>
                  <a:lnTo>
                    <a:pt x="621" y="714"/>
                  </a:lnTo>
                  <a:lnTo>
                    <a:pt x="623" y="710"/>
                  </a:lnTo>
                  <a:lnTo>
                    <a:pt x="626" y="707"/>
                  </a:lnTo>
                  <a:lnTo>
                    <a:pt x="629" y="704"/>
                  </a:lnTo>
                  <a:lnTo>
                    <a:pt x="632" y="699"/>
                  </a:lnTo>
                  <a:lnTo>
                    <a:pt x="635" y="696"/>
                  </a:lnTo>
                  <a:lnTo>
                    <a:pt x="638" y="693"/>
                  </a:lnTo>
                  <a:lnTo>
                    <a:pt x="639" y="689"/>
                  </a:lnTo>
                  <a:lnTo>
                    <a:pt x="642" y="686"/>
                  </a:lnTo>
                  <a:lnTo>
                    <a:pt x="645" y="681"/>
                  </a:lnTo>
                  <a:lnTo>
                    <a:pt x="648" y="678"/>
                  </a:lnTo>
                  <a:lnTo>
                    <a:pt x="651" y="675"/>
                  </a:lnTo>
                  <a:lnTo>
                    <a:pt x="654" y="671"/>
                  </a:lnTo>
                  <a:lnTo>
                    <a:pt x="656" y="668"/>
                  </a:lnTo>
                  <a:lnTo>
                    <a:pt x="659" y="663"/>
                  </a:lnTo>
                  <a:lnTo>
                    <a:pt x="662" y="660"/>
                  </a:lnTo>
                  <a:lnTo>
                    <a:pt x="665" y="656"/>
                  </a:lnTo>
                  <a:lnTo>
                    <a:pt x="668" y="653"/>
                  </a:lnTo>
                  <a:lnTo>
                    <a:pt x="669" y="650"/>
                  </a:lnTo>
                  <a:lnTo>
                    <a:pt x="672" y="645"/>
                  </a:lnTo>
                  <a:lnTo>
                    <a:pt x="675" y="642"/>
                  </a:lnTo>
                  <a:lnTo>
                    <a:pt x="678" y="638"/>
                  </a:lnTo>
                  <a:lnTo>
                    <a:pt x="681" y="635"/>
                  </a:lnTo>
                  <a:lnTo>
                    <a:pt x="684" y="630"/>
                  </a:lnTo>
                  <a:lnTo>
                    <a:pt x="687" y="627"/>
                  </a:lnTo>
                  <a:lnTo>
                    <a:pt x="689" y="624"/>
                  </a:lnTo>
                  <a:lnTo>
                    <a:pt x="692" y="620"/>
                  </a:lnTo>
                  <a:lnTo>
                    <a:pt x="695" y="617"/>
                  </a:lnTo>
                  <a:lnTo>
                    <a:pt x="698" y="612"/>
                  </a:lnTo>
                  <a:lnTo>
                    <a:pt x="701" y="609"/>
                  </a:lnTo>
                  <a:lnTo>
                    <a:pt x="704" y="606"/>
                  </a:lnTo>
                  <a:lnTo>
                    <a:pt x="705" y="602"/>
                  </a:lnTo>
                  <a:lnTo>
                    <a:pt x="708" y="599"/>
                  </a:lnTo>
                  <a:lnTo>
                    <a:pt x="711" y="594"/>
                  </a:lnTo>
                  <a:lnTo>
                    <a:pt x="714" y="591"/>
                  </a:lnTo>
                  <a:lnTo>
                    <a:pt x="717" y="588"/>
                  </a:lnTo>
                  <a:lnTo>
                    <a:pt x="719" y="584"/>
                  </a:lnTo>
                  <a:lnTo>
                    <a:pt x="722" y="581"/>
                  </a:lnTo>
                  <a:lnTo>
                    <a:pt x="725" y="578"/>
                  </a:lnTo>
                  <a:lnTo>
                    <a:pt x="728" y="573"/>
                  </a:lnTo>
                  <a:lnTo>
                    <a:pt x="730" y="570"/>
                  </a:lnTo>
                  <a:lnTo>
                    <a:pt x="733" y="566"/>
                  </a:lnTo>
                  <a:lnTo>
                    <a:pt x="735" y="563"/>
                  </a:lnTo>
                  <a:lnTo>
                    <a:pt x="738" y="560"/>
                  </a:lnTo>
                  <a:lnTo>
                    <a:pt x="741" y="555"/>
                  </a:lnTo>
                  <a:lnTo>
                    <a:pt x="744" y="552"/>
                  </a:lnTo>
                  <a:lnTo>
                    <a:pt x="747" y="548"/>
                  </a:lnTo>
                  <a:lnTo>
                    <a:pt x="750" y="545"/>
                  </a:lnTo>
                  <a:lnTo>
                    <a:pt x="753" y="542"/>
                  </a:lnTo>
                  <a:lnTo>
                    <a:pt x="754" y="537"/>
                  </a:lnTo>
                  <a:lnTo>
                    <a:pt x="757" y="534"/>
                  </a:lnTo>
                  <a:lnTo>
                    <a:pt x="760" y="531"/>
                  </a:lnTo>
                  <a:lnTo>
                    <a:pt x="763" y="527"/>
                  </a:lnTo>
                  <a:lnTo>
                    <a:pt x="765" y="524"/>
                  </a:lnTo>
                  <a:lnTo>
                    <a:pt x="768" y="521"/>
                  </a:lnTo>
                  <a:lnTo>
                    <a:pt x="771" y="516"/>
                  </a:lnTo>
                  <a:lnTo>
                    <a:pt x="774" y="513"/>
                  </a:lnTo>
                  <a:lnTo>
                    <a:pt x="777" y="510"/>
                  </a:lnTo>
                  <a:lnTo>
                    <a:pt x="780" y="506"/>
                  </a:lnTo>
                  <a:lnTo>
                    <a:pt x="783" y="503"/>
                  </a:lnTo>
                  <a:lnTo>
                    <a:pt x="784" y="500"/>
                  </a:lnTo>
                  <a:lnTo>
                    <a:pt x="787" y="495"/>
                  </a:lnTo>
                  <a:lnTo>
                    <a:pt x="790" y="492"/>
                  </a:lnTo>
                  <a:lnTo>
                    <a:pt x="793" y="489"/>
                  </a:lnTo>
                  <a:lnTo>
                    <a:pt x="796" y="485"/>
                  </a:lnTo>
                  <a:lnTo>
                    <a:pt x="798" y="482"/>
                  </a:lnTo>
                  <a:lnTo>
                    <a:pt x="801" y="479"/>
                  </a:lnTo>
                  <a:lnTo>
                    <a:pt x="804" y="476"/>
                  </a:lnTo>
                  <a:lnTo>
                    <a:pt x="807" y="472"/>
                  </a:lnTo>
                  <a:lnTo>
                    <a:pt x="810" y="469"/>
                  </a:lnTo>
                  <a:lnTo>
                    <a:pt x="813" y="466"/>
                  </a:lnTo>
                  <a:lnTo>
                    <a:pt x="814" y="461"/>
                  </a:lnTo>
                  <a:lnTo>
                    <a:pt x="817" y="458"/>
                  </a:lnTo>
                  <a:lnTo>
                    <a:pt x="820" y="455"/>
                  </a:lnTo>
                  <a:lnTo>
                    <a:pt x="823" y="452"/>
                  </a:lnTo>
                  <a:lnTo>
                    <a:pt x="826" y="448"/>
                  </a:lnTo>
                  <a:lnTo>
                    <a:pt x="829" y="445"/>
                  </a:lnTo>
                  <a:lnTo>
                    <a:pt x="831" y="442"/>
                  </a:lnTo>
                  <a:lnTo>
                    <a:pt x="834" y="439"/>
                  </a:lnTo>
                  <a:lnTo>
                    <a:pt x="837" y="434"/>
                  </a:lnTo>
                  <a:lnTo>
                    <a:pt x="840" y="431"/>
                  </a:lnTo>
                  <a:lnTo>
                    <a:pt x="843" y="428"/>
                  </a:lnTo>
                  <a:lnTo>
                    <a:pt x="844" y="425"/>
                  </a:lnTo>
                  <a:lnTo>
                    <a:pt x="847" y="421"/>
                  </a:lnTo>
                  <a:lnTo>
                    <a:pt x="850" y="418"/>
                  </a:lnTo>
                  <a:lnTo>
                    <a:pt x="853" y="415"/>
                  </a:lnTo>
                  <a:lnTo>
                    <a:pt x="856" y="412"/>
                  </a:lnTo>
                  <a:lnTo>
                    <a:pt x="859" y="407"/>
                  </a:lnTo>
                  <a:lnTo>
                    <a:pt x="860" y="404"/>
                  </a:lnTo>
                  <a:lnTo>
                    <a:pt x="863" y="401"/>
                  </a:lnTo>
                  <a:lnTo>
                    <a:pt x="866" y="398"/>
                  </a:lnTo>
                  <a:lnTo>
                    <a:pt x="869" y="395"/>
                  </a:lnTo>
                  <a:lnTo>
                    <a:pt x="872" y="392"/>
                  </a:lnTo>
                  <a:lnTo>
                    <a:pt x="875" y="389"/>
                  </a:lnTo>
                  <a:lnTo>
                    <a:pt x="878" y="385"/>
                  </a:lnTo>
                  <a:lnTo>
                    <a:pt x="880" y="382"/>
                  </a:lnTo>
                  <a:lnTo>
                    <a:pt x="883" y="379"/>
                  </a:lnTo>
                  <a:lnTo>
                    <a:pt x="886" y="376"/>
                  </a:lnTo>
                  <a:lnTo>
                    <a:pt x="889" y="373"/>
                  </a:lnTo>
                  <a:lnTo>
                    <a:pt x="892" y="370"/>
                  </a:lnTo>
                  <a:lnTo>
                    <a:pt x="895" y="367"/>
                  </a:lnTo>
                  <a:lnTo>
                    <a:pt x="896" y="364"/>
                  </a:lnTo>
                  <a:lnTo>
                    <a:pt x="899" y="359"/>
                  </a:lnTo>
                  <a:lnTo>
                    <a:pt x="902" y="356"/>
                  </a:lnTo>
                  <a:lnTo>
                    <a:pt x="905" y="353"/>
                  </a:lnTo>
                  <a:lnTo>
                    <a:pt x="908" y="350"/>
                  </a:lnTo>
                  <a:lnTo>
                    <a:pt x="910" y="347"/>
                  </a:lnTo>
                  <a:lnTo>
                    <a:pt x="913" y="344"/>
                  </a:lnTo>
                  <a:lnTo>
                    <a:pt x="916" y="341"/>
                  </a:lnTo>
                  <a:lnTo>
                    <a:pt x="919" y="338"/>
                  </a:lnTo>
                  <a:lnTo>
                    <a:pt x="922" y="335"/>
                  </a:lnTo>
                  <a:lnTo>
                    <a:pt x="925" y="332"/>
                  </a:lnTo>
                  <a:lnTo>
                    <a:pt x="926" y="329"/>
                  </a:lnTo>
                  <a:lnTo>
                    <a:pt x="929" y="326"/>
                  </a:lnTo>
                  <a:lnTo>
                    <a:pt x="932" y="323"/>
                  </a:lnTo>
                  <a:lnTo>
                    <a:pt x="935" y="320"/>
                  </a:lnTo>
                  <a:lnTo>
                    <a:pt x="938" y="317"/>
                  </a:lnTo>
                  <a:lnTo>
                    <a:pt x="941" y="314"/>
                  </a:lnTo>
                  <a:lnTo>
                    <a:pt x="944" y="311"/>
                  </a:lnTo>
                  <a:lnTo>
                    <a:pt x="946" y="308"/>
                  </a:lnTo>
                  <a:lnTo>
                    <a:pt x="949" y="305"/>
                  </a:lnTo>
                  <a:lnTo>
                    <a:pt x="952" y="302"/>
                  </a:lnTo>
                  <a:lnTo>
                    <a:pt x="955" y="299"/>
                  </a:lnTo>
                  <a:lnTo>
                    <a:pt x="958" y="296"/>
                  </a:lnTo>
                  <a:lnTo>
                    <a:pt x="959" y="293"/>
                  </a:lnTo>
                  <a:lnTo>
                    <a:pt x="962" y="290"/>
                  </a:lnTo>
                  <a:lnTo>
                    <a:pt x="965" y="287"/>
                  </a:lnTo>
                  <a:lnTo>
                    <a:pt x="968" y="284"/>
                  </a:lnTo>
                  <a:lnTo>
                    <a:pt x="971" y="281"/>
                  </a:lnTo>
                  <a:lnTo>
                    <a:pt x="974" y="278"/>
                  </a:lnTo>
                  <a:lnTo>
                    <a:pt x="975" y="275"/>
                  </a:lnTo>
                  <a:lnTo>
                    <a:pt x="978" y="272"/>
                  </a:lnTo>
                  <a:lnTo>
                    <a:pt x="981" y="269"/>
                  </a:lnTo>
                  <a:lnTo>
                    <a:pt x="984" y="268"/>
                  </a:lnTo>
                  <a:lnTo>
                    <a:pt x="987" y="263"/>
                  </a:lnTo>
                  <a:lnTo>
                    <a:pt x="990" y="262"/>
                  </a:lnTo>
                  <a:lnTo>
                    <a:pt x="992" y="259"/>
                  </a:lnTo>
                  <a:lnTo>
                    <a:pt x="995" y="256"/>
                  </a:lnTo>
                  <a:lnTo>
                    <a:pt x="998" y="253"/>
                  </a:lnTo>
                  <a:lnTo>
                    <a:pt x="1001" y="250"/>
                  </a:lnTo>
                  <a:lnTo>
                    <a:pt x="1004" y="247"/>
                  </a:lnTo>
                  <a:lnTo>
                    <a:pt x="1005" y="244"/>
                  </a:lnTo>
                  <a:lnTo>
                    <a:pt x="1008" y="242"/>
                  </a:lnTo>
                  <a:lnTo>
                    <a:pt x="1011" y="239"/>
                  </a:lnTo>
                  <a:lnTo>
                    <a:pt x="1014" y="237"/>
                  </a:lnTo>
                  <a:lnTo>
                    <a:pt x="1017" y="234"/>
                  </a:lnTo>
                  <a:lnTo>
                    <a:pt x="1020" y="231"/>
                  </a:lnTo>
                  <a:lnTo>
                    <a:pt x="1022" y="228"/>
                  </a:lnTo>
                  <a:lnTo>
                    <a:pt x="1025" y="225"/>
                  </a:lnTo>
                  <a:lnTo>
                    <a:pt x="1028" y="223"/>
                  </a:lnTo>
                  <a:lnTo>
                    <a:pt x="1031" y="220"/>
                  </a:lnTo>
                  <a:lnTo>
                    <a:pt x="1034" y="217"/>
                  </a:lnTo>
                  <a:lnTo>
                    <a:pt x="1037" y="214"/>
                  </a:lnTo>
                  <a:lnTo>
                    <a:pt x="1040" y="211"/>
                  </a:lnTo>
                  <a:lnTo>
                    <a:pt x="1041" y="210"/>
                  </a:lnTo>
                  <a:lnTo>
                    <a:pt x="1044" y="207"/>
                  </a:lnTo>
                  <a:lnTo>
                    <a:pt x="1047" y="204"/>
                  </a:lnTo>
                  <a:lnTo>
                    <a:pt x="1050" y="201"/>
                  </a:lnTo>
                  <a:lnTo>
                    <a:pt x="1053" y="199"/>
                  </a:lnTo>
                  <a:lnTo>
                    <a:pt x="1056" y="196"/>
                  </a:lnTo>
                  <a:lnTo>
                    <a:pt x="1058" y="193"/>
                  </a:lnTo>
                  <a:lnTo>
                    <a:pt x="1061" y="192"/>
                  </a:lnTo>
                  <a:lnTo>
                    <a:pt x="1064" y="189"/>
                  </a:lnTo>
                  <a:lnTo>
                    <a:pt x="1067" y="186"/>
                  </a:lnTo>
                  <a:lnTo>
                    <a:pt x="1068" y="183"/>
                  </a:lnTo>
                  <a:lnTo>
                    <a:pt x="1071" y="181"/>
                  </a:lnTo>
                  <a:lnTo>
                    <a:pt x="1074" y="178"/>
                  </a:lnTo>
                  <a:lnTo>
                    <a:pt x="1077" y="175"/>
                  </a:lnTo>
                  <a:lnTo>
                    <a:pt x="1080" y="172"/>
                  </a:lnTo>
                  <a:lnTo>
                    <a:pt x="1083" y="171"/>
                  </a:lnTo>
                  <a:lnTo>
                    <a:pt x="1086" y="168"/>
                  </a:lnTo>
                  <a:lnTo>
                    <a:pt x="1087" y="166"/>
                  </a:lnTo>
                  <a:lnTo>
                    <a:pt x="1090" y="163"/>
                  </a:lnTo>
                  <a:lnTo>
                    <a:pt x="1093" y="160"/>
                  </a:lnTo>
                  <a:lnTo>
                    <a:pt x="1096" y="159"/>
                  </a:lnTo>
                  <a:lnTo>
                    <a:pt x="1099" y="156"/>
                  </a:lnTo>
                  <a:lnTo>
                    <a:pt x="1102" y="153"/>
                  </a:lnTo>
                  <a:lnTo>
                    <a:pt x="1104" y="151"/>
                  </a:lnTo>
                  <a:lnTo>
                    <a:pt x="1107" y="148"/>
                  </a:lnTo>
                  <a:lnTo>
                    <a:pt x="1110" y="147"/>
                  </a:lnTo>
                  <a:lnTo>
                    <a:pt x="1113" y="144"/>
                  </a:lnTo>
                  <a:lnTo>
                    <a:pt x="1116" y="141"/>
                  </a:lnTo>
                  <a:lnTo>
                    <a:pt x="1119" y="139"/>
                  </a:lnTo>
                  <a:lnTo>
                    <a:pt x="1122" y="136"/>
                  </a:lnTo>
                  <a:lnTo>
                    <a:pt x="1123" y="135"/>
                  </a:lnTo>
                  <a:lnTo>
                    <a:pt x="1126" y="132"/>
                  </a:lnTo>
                  <a:lnTo>
                    <a:pt x="1129" y="129"/>
                  </a:lnTo>
                  <a:lnTo>
                    <a:pt x="1132" y="127"/>
                  </a:lnTo>
                  <a:lnTo>
                    <a:pt x="1135" y="124"/>
                  </a:lnTo>
                  <a:lnTo>
                    <a:pt x="1138" y="123"/>
                  </a:lnTo>
                  <a:lnTo>
                    <a:pt x="1140" y="120"/>
                  </a:lnTo>
                  <a:lnTo>
                    <a:pt x="1143" y="118"/>
                  </a:lnTo>
                  <a:lnTo>
                    <a:pt x="1146" y="115"/>
                  </a:lnTo>
                  <a:lnTo>
                    <a:pt x="1149" y="114"/>
                  </a:lnTo>
                  <a:lnTo>
                    <a:pt x="1152" y="111"/>
                  </a:lnTo>
                  <a:lnTo>
                    <a:pt x="1153" y="109"/>
                  </a:lnTo>
                  <a:lnTo>
                    <a:pt x="1156" y="106"/>
                  </a:lnTo>
                  <a:lnTo>
                    <a:pt x="1159" y="103"/>
                  </a:lnTo>
                  <a:lnTo>
                    <a:pt x="1162" y="102"/>
                  </a:lnTo>
                  <a:lnTo>
                    <a:pt x="1165" y="100"/>
                  </a:lnTo>
                  <a:lnTo>
                    <a:pt x="1168" y="97"/>
                  </a:lnTo>
                  <a:lnTo>
                    <a:pt x="1170" y="96"/>
                  </a:lnTo>
                  <a:lnTo>
                    <a:pt x="1173" y="93"/>
                  </a:lnTo>
                  <a:lnTo>
                    <a:pt x="1176" y="91"/>
                  </a:lnTo>
                  <a:lnTo>
                    <a:pt x="1179" y="88"/>
                  </a:lnTo>
                  <a:lnTo>
                    <a:pt x="1182" y="87"/>
                  </a:lnTo>
                  <a:lnTo>
                    <a:pt x="1185" y="84"/>
                  </a:lnTo>
                  <a:lnTo>
                    <a:pt x="1188" y="82"/>
                  </a:lnTo>
                  <a:lnTo>
                    <a:pt x="1189" y="79"/>
                  </a:lnTo>
                  <a:lnTo>
                    <a:pt x="1192" y="78"/>
                  </a:lnTo>
                  <a:lnTo>
                    <a:pt x="1195" y="76"/>
                  </a:lnTo>
                  <a:lnTo>
                    <a:pt x="1198" y="73"/>
                  </a:lnTo>
                  <a:lnTo>
                    <a:pt x="1201" y="72"/>
                  </a:lnTo>
                  <a:lnTo>
                    <a:pt x="1204" y="69"/>
                  </a:lnTo>
                  <a:lnTo>
                    <a:pt x="1205" y="67"/>
                  </a:lnTo>
                  <a:lnTo>
                    <a:pt x="1208" y="64"/>
                  </a:lnTo>
                  <a:lnTo>
                    <a:pt x="1211" y="63"/>
                  </a:lnTo>
                  <a:lnTo>
                    <a:pt x="1214" y="61"/>
                  </a:lnTo>
                  <a:lnTo>
                    <a:pt x="1217" y="58"/>
                  </a:lnTo>
                  <a:lnTo>
                    <a:pt x="1219" y="57"/>
                  </a:lnTo>
                  <a:lnTo>
                    <a:pt x="1222" y="55"/>
                  </a:lnTo>
                  <a:lnTo>
                    <a:pt x="1225" y="52"/>
                  </a:lnTo>
                  <a:lnTo>
                    <a:pt x="1228" y="51"/>
                  </a:lnTo>
                  <a:lnTo>
                    <a:pt x="1231" y="49"/>
                  </a:lnTo>
                  <a:lnTo>
                    <a:pt x="1234" y="46"/>
                  </a:lnTo>
                  <a:lnTo>
                    <a:pt x="1235" y="45"/>
                  </a:lnTo>
                  <a:lnTo>
                    <a:pt x="1238" y="43"/>
                  </a:lnTo>
                  <a:lnTo>
                    <a:pt x="1241" y="40"/>
                  </a:lnTo>
                  <a:lnTo>
                    <a:pt x="1244" y="39"/>
                  </a:lnTo>
                  <a:lnTo>
                    <a:pt x="1247" y="37"/>
                  </a:lnTo>
                  <a:lnTo>
                    <a:pt x="1250" y="34"/>
                  </a:lnTo>
                  <a:lnTo>
                    <a:pt x="1252" y="33"/>
                  </a:lnTo>
                  <a:lnTo>
                    <a:pt x="1255" y="31"/>
                  </a:lnTo>
                  <a:lnTo>
                    <a:pt x="1258" y="28"/>
                  </a:lnTo>
                  <a:lnTo>
                    <a:pt x="1261" y="27"/>
                  </a:lnTo>
                  <a:lnTo>
                    <a:pt x="1264" y="25"/>
                  </a:lnTo>
                  <a:lnTo>
                    <a:pt x="1265" y="24"/>
                  </a:lnTo>
                  <a:lnTo>
                    <a:pt x="1268" y="21"/>
                  </a:lnTo>
                  <a:lnTo>
                    <a:pt x="1271" y="19"/>
                  </a:lnTo>
                  <a:lnTo>
                    <a:pt x="1274" y="18"/>
                  </a:lnTo>
                  <a:lnTo>
                    <a:pt x="1277" y="16"/>
                  </a:lnTo>
                  <a:lnTo>
                    <a:pt x="1280" y="13"/>
                  </a:lnTo>
                  <a:lnTo>
                    <a:pt x="1283" y="12"/>
                  </a:lnTo>
                  <a:lnTo>
                    <a:pt x="1285" y="10"/>
                  </a:lnTo>
                  <a:lnTo>
                    <a:pt x="1288" y="9"/>
                  </a:lnTo>
                  <a:lnTo>
                    <a:pt x="1291" y="7"/>
                  </a:lnTo>
                  <a:lnTo>
                    <a:pt x="1294" y="4"/>
                  </a:lnTo>
                  <a:lnTo>
                    <a:pt x="1297" y="3"/>
                  </a:lnTo>
                  <a:lnTo>
                    <a:pt x="1300" y="1"/>
                  </a:lnTo>
                  <a:lnTo>
                    <a:pt x="1301" y="0"/>
                  </a:lnTo>
                  <a:lnTo>
                    <a:pt x="1301" y="0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5456160" y="5182560"/>
              <a:ext cx="1800" cy="37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V="1">
              <a:off x="6327720" y="5182560"/>
              <a:ext cx="3240" cy="74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V="1">
              <a:off x="7196040" y="5182560"/>
              <a:ext cx="3240" cy="37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V="1">
              <a:off x="8064360" y="5182560"/>
              <a:ext cx="1800" cy="74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V="1">
              <a:off x="8935920" y="5182560"/>
              <a:ext cx="1800" cy="37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456160" y="5182560"/>
              <a:ext cx="34797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388120" y="5182560"/>
              <a:ext cx="680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 flipV="1">
              <a:off x="5870520" y="5199480"/>
              <a:ext cx="1800" cy="35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6745320" y="5199480"/>
              <a:ext cx="1440" cy="35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flipV="1">
              <a:off x="7624800" y="5199480"/>
              <a:ext cx="1440" cy="35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flipV="1">
              <a:off x="8497800" y="5199480"/>
              <a:ext cx="1800" cy="35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2" name=""/>
          <p:cNvSpPr/>
          <p:nvPr/>
        </p:nvSpPr>
        <p:spPr>
          <a:xfrm>
            <a:off x="6589800" y="57294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275440" y="5229360"/>
            <a:ext cx="60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7029360" y="5254560"/>
            <a:ext cx="6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8782200" y="522936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6324480" y="2133720"/>
            <a:ext cx="85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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6168960" y="1673280"/>
            <a:ext cx="290520" cy="299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6172200" y="1676520"/>
            <a:ext cx="284040" cy="29340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6851520" y="1668600"/>
            <a:ext cx="311400" cy="2998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6816600" y="1671480"/>
            <a:ext cx="304920" cy="2937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5940360" y="533520"/>
            <a:ext cx="372960" cy="372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5943600" y="536400"/>
            <a:ext cx="366840" cy="36684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6016320" y="585720"/>
            <a:ext cx="22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6901560" y="1693800"/>
            <a:ext cx="13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6259320" y="1711440"/>
            <a:ext cx="14688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6245280" y="906480"/>
            <a:ext cx="53352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6454800" y="182088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752480" y="990720"/>
            <a:ext cx="19814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752480" y="8380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3733920" y="914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266868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399360" y="906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3" name=""/>
          <p:cNvSpPr/>
          <p:nvPr/>
        </p:nvSpPr>
        <p:spPr>
          <a:xfrm>
            <a:off x="599040" y="762120"/>
            <a:ext cx="832680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Energy level structure of the </a:t>
            </a:r>
            <a:r>
              <a:rPr b="1" i="1" lang="ja-JP" sz="20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= 1/2 state has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characterized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(i)   Hund’s case 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(ii)  Significantly different between Ar-SH and Ar-S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All data of Ar-SH and Ar-SD have been re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ithout the effective correction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3.   The 3D-PES of Ar-SH has been determ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1.   Observation of the </a:t>
            </a:r>
            <a:r>
              <a:rPr b="1" i="1" lang="ja-JP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= –1/2 and –3/2 states of Ar-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2.   Rg-SH, Rg-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3660480" y="-1260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"/>
          <p:cNvSpPr/>
          <p:nvPr/>
        </p:nvSpPr>
        <p:spPr>
          <a:xfrm rot="16200000">
            <a:off x="-156960" y="335736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/ c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686160" y="43308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685800" y="342900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685800" y="23623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2300400" y="5576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1087560" y="5081760"/>
            <a:ext cx="56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2705040" y="510552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4321080" y="508176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1762200" y="2482920"/>
            <a:ext cx="1820880" cy="2209680"/>
          </a:xfrm>
          <a:custGeom>
            <a:avLst/>
            <a:gdLst/>
            <a:ahLst/>
            <a:rect l="l" t="t" r="r" b="b"/>
            <a:pathLst>
              <a:path w="938" h="973">
                <a:moveTo>
                  <a:pt x="0" y="0"/>
                </a:moveTo>
                <a:lnTo>
                  <a:pt x="3" y="24"/>
                </a:lnTo>
                <a:lnTo>
                  <a:pt x="6" y="48"/>
                </a:lnTo>
                <a:lnTo>
                  <a:pt x="9" y="72"/>
                </a:lnTo>
                <a:lnTo>
                  <a:pt x="12" y="96"/>
                </a:lnTo>
                <a:lnTo>
                  <a:pt x="15" y="119"/>
                </a:lnTo>
                <a:lnTo>
                  <a:pt x="17" y="141"/>
                </a:lnTo>
                <a:lnTo>
                  <a:pt x="20" y="162"/>
                </a:lnTo>
                <a:lnTo>
                  <a:pt x="23" y="184"/>
                </a:lnTo>
                <a:lnTo>
                  <a:pt x="26" y="205"/>
                </a:lnTo>
                <a:lnTo>
                  <a:pt x="29" y="225"/>
                </a:lnTo>
                <a:lnTo>
                  <a:pt x="30" y="246"/>
                </a:lnTo>
                <a:lnTo>
                  <a:pt x="33" y="265"/>
                </a:lnTo>
                <a:lnTo>
                  <a:pt x="36" y="285"/>
                </a:lnTo>
                <a:lnTo>
                  <a:pt x="39" y="304"/>
                </a:lnTo>
                <a:lnTo>
                  <a:pt x="42" y="324"/>
                </a:lnTo>
                <a:lnTo>
                  <a:pt x="45" y="342"/>
                </a:lnTo>
                <a:lnTo>
                  <a:pt x="46" y="360"/>
                </a:lnTo>
                <a:lnTo>
                  <a:pt x="49" y="376"/>
                </a:lnTo>
                <a:lnTo>
                  <a:pt x="52" y="394"/>
                </a:lnTo>
                <a:lnTo>
                  <a:pt x="55" y="410"/>
                </a:lnTo>
                <a:lnTo>
                  <a:pt x="58" y="427"/>
                </a:lnTo>
                <a:lnTo>
                  <a:pt x="61" y="443"/>
                </a:lnTo>
                <a:lnTo>
                  <a:pt x="64" y="460"/>
                </a:lnTo>
                <a:lnTo>
                  <a:pt x="66" y="475"/>
                </a:lnTo>
                <a:lnTo>
                  <a:pt x="69" y="490"/>
                </a:lnTo>
                <a:lnTo>
                  <a:pt x="72" y="505"/>
                </a:lnTo>
                <a:lnTo>
                  <a:pt x="75" y="520"/>
                </a:lnTo>
                <a:lnTo>
                  <a:pt x="78" y="535"/>
                </a:lnTo>
                <a:lnTo>
                  <a:pt x="81" y="548"/>
                </a:lnTo>
                <a:lnTo>
                  <a:pt x="82" y="562"/>
                </a:lnTo>
                <a:lnTo>
                  <a:pt x="85" y="575"/>
                </a:lnTo>
                <a:lnTo>
                  <a:pt x="88" y="587"/>
                </a:lnTo>
                <a:lnTo>
                  <a:pt x="91" y="601"/>
                </a:lnTo>
                <a:lnTo>
                  <a:pt x="94" y="612"/>
                </a:lnTo>
                <a:lnTo>
                  <a:pt x="97" y="624"/>
                </a:lnTo>
                <a:lnTo>
                  <a:pt x="100" y="636"/>
                </a:lnTo>
                <a:lnTo>
                  <a:pt x="102" y="648"/>
                </a:lnTo>
                <a:lnTo>
                  <a:pt x="105" y="660"/>
                </a:lnTo>
                <a:lnTo>
                  <a:pt x="108" y="671"/>
                </a:lnTo>
                <a:lnTo>
                  <a:pt x="111" y="681"/>
                </a:lnTo>
                <a:lnTo>
                  <a:pt x="112" y="692"/>
                </a:lnTo>
                <a:lnTo>
                  <a:pt x="115" y="702"/>
                </a:lnTo>
                <a:lnTo>
                  <a:pt x="118" y="713"/>
                </a:lnTo>
                <a:lnTo>
                  <a:pt x="121" y="722"/>
                </a:lnTo>
                <a:lnTo>
                  <a:pt x="124" y="732"/>
                </a:lnTo>
                <a:lnTo>
                  <a:pt x="127" y="741"/>
                </a:lnTo>
                <a:lnTo>
                  <a:pt x="130" y="750"/>
                </a:lnTo>
                <a:lnTo>
                  <a:pt x="132" y="759"/>
                </a:lnTo>
                <a:lnTo>
                  <a:pt x="135" y="768"/>
                </a:lnTo>
                <a:lnTo>
                  <a:pt x="138" y="776"/>
                </a:lnTo>
                <a:lnTo>
                  <a:pt x="141" y="783"/>
                </a:lnTo>
                <a:lnTo>
                  <a:pt x="144" y="792"/>
                </a:lnTo>
                <a:lnTo>
                  <a:pt x="147" y="800"/>
                </a:lnTo>
                <a:lnTo>
                  <a:pt x="148" y="807"/>
                </a:lnTo>
                <a:lnTo>
                  <a:pt x="151" y="815"/>
                </a:lnTo>
                <a:lnTo>
                  <a:pt x="154" y="821"/>
                </a:lnTo>
                <a:lnTo>
                  <a:pt x="157" y="828"/>
                </a:lnTo>
                <a:lnTo>
                  <a:pt x="160" y="834"/>
                </a:lnTo>
                <a:lnTo>
                  <a:pt x="163" y="842"/>
                </a:lnTo>
                <a:lnTo>
                  <a:pt x="166" y="848"/>
                </a:lnTo>
                <a:lnTo>
                  <a:pt x="167" y="853"/>
                </a:lnTo>
                <a:lnTo>
                  <a:pt x="170" y="859"/>
                </a:lnTo>
                <a:lnTo>
                  <a:pt x="173" y="865"/>
                </a:lnTo>
                <a:lnTo>
                  <a:pt x="176" y="871"/>
                </a:lnTo>
                <a:lnTo>
                  <a:pt x="178" y="876"/>
                </a:lnTo>
                <a:lnTo>
                  <a:pt x="181" y="882"/>
                </a:lnTo>
                <a:lnTo>
                  <a:pt x="184" y="886"/>
                </a:lnTo>
                <a:lnTo>
                  <a:pt x="187" y="891"/>
                </a:lnTo>
                <a:lnTo>
                  <a:pt x="190" y="895"/>
                </a:lnTo>
                <a:lnTo>
                  <a:pt x="193" y="900"/>
                </a:lnTo>
                <a:lnTo>
                  <a:pt x="196" y="904"/>
                </a:lnTo>
                <a:lnTo>
                  <a:pt x="197" y="909"/>
                </a:lnTo>
                <a:lnTo>
                  <a:pt x="200" y="913"/>
                </a:lnTo>
                <a:lnTo>
                  <a:pt x="203" y="916"/>
                </a:lnTo>
                <a:lnTo>
                  <a:pt x="206" y="921"/>
                </a:lnTo>
                <a:lnTo>
                  <a:pt x="209" y="924"/>
                </a:lnTo>
                <a:lnTo>
                  <a:pt x="212" y="927"/>
                </a:lnTo>
                <a:lnTo>
                  <a:pt x="214" y="930"/>
                </a:lnTo>
                <a:lnTo>
                  <a:pt x="217" y="934"/>
                </a:lnTo>
                <a:lnTo>
                  <a:pt x="220" y="936"/>
                </a:lnTo>
                <a:lnTo>
                  <a:pt x="223" y="940"/>
                </a:lnTo>
                <a:lnTo>
                  <a:pt x="226" y="942"/>
                </a:lnTo>
                <a:lnTo>
                  <a:pt x="227" y="945"/>
                </a:lnTo>
                <a:lnTo>
                  <a:pt x="230" y="948"/>
                </a:lnTo>
                <a:lnTo>
                  <a:pt x="233" y="949"/>
                </a:lnTo>
                <a:lnTo>
                  <a:pt x="236" y="952"/>
                </a:lnTo>
                <a:lnTo>
                  <a:pt x="239" y="954"/>
                </a:lnTo>
                <a:lnTo>
                  <a:pt x="242" y="955"/>
                </a:lnTo>
                <a:lnTo>
                  <a:pt x="244" y="958"/>
                </a:lnTo>
                <a:lnTo>
                  <a:pt x="247" y="960"/>
                </a:lnTo>
                <a:lnTo>
                  <a:pt x="250" y="961"/>
                </a:lnTo>
                <a:lnTo>
                  <a:pt x="253" y="963"/>
                </a:lnTo>
                <a:lnTo>
                  <a:pt x="256" y="964"/>
                </a:lnTo>
                <a:lnTo>
                  <a:pt x="259" y="966"/>
                </a:lnTo>
                <a:lnTo>
                  <a:pt x="262" y="967"/>
                </a:lnTo>
                <a:lnTo>
                  <a:pt x="263" y="967"/>
                </a:lnTo>
                <a:lnTo>
                  <a:pt x="266" y="969"/>
                </a:lnTo>
                <a:lnTo>
                  <a:pt x="269" y="969"/>
                </a:lnTo>
                <a:lnTo>
                  <a:pt x="272" y="970"/>
                </a:lnTo>
                <a:lnTo>
                  <a:pt x="274" y="970"/>
                </a:lnTo>
                <a:lnTo>
                  <a:pt x="277" y="972"/>
                </a:lnTo>
                <a:lnTo>
                  <a:pt x="279" y="972"/>
                </a:lnTo>
                <a:lnTo>
                  <a:pt x="282" y="972"/>
                </a:lnTo>
                <a:lnTo>
                  <a:pt x="285" y="972"/>
                </a:lnTo>
                <a:lnTo>
                  <a:pt x="288" y="973"/>
                </a:lnTo>
                <a:lnTo>
                  <a:pt x="291" y="973"/>
                </a:lnTo>
                <a:lnTo>
                  <a:pt x="293" y="973"/>
                </a:lnTo>
                <a:lnTo>
                  <a:pt x="296" y="973"/>
                </a:lnTo>
                <a:lnTo>
                  <a:pt x="299" y="972"/>
                </a:lnTo>
                <a:lnTo>
                  <a:pt x="302" y="972"/>
                </a:lnTo>
                <a:lnTo>
                  <a:pt x="305" y="972"/>
                </a:lnTo>
                <a:lnTo>
                  <a:pt x="308" y="972"/>
                </a:lnTo>
                <a:lnTo>
                  <a:pt x="309" y="970"/>
                </a:lnTo>
                <a:lnTo>
                  <a:pt x="312" y="970"/>
                </a:lnTo>
                <a:lnTo>
                  <a:pt x="315" y="969"/>
                </a:lnTo>
                <a:lnTo>
                  <a:pt x="318" y="969"/>
                </a:lnTo>
                <a:lnTo>
                  <a:pt x="321" y="967"/>
                </a:lnTo>
                <a:lnTo>
                  <a:pt x="324" y="967"/>
                </a:lnTo>
                <a:lnTo>
                  <a:pt x="327" y="966"/>
                </a:lnTo>
                <a:lnTo>
                  <a:pt x="329" y="966"/>
                </a:lnTo>
                <a:lnTo>
                  <a:pt x="332" y="964"/>
                </a:lnTo>
                <a:lnTo>
                  <a:pt x="335" y="963"/>
                </a:lnTo>
                <a:lnTo>
                  <a:pt x="338" y="961"/>
                </a:lnTo>
                <a:lnTo>
                  <a:pt x="339" y="961"/>
                </a:lnTo>
                <a:lnTo>
                  <a:pt x="342" y="960"/>
                </a:lnTo>
                <a:lnTo>
                  <a:pt x="345" y="958"/>
                </a:lnTo>
                <a:lnTo>
                  <a:pt x="348" y="957"/>
                </a:lnTo>
                <a:lnTo>
                  <a:pt x="351" y="955"/>
                </a:lnTo>
                <a:lnTo>
                  <a:pt x="354" y="954"/>
                </a:lnTo>
                <a:lnTo>
                  <a:pt x="357" y="952"/>
                </a:lnTo>
                <a:lnTo>
                  <a:pt x="359" y="949"/>
                </a:lnTo>
                <a:lnTo>
                  <a:pt x="362" y="948"/>
                </a:lnTo>
                <a:lnTo>
                  <a:pt x="365" y="946"/>
                </a:lnTo>
                <a:lnTo>
                  <a:pt x="368" y="945"/>
                </a:lnTo>
                <a:lnTo>
                  <a:pt x="371" y="942"/>
                </a:lnTo>
                <a:lnTo>
                  <a:pt x="374" y="940"/>
                </a:lnTo>
                <a:lnTo>
                  <a:pt x="375" y="939"/>
                </a:lnTo>
                <a:lnTo>
                  <a:pt x="378" y="936"/>
                </a:lnTo>
                <a:lnTo>
                  <a:pt x="381" y="934"/>
                </a:lnTo>
                <a:lnTo>
                  <a:pt x="384" y="933"/>
                </a:lnTo>
                <a:lnTo>
                  <a:pt x="386" y="930"/>
                </a:lnTo>
                <a:lnTo>
                  <a:pt x="389" y="928"/>
                </a:lnTo>
                <a:lnTo>
                  <a:pt x="392" y="925"/>
                </a:lnTo>
                <a:lnTo>
                  <a:pt x="394" y="924"/>
                </a:lnTo>
                <a:lnTo>
                  <a:pt x="397" y="921"/>
                </a:lnTo>
                <a:lnTo>
                  <a:pt x="400" y="919"/>
                </a:lnTo>
                <a:lnTo>
                  <a:pt x="403" y="916"/>
                </a:lnTo>
                <a:lnTo>
                  <a:pt x="405" y="913"/>
                </a:lnTo>
                <a:lnTo>
                  <a:pt x="408" y="912"/>
                </a:lnTo>
                <a:lnTo>
                  <a:pt x="411" y="909"/>
                </a:lnTo>
                <a:lnTo>
                  <a:pt x="414" y="906"/>
                </a:lnTo>
                <a:lnTo>
                  <a:pt x="417" y="903"/>
                </a:lnTo>
                <a:lnTo>
                  <a:pt x="420" y="901"/>
                </a:lnTo>
                <a:lnTo>
                  <a:pt x="421" y="898"/>
                </a:lnTo>
                <a:lnTo>
                  <a:pt x="424" y="895"/>
                </a:lnTo>
                <a:lnTo>
                  <a:pt x="427" y="892"/>
                </a:lnTo>
                <a:lnTo>
                  <a:pt x="430" y="889"/>
                </a:lnTo>
                <a:lnTo>
                  <a:pt x="433" y="886"/>
                </a:lnTo>
                <a:lnTo>
                  <a:pt x="436" y="885"/>
                </a:lnTo>
                <a:lnTo>
                  <a:pt x="438" y="882"/>
                </a:lnTo>
                <a:lnTo>
                  <a:pt x="441" y="879"/>
                </a:lnTo>
                <a:lnTo>
                  <a:pt x="444" y="876"/>
                </a:lnTo>
                <a:lnTo>
                  <a:pt x="447" y="873"/>
                </a:lnTo>
                <a:lnTo>
                  <a:pt x="450" y="870"/>
                </a:lnTo>
                <a:lnTo>
                  <a:pt x="451" y="867"/>
                </a:lnTo>
                <a:lnTo>
                  <a:pt x="454" y="864"/>
                </a:lnTo>
                <a:lnTo>
                  <a:pt x="457" y="861"/>
                </a:lnTo>
                <a:lnTo>
                  <a:pt x="460" y="858"/>
                </a:lnTo>
                <a:lnTo>
                  <a:pt x="463" y="853"/>
                </a:lnTo>
                <a:lnTo>
                  <a:pt x="466" y="852"/>
                </a:lnTo>
                <a:lnTo>
                  <a:pt x="469" y="848"/>
                </a:lnTo>
                <a:lnTo>
                  <a:pt x="471" y="845"/>
                </a:lnTo>
                <a:lnTo>
                  <a:pt x="474" y="842"/>
                </a:lnTo>
                <a:lnTo>
                  <a:pt x="477" y="839"/>
                </a:lnTo>
                <a:lnTo>
                  <a:pt x="480" y="836"/>
                </a:lnTo>
                <a:lnTo>
                  <a:pt x="483" y="833"/>
                </a:lnTo>
                <a:lnTo>
                  <a:pt x="486" y="828"/>
                </a:lnTo>
                <a:lnTo>
                  <a:pt x="487" y="825"/>
                </a:lnTo>
                <a:lnTo>
                  <a:pt x="490" y="822"/>
                </a:lnTo>
                <a:lnTo>
                  <a:pt x="493" y="819"/>
                </a:lnTo>
                <a:lnTo>
                  <a:pt x="496" y="816"/>
                </a:lnTo>
                <a:lnTo>
                  <a:pt x="499" y="812"/>
                </a:lnTo>
                <a:lnTo>
                  <a:pt x="501" y="809"/>
                </a:lnTo>
                <a:lnTo>
                  <a:pt x="504" y="806"/>
                </a:lnTo>
                <a:lnTo>
                  <a:pt x="507" y="803"/>
                </a:lnTo>
                <a:lnTo>
                  <a:pt x="510" y="798"/>
                </a:lnTo>
                <a:lnTo>
                  <a:pt x="512" y="795"/>
                </a:lnTo>
                <a:lnTo>
                  <a:pt x="515" y="792"/>
                </a:lnTo>
                <a:lnTo>
                  <a:pt x="517" y="789"/>
                </a:lnTo>
                <a:lnTo>
                  <a:pt x="520" y="785"/>
                </a:lnTo>
                <a:lnTo>
                  <a:pt x="523" y="782"/>
                </a:lnTo>
                <a:lnTo>
                  <a:pt x="526" y="779"/>
                </a:lnTo>
                <a:lnTo>
                  <a:pt x="529" y="774"/>
                </a:lnTo>
                <a:lnTo>
                  <a:pt x="532" y="771"/>
                </a:lnTo>
                <a:lnTo>
                  <a:pt x="535" y="768"/>
                </a:lnTo>
                <a:lnTo>
                  <a:pt x="536" y="764"/>
                </a:lnTo>
                <a:lnTo>
                  <a:pt x="539" y="761"/>
                </a:lnTo>
                <a:lnTo>
                  <a:pt x="542" y="758"/>
                </a:lnTo>
                <a:lnTo>
                  <a:pt x="545" y="753"/>
                </a:lnTo>
                <a:lnTo>
                  <a:pt x="547" y="750"/>
                </a:lnTo>
                <a:lnTo>
                  <a:pt x="550" y="746"/>
                </a:lnTo>
                <a:lnTo>
                  <a:pt x="553" y="743"/>
                </a:lnTo>
                <a:lnTo>
                  <a:pt x="556" y="740"/>
                </a:lnTo>
                <a:lnTo>
                  <a:pt x="559" y="735"/>
                </a:lnTo>
                <a:lnTo>
                  <a:pt x="562" y="732"/>
                </a:lnTo>
                <a:lnTo>
                  <a:pt x="565" y="729"/>
                </a:lnTo>
                <a:lnTo>
                  <a:pt x="566" y="725"/>
                </a:lnTo>
                <a:lnTo>
                  <a:pt x="569" y="722"/>
                </a:lnTo>
                <a:lnTo>
                  <a:pt x="572" y="719"/>
                </a:lnTo>
                <a:lnTo>
                  <a:pt x="575" y="714"/>
                </a:lnTo>
                <a:lnTo>
                  <a:pt x="578" y="711"/>
                </a:lnTo>
                <a:lnTo>
                  <a:pt x="580" y="707"/>
                </a:lnTo>
                <a:lnTo>
                  <a:pt x="583" y="704"/>
                </a:lnTo>
                <a:lnTo>
                  <a:pt x="586" y="701"/>
                </a:lnTo>
                <a:lnTo>
                  <a:pt x="589" y="696"/>
                </a:lnTo>
                <a:lnTo>
                  <a:pt x="592" y="693"/>
                </a:lnTo>
                <a:lnTo>
                  <a:pt x="595" y="689"/>
                </a:lnTo>
                <a:lnTo>
                  <a:pt x="596" y="686"/>
                </a:lnTo>
                <a:lnTo>
                  <a:pt x="599" y="681"/>
                </a:lnTo>
                <a:lnTo>
                  <a:pt x="602" y="678"/>
                </a:lnTo>
                <a:lnTo>
                  <a:pt x="605" y="675"/>
                </a:lnTo>
                <a:lnTo>
                  <a:pt x="608" y="671"/>
                </a:lnTo>
                <a:lnTo>
                  <a:pt x="611" y="668"/>
                </a:lnTo>
                <a:lnTo>
                  <a:pt x="613" y="663"/>
                </a:lnTo>
                <a:lnTo>
                  <a:pt x="616" y="660"/>
                </a:lnTo>
                <a:lnTo>
                  <a:pt x="619" y="656"/>
                </a:lnTo>
                <a:lnTo>
                  <a:pt x="622" y="653"/>
                </a:lnTo>
                <a:lnTo>
                  <a:pt x="625" y="650"/>
                </a:lnTo>
                <a:lnTo>
                  <a:pt x="626" y="645"/>
                </a:lnTo>
                <a:lnTo>
                  <a:pt x="629" y="642"/>
                </a:lnTo>
                <a:lnTo>
                  <a:pt x="632" y="638"/>
                </a:lnTo>
                <a:lnTo>
                  <a:pt x="635" y="635"/>
                </a:lnTo>
                <a:lnTo>
                  <a:pt x="638" y="630"/>
                </a:lnTo>
                <a:lnTo>
                  <a:pt x="641" y="627"/>
                </a:lnTo>
                <a:lnTo>
                  <a:pt x="642" y="624"/>
                </a:lnTo>
                <a:lnTo>
                  <a:pt x="645" y="620"/>
                </a:lnTo>
                <a:lnTo>
                  <a:pt x="648" y="617"/>
                </a:lnTo>
                <a:lnTo>
                  <a:pt x="651" y="614"/>
                </a:lnTo>
                <a:lnTo>
                  <a:pt x="654" y="609"/>
                </a:lnTo>
                <a:lnTo>
                  <a:pt x="657" y="607"/>
                </a:lnTo>
                <a:lnTo>
                  <a:pt x="660" y="602"/>
                </a:lnTo>
                <a:lnTo>
                  <a:pt x="662" y="599"/>
                </a:lnTo>
                <a:lnTo>
                  <a:pt x="665" y="596"/>
                </a:lnTo>
                <a:lnTo>
                  <a:pt x="668" y="592"/>
                </a:lnTo>
                <a:lnTo>
                  <a:pt x="671" y="589"/>
                </a:lnTo>
                <a:lnTo>
                  <a:pt x="674" y="586"/>
                </a:lnTo>
                <a:lnTo>
                  <a:pt x="677" y="581"/>
                </a:lnTo>
                <a:lnTo>
                  <a:pt x="678" y="578"/>
                </a:lnTo>
                <a:lnTo>
                  <a:pt x="681" y="574"/>
                </a:lnTo>
                <a:lnTo>
                  <a:pt x="684" y="571"/>
                </a:lnTo>
                <a:lnTo>
                  <a:pt x="687" y="566"/>
                </a:lnTo>
                <a:lnTo>
                  <a:pt x="690" y="563"/>
                </a:lnTo>
                <a:lnTo>
                  <a:pt x="692" y="560"/>
                </a:lnTo>
                <a:lnTo>
                  <a:pt x="695" y="556"/>
                </a:lnTo>
                <a:lnTo>
                  <a:pt x="698" y="553"/>
                </a:lnTo>
                <a:lnTo>
                  <a:pt x="701" y="550"/>
                </a:lnTo>
                <a:lnTo>
                  <a:pt x="704" y="545"/>
                </a:lnTo>
                <a:lnTo>
                  <a:pt x="707" y="542"/>
                </a:lnTo>
                <a:lnTo>
                  <a:pt x="708" y="539"/>
                </a:lnTo>
                <a:lnTo>
                  <a:pt x="711" y="535"/>
                </a:lnTo>
                <a:lnTo>
                  <a:pt x="714" y="532"/>
                </a:lnTo>
                <a:lnTo>
                  <a:pt x="717" y="529"/>
                </a:lnTo>
                <a:lnTo>
                  <a:pt x="720" y="524"/>
                </a:lnTo>
                <a:lnTo>
                  <a:pt x="723" y="521"/>
                </a:lnTo>
                <a:lnTo>
                  <a:pt x="726" y="518"/>
                </a:lnTo>
                <a:lnTo>
                  <a:pt x="728" y="515"/>
                </a:lnTo>
                <a:lnTo>
                  <a:pt x="731" y="511"/>
                </a:lnTo>
                <a:lnTo>
                  <a:pt x="734" y="508"/>
                </a:lnTo>
                <a:lnTo>
                  <a:pt x="737" y="503"/>
                </a:lnTo>
                <a:lnTo>
                  <a:pt x="740" y="500"/>
                </a:lnTo>
                <a:lnTo>
                  <a:pt x="741" y="497"/>
                </a:lnTo>
                <a:lnTo>
                  <a:pt x="744" y="494"/>
                </a:lnTo>
                <a:lnTo>
                  <a:pt x="747" y="490"/>
                </a:lnTo>
                <a:lnTo>
                  <a:pt x="750" y="487"/>
                </a:lnTo>
                <a:lnTo>
                  <a:pt x="753" y="484"/>
                </a:lnTo>
                <a:lnTo>
                  <a:pt x="756" y="481"/>
                </a:lnTo>
                <a:lnTo>
                  <a:pt x="757" y="478"/>
                </a:lnTo>
                <a:lnTo>
                  <a:pt x="760" y="473"/>
                </a:lnTo>
                <a:lnTo>
                  <a:pt x="763" y="470"/>
                </a:lnTo>
                <a:lnTo>
                  <a:pt x="766" y="467"/>
                </a:lnTo>
                <a:lnTo>
                  <a:pt x="769" y="464"/>
                </a:lnTo>
                <a:lnTo>
                  <a:pt x="772" y="460"/>
                </a:lnTo>
                <a:lnTo>
                  <a:pt x="774" y="457"/>
                </a:lnTo>
                <a:lnTo>
                  <a:pt x="777" y="454"/>
                </a:lnTo>
                <a:lnTo>
                  <a:pt x="780" y="451"/>
                </a:lnTo>
                <a:lnTo>
                  <a:pt x="783" y="446"/>
                </a:lnTo>
                <a:lnTo>
                  <a:pt x="786" y="443"/>
                </a:lnTo>
                <a:lnTo>
                  <a:pt x="787" y="440"/>
                </a:lnTo>
                <a:lnTo>
                  <a:pt x="790" y="437"/>
                </a:lnTo>
                <a:lnTo>
                  <a:pt x="793" y="434"/>
                </a:lnTo>
                <a:lnTo>
                  <a:pt x="796" y="431"/>
                </a:lnTo>
                <a:lnTo>
                  <a:pt x="799" y="427"/>
                </a:lnTo>
                <a:lnTo>
                  <a:pt x="802" y="424"/>
                </a:lnTo>
                <a:lnTo>
                  <a:pt x="804" y="421"/>
                </a:lnTo>
                <a:lnTo>
                  <a:pt x="807" y="418"/>
                </a:lnTo>
                <a:lnTo>
                  <a:pt x="810" y="415"/>
                </a:lnTo>
                <a:lnTo>
                  <a:pt x="813" y="412"/>
                </a:lnTo>
                <a:lnTo>
                  <a:pt x="816" y="409"/>
                </a:lnTo>
                <a:lnTo>
                  <a:pt x="819" y="406"/>
                </a:lnTo>
                <a:lnTo>
                  <a:pt x="820" y="401"/>
                </a:lnTo>
                <a:lnTo>
                  <a:pt x="823" y="398"/>
                </a:lnTo>
                <a:lnTo>
                  <a:pt x="826" y="395"/>
                </a:lnTo>
                <a:lnTo>
                  <a:pt x="829" y="392"/>
                </a:lnTo>
                <a:lnTo>
                  <a:pt x="832" y="389"/>
                </a:lnTo>
                <a:lnTo>
                  <a:pt x="835" y="386"/>
                </a:lnTo>
                <a:lnTo>
                  <a:pt x="838" y="383"/>
                </a:lnTo>
                <a:lnTo>
                  <a:pt x="840" y="380"/>
                </a:lnTo>
                <a:lnTo>
                  <a:pt x="843" y="377"/>
                </a:lnTo>
                <a:lnTo>
                  <a:pt x="846" y="374"/>
                </a:lnTo>
                <a:lnTo>
                  <a:pt x="849" y="371"/>
                </a:lnTo>
                <a:lnTo>
                  <a:pt x="850" y="368"/>
                </a:lnTo>
                <a:lnTo>
                  <a:pt x="853" y="365"/>
                </a:lnTo>
                <a:lnTo>
                  <a:pt x="856" y="363"/>
                </a:lnTo>
                <a:lnTo>
                  <a:pt x="859" y="360"/>
                </a:lnTo>
                <a:lnTo>
                  <a:pt x="862" y="357"/>
                </a:lnTo>
                <a:lnTo>
                  <a:pt x="865" y="354"/>
                </a:lnTo>
                <a:lnTo>
                  <a:pt x="868" y="351"/>
                </a:lnTo>
                <a:lnTo>
                  <a:pt x="869" y="348"/>
                </a:lnTo>
                <a:lnTo>
                  <a:pt x="872" y="345"/>
                </a:lnTo>
                <a:lnTo>
                  <a:pt x="875" y="342"/>
                </a:lnTo>
                <a:lnTo>
                  <a:pt x="878" y="339"/>
                </a:lnTo>
                <a:lnTo>
                  <a:pt x="881" y="336"/>
                </a:lnTo>
                <a:lnTo>
                  <a:pt x="884" y="333"/>
                </a:lnTo>
                <a:lnTo>
                  <a:pt x="886" y="330"/>
                </a:lnTo>
                <a:lnTo>
                  <a:pt x="889" y="327"/>
                </a:lnTo>
                <a:lnTo>
                  <a:pt x="892" y="324"/>
                </a:lnTo>
                <a:lnTo>
                  <a:pt x="895" y="321"/>
                </a:lnTo>
                <a:lnTo>
                  <a:pt x="898" y="318"/>
                </a:lnTo>
                <a:lnTo>
                  <a:pt x="901" y="315"/>
                </a:lnTo>
                <a:lnTo>
                  <a:pt x="904" y="313"/>
                </a:lnTo>
                <a:lnTo>
                  <a:pt x="905" y="310"/>
                </a:lnTo>
                <a:lnTo>
                  <a:pt x="908" y="307"/>
                </a:lnTo>
                <a:lnTo>
                  <a:pt x="911" y="304"/>
                </a:lnTo>
                <a:lnTo>
                  <a:pt x="914" y="301"/>
                </a:lnTo>
                <a:lnTo>
                  <a:pt x="917" y="298"/>
                </a:lnTo>
                <a:lnTo>
                  <a:pt x="920" y="295"/>
                </a:lnTo>
                <a:lnTo>
                  <a:pt x="922" y="294"/>
                </a:lnTo>
                <a:lnTo>
                  <a:pt x="925" y="291"/>
                </a:lnTo>
                <a:lnTo>
                  <a:pt x="928" y="288"/>
                </a:lnTo>
                <a:lnTo>
                  <a:pt x="931" y="285"/>
                </a:lnTo>
                <a:lnTo>
                  <a:pt x="934" y="282"/>
                </a:lnTo>
                <a:lnTo>
                  <a:pt x="935" y="279"/>
                </a:lnTo>
                <a:lnTo>
                  <a:pt x="938" y="27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3583080" y="2379600"/>
            <a:ext cx="844560" cy="728640"/>
          </a:xfrm>
          <a:custGeom>
            <a:avLst/>
            <a:gdLst/>
            <a:ahLst/>
            <a:rect l="l" t="t" r="r" b="b"/>
            <a:pathLst>
              <a:path w="435" h="321">
                <a:moveTo>
                  <a:pt x="0" y="321"/>
                </a:moveTo>
                <a:lnTo>
                  <a:pt x="3" y="319"/>
                </a:lnTo>
                <a:lnTo>
                  <a:pt x="6" y="316"/>
                </a:lnTo>
                <a:lnTo>
                  <a:pt x="9" y="313"/>
                </a:lnTo>
                <a:lnTo>
                  <a:pt x="12" y="310"/>
                </a:lnTo>
                <a:lnTo>
                  <a:pt x="14" y="307"/>
                </a:lnTo>
                <a:lnTo>
                  <a:pt x="17" y="306"/>
                </a:lnTo>
                <a:lnTo>
                  <a:pt x="20" y="303"/>
                </a:lnTo>
                <a:lnTo>
                  <a:pt x="23" y="300"/>
                </a:lnTo>
                <a:lnTo>
                  <a:pt x="26" y="297"/>
                </a:lnTo>
                <a:lnTo>
                  <a:pt x="29" y="294"/>
                </a:lnTo>
                <a:lnTo>
                  <a:pt x="32" y="292"/>
                </a:lnTo>
                <a:lnTo>
                  <a:pt x="33" y="289"/>
                </a:lnTo>
                <a:lnTo>
                  <a:pt x="36" y="286"/>
                </a:lnTo>
                <a:lnTo>
                  <a:pt x="39" y="285"/>
                </a:lnTo>
                <a:lnTo>
                  <a:pt x="42" y="282"/>
                </a:lnTo>
                <a:lnTo>
                  <a:pt x="45" y="279"/>
                </a:lnTo>
                <a:lnTo>
                  <a:pt x="48" y="276"/>
                </a:lnTo>
                <a:lnTo>
                  <a:pt x="49" y="274"/>
                </a:lnTo>
                <a:lnTo>
                  <a:pt x="52" y="271"/>
                </a:lnTo>
                <a:lnTo>
                  <a:pt x="55" y="268"/>
                </a:lnTo>
                <a:lnTo>
                  <a:pt x="58" y="267"/>
                </a:lnTo>
                <a:lnTo>
                  <a:pt x="61" y="264"/>
                </a:lnTo>
                <a:lnTo>
                  <a:pt x="63" y="261"/>
                </a:lnTo>
                <a:lnTo>
                  <a:pt x="66" y="258"/>
                </a:lnTo>
                <a:lnTo>
                  <a:pt x="69" y="256"/>
                </a:lnTo>
                <a:lnTo>
                  <a:pt x="72" y="253"/>
                </a:lnTo>
                <a:lnTo>
                  <a:pt x="75" y="250"/>
                </a:lnTo>
                <a:lnTo>
                  <a:pt x="78" y="249"/>
                </a:lnTo>
                <a:lnTo>
                  <a:pt x="79" y="246"/>
                </a:lnTo>
                <a:lnTo>
                  <a:pt x="82" y="243"/>
                </a:lnTo>
                <a:lnTo>
                  <a:pt x="85" y="241"/>
                </a:lnTo>
                <a:lnTo>
                  <a:pt x="88" y="238"/>
                </a:lnTo>
                <a:lnTo>
                  <a:pt x="91" y="237"/>
                </a:lnTo>
                <a:lnTo>
                  <a:pt x="94" y="234"/>
                </a:lnTo>
                <a:lnTo>
                  <a:pt x="96" y="231"/>
                </a:lnTo>
                <a:lnTo>
                  <a:pt x="99" y="229"/>
                </a:lnTo>
                <a:lnTo>
                  <a:pt x="102" y="226"/>
                </a:lnTo>
                <a:lnTo>
                  <a:pt x="105" y="223"/>
                </a:lnTo>
                <a:lnTo>
                  <a:pt x="108" y="222"/>
                </a:lnTo>
                <a:lnTo>
                  <a:pt x="109" y="219"/>
                </a:lnTo>
                <a:lnTo>
                  <a:pt x="112" y="217"/>
                </a:lnTo>
                <a:lnTo>
                  <a:pt x="115" y="214"/>
                </a:lnTo>
                <a:lnTo>
                  <a:pt x="118" y="213"/>
                </a:lnTo>
                <a:lnTo>
                  <a:pt x="121" y="210"/>
                </a:lnTo>
                <a:lnTo>
                  <a:pt x="124" y="208"/>
                </a:lnTo>
                <a:lnTo>
                  <a:pt x="127" y="205"/>
                </a:lnTo>
                <a:lnTo>
                  <a:pt x="129" y="204"/>
                </a:lnTo>
                <a:lnTo>
                  <a:pt x="132" y="201"/>
                </a:lnTo>
                <a:lnTo>
                  <a:pt x="135" y="198"/>
                </a:lnTo>
                <a:lnTo>
                  <a:pt x="138" y="196"/>
                </a:lnTo>
                <a:lnTo>
                  <a:pt x="141" y="195"/>
                </a:lnTo>
                <a:lnTo>
                  <a:pt x="144" y="192"/>
                </a:lnTo>
                <a:lnTo>
                  <a:pt x="145" y="190"/>
                </a:lnTo>
                <a:lnTo>
                  <a:pt x="148" y="187"/>
                </a:lnTo>
                <a:lnTo>
                  <a:pt x="151" y="186"/>
                </a:lnTo>
                <a:lnTo>
                  <a:pt x="154" y="183"/>
                </a:lnTo>
                <a:lnTo>
                  <a:pt x="157" y="181"/>
                </a:lnTo>
                <a:lnTo>
                  <a:pt x="159" y="178"/>
                </a:lnTo>
                <a:lnTo>
                  <a:pt x="161" y="177"/>
                </a:lnTo>
                <a:lnTo>
                  <a:pt x="164" y="174"/>
                </a:lnTo>
                <a:lnTo>
                  <a:pt x="167" y="172"/>
                </a:lnTo>
                <a:lnTo>
                  <a:pt x="170" y="171"/>
                </a:lnTo>
                <a:lnTo>
                  <a:pt x="173" y="168"/>
                </a:lnTo>
                <a:lnTo>
                  <a:pt x="175" y="166"/>
                </a:lnTo>
                <a:lnTo>
                  <a:pt x="178" y="164"/>
                </a:lnTo>
                <a:lnTo>
                  <a:pt x="181" y="162"/>
                </a:lnTo>
                <a:lnTo>
                  <a:pt x="184" y="161"/>
                </a:lnTo>
                <a:lnTo>
                  <a:pt x="187" y="158"/>
                </a:lnTo>
                <a:lnTo>
                  <a:pt x="190" y="156"/>
                </a:lnTo>
                <a:lnTo>
                  <a:pt x="193" y="155"/>
                </a:lnTo>
                <a:lnTo>
                  <a:pt x="194" y="152"/>
                </a:lnTo>
                <a:lnTo>
                  <a:pt x="197" y="150"/>
                </a:lnTo>
                <a:lnTo>
                  <a:pt x="200" y="147"/>
                </a:lnTo>
                <a:lnTo>
                  <a:pt x="203" y="146"/>
                </a:lnTo>
                <a:lnTo>
                  <a:pt x="206" y="143"/>
                </a:lnTo>
                <a:lnTo>
                  <a:pt x="209" y="141"/>
                </a:lnTo>
                <a:lnTo>
                  <a:pt x="211" y="140"/>
                </a:lnTo>
                <a:lnTo>
                  <a:pt x="214" y="137"/>
                </a:lnTo>
                <a:lnTo>
                  <a:pt x="217" y="135"/>
                </a:lnTo>
                <a:lnTo>
                  <a:pt x="220" y="134"/>
                </a:lnTo>
                <a:lnTo>
                  <a:pt x="223" y="131"/>
                </a:lnTo>
                <a:lnTo>
                  <a:pt x="224" y="129"/>
                </a:lnTo>
                <a:lnTo>
                  <a:pt x="227" y="128"/>
                </a:lnTo>
                <a:lnTo>
                  <a:pt x="230" y="126"/>
                </a:lnTo>
                <a:lnTo>
                  <a:pt x="233" y="123"/>
                </a:lnTo>
                <a:lnTo>
                  <a:pt x="236" y="122"/>
                </a:lnTo>
                <a:lnTo>
                  <a:pt x="239" y="120"/>
                </a:lnTo>
                <a:lnTo>
                  <a:pt x="241" y="117"/>
                </a:lnTo>
                <a:lnTo>
                  <a:pt x="244" y="116"/>
                </a:lnTo>
                <a:lnTo>
                  <a:pt x="247" y="114"/>
                </a:lnTo>
                <a:lnTo>
                  <a:pt x="250" y="111"/>
                </a:lnTo>
                <a:lnTo>
                  <a:pt x="253" y="110"/>
                </a:lnTo>
                <a:lnTo>
                  <a:pt x="256" y="108"/>
                </a:lnTo>
                <a:lnTo>
                  <a:pt x="259" y="107"/>
                </a:lnTo>
                <a:lnTo>
                  <a:pt x="260" y="104"/>
                </a:lnTo>
                <a:lnTo>
                  <a:pt x="263" y="102"/>
                </a:lnTo>
                <a:lnTo>
                  <a:pt x="266" y="101"/>
                </a:lnTo>
                <a:lnTo>
                  <a:pt x="269" y="99"/>
                </a:lnTo>
                <a:lnTo>
                  <a:pt x="271" y="96"/>
                </a:lnTo>
                <a:lnTo>
                  <a:pt x="274" y="95"/>
                </a:lnTo>
                <a:lnTo>
                  <a:pt x="277" y="93"/>
                </a:lnTo>
                <a:lnTo>
                  <a:pt x="279" y="92"/>
                </a:lnTo>
                <a:lnTo>
                  <a:pt x="282" y="90"/>
                </a:lnTo>
                <a:lnTo>
                  <a:pt x="285" y="87"/>
                </a:lnTo>
                <a:lnTo>
                  <a:pt x="288" y="86"/>
                </a:lnTo>
                <a:lnTo>
                  <a:pt x="290" y="84"/>
                </a:lnTo>
                <a:lnTo>
                  <a:pt x="293" y="83"/>
                </a:lnTo>
                <a:lnTo>
                  <a:pt x="296" y="81"/>
                </a:lnTo>
                <a:lnTo>
                  <a:pt x="299" y="78"/>
                </a:lnTo>
                <a:lnTo>
                  <a:pt x="302" y="77"/>
                </a:lnTo>
                <a:lnTo>
                  <a:pt x="305" y="75"/>
                </a:lnTo>
                <a:lnTo>
                  <a:pt x="306" y="74"/>
                </a:lnTo>
                <a:lnTo>
                  <a:pt x="309" y="72"/>
                </a:lnTo>
                <a:lnTo>
                  <a:pt x="312" y="71"/>
                </a:lnTo>
                <a:lnTo>
                  <a:pt x="315" y="69"/>
                </a:lnTo>
                <a:lnTo>
                  <a:pt x="318" y="66"/>
                </a:lnTo>
                <a:lnTo>
                  <a:pt x="320" y="65"/>
                </a:lnTo>
                <a:lnTo>
                  <a:pt x="323" y="63"/>
                </a:lnTo>
                <a:lnTo>
                  <a:pt x="326" y="62"/>
                </a:lnTo>
                <a:lnTo>
                  <a:pt x="329" y="60"/>
                </a:lnTo>
                <a:lnTo>
                  <a:pt x="332" y="59"/>
                </a:lnTo>
                <a:lnTo>
                  <a:pt x="335" y="57"/>
                </a:lnTo>
                <a:lnTo>
                  <a:pt x="336" y="56"/>
                </a:lnTo>
                <a:lnTo>
                  <a:pt x="339" y="53"/>
                </a:lnTo>
                <a:lnTo>
                  <a:pt x="342" y="53"/>
                </a:lnTo>
                <a:lnTo>
                  <a:pt x="345" y="50"/>
                </a:lnTo>
                <a:lnTo>
                  <a:pt x="348" y="48"/>
                </a:lnTo>
                <a:lnTo>
                  <a:pt x="351" y="47"/>
                </a:lnTo>
                <a:lnTo>
                  <a:pt x="354" y="45"/>
                </a:lnTo>
                <a:lnTo>
                  <a:pt x="356" y="44"/>
                </a:lnTo>
                <a:lnTo>
                  <a:pt x="359" y="42"/>
                </a:lnTo>
                <a:lnTo>
                  <a:pt x="362" y="41"/>
                </a:lnTo>
                <a:lnTo>
                  <a:pt x="365" y="39"/>
                </a:lnTo>
                <a:lnTo>
                  <a:pt x="368" y="38"/>
                </a:lnTo>
                <a:lnTo>
                  <a:pt x="371" y="36"/>
                </a:lnTo>
                <a:lnTo>
                  <a:pt x="372" y="35"/>
                </a:lnTo>
                <a:lnTo>
                  <a:pt x="375" y="33"/>
                </a:lnTo>
                <a:lnTo>
                  <a:pt x="378" y="32"/>
                </a:lnTo>
                <a:lnTo>
                  <a:pt x="381" y="30"/>
                </a:lnTo>
                <a:lnTo>
                  <a:pt x="383" y="27"/>
                </a:lnTo>
                <a:lnTo>
                  <a:pt x="386" y="27"/>
                </a:lnTo>
                <a:lnTo>
                  <a:pt x="389" y="26"/>
                </a:lnTo>
                <a:lnTo>
                  <a:pt x="392" y="23"/>
                </a:lnTo>
                <a:lnTo>
                  <a:pt x="395" y="21"/>
                </a:lnTo>
                <a:lnTo>
                  <a:pt x="397" y="21"/>
                </a:lnTo>
                <a:lnTo>
                  <a:pt x="400" y="18"/>
                </a:lnTo>
                <a:lnTo>
                  <a:pt x="402" y="17"/>
                </a:lnTo>
                <a:lnTo>
                  <a:pt x="405" y="15"/>
                </a:lnTo>
                <a:lnTo>
                  <a:pt x="408" y="14"/>
                </a:lnTo>
                <a:lnTo>
                  <a:pt x="411" y="14"/>
                </a:lnTo>
                <a:lnTo>
                  <a:pt x="414" y="11"/>
                </a:lnTo>
                <a:lnTo>
                  <a:pt x="417" y="9"/>
                </a:lnTo>
                <a:lnTo>
                  <a:pt x="418" y="8"/>
                </a:lnTo>
                <a:lnTo>
                  <a:pt x="421" y="8"/>
                </a:lnTo>
                <a:lnTo>
                  <a:pt x="424" y="6"/>
                </a:lnTo>
                <a:lnTo>
                  <a:pt x="427" y="3"/>
                </a:lnTo>
                <a:lnTo>
                  <a:pt x="430" y="2"/>
                </a:lnTo>
                <a:lnTo>
                  <a:pt x="432" y="2"/>
                </a:lnTo>
                <a:lnTo>
                  <a:pt x="435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1906560" y="2541600"/>
            <a:ext cx="1676520" cy="2170080"/>
          </a:xfrm>
          <a:custGeom>
            <a:avLst/>
            <a:gdLst/>
            <a:ahLst/>
            <a:rect l="l" t="t" r="r" b="b"/>
            <a:pathLst>
              <a:path w="863" h="956">
                <a:moveTo>
                  <a:pt x="0" y="0"/>
                </a:moveTo>
                <a:lnTo>
                  <a:pt x="3" y="24"/>
                </a:lnTo>
                <a:lnTo>
                  <a:pt x="6" y="46"/>
                </a:lnTo>
                <a:lnTo>
                  <a:pt x="7" y="70"/>
                </a:lnTo>
                <a:lnTo>
                  <a:pt x="10" y="93"/>
                </a:lnTo>
                <a:lnTo>
                  <a:pt x="13" y="115"/>
                </a:lnTo>
                <a:lnTo>
                  <a:pt x="16" y="136"/>
                </a:lnTo>
                <a:lnTo>
                  <a:pt x="19" y="157"/>
                </a:lnTo>
                <a:lnTo>
                  <a:pt x="22" y="178"/>
                </a:lnTo>
                <a:lnTo>
                  <a:pt x="25" y="199"/>
                </a:lnTo>
                <a:lnTo>
                  <a:pt x="27" y="218"/>
                </a:lnTo>
                <a:lnTo>
                  <a:pt x="30" y="238"/>
                </a:lnTo>
                <a:lnTo>
                  <a:pt x="33" y="257"/>
                </a:lnTo>
                <a:lnTo>
                  <a:pt x="36" y="277"/>
                </a:lnTo>
                <a:lnTo>
                  <a:pt x="37" y="295"/>
                </a:lnTo>
                <a:lnTo>
                  <a:pt x="40" y="313"/>
                </a:lnTo>
                <a:lnTo>
                  <a:pt x="43" y="331"/>
                </a:lnTo>
                <a:lnTo>
                  <a:pt x="46" y="348"/>
                </a:lnTo>
                <a:lnTo>
                  <a:pt x="49" y="365"/>
                </a:lnTo>
                <a:lnTo>
                  <a:pt x="52" y="383"/>
                </a:lnTo>
                <a:lnTo>
                  <a:pt x="55" y="399"/>
                </a:lnTo>
                <a:lnTo>
                  <a:pt x="57" y="414"/>
                </a:lnTo>
                <a:lnTo>
                  <a:pt x="60" y="431"/>
                </a:lnTo>
                <a:lnTo>
                  <a:pt x="63" y="446"/>
                </a:lnTo>
                <a:lnTo>
                  <a:pt x="66" y="461"/>
                </a:lnTo>
                <a:lnTo>
                  <a:pt x="69" y="476"/>
                </a:lnTo>
                <a:lnTo>
                  <a:pt x="72" y="491"/>
                </a:lnTo>
                <a:lnTo>
                  <a:pt x="73" y="504"/>
                </a:lnTo>
                <a:lnTo>
                  <a:pt x="76" y="519"/>
                </a:lnTo>
                <a:lnTo>
                  <a:pt x="79" y="533"/>
                </a:lnTo>
                <a:lnTo>
                  <a:pt x="82" y="546"/>
                </a:lnTo>
                <a:lnTo>
                  <a:pt x="85" y="560"/>
                </a:lnTo>
                <a:lnTo>
                  <a:pt x="88" y="572"/>
                </a:lnTo>
                <a:lnTo>
                  <a:pt x="91" y="583"/>
                </a:lnTo>
                <a:lnTo>
                  <a:pt x="92" y="597"/>
                </a:lnTo>
                <a:lnTo>
                  <a:pt x="95" y="609"/>
                </a:lnTo>
                <a:lnTo>
                  <a:pt x="98" y="619"/>
                </a:lnTo>
                <a:lnTo>
                  <a:pt x="101" y="631"/>
                </a:lnTo>
                <a:lnTo>
                  <a:pt x="103" y="642"/>
                </a:lnTo>
                <a:lnTo>
                  <a:pt x="106" y="654"/>
                </a:lnTo>
                <a:lnTo>
                  <a:pt x="109" y="664"/>
                </a:lnTo>
                <a:lnTo>
                  <a:pt x="112" y="675"/>
                </a:lnTo>
                <a:lnTo>
                  <a:pt x="115" y="684"/>
                </a:lnTo>
                <a:lnTo>
                  <a:pt x="118" y="694"/>
                </a:lnTo>
                <a:lnTo>
                  <a:pt x="121" y="703"/>
                </a:lnTo>
                <a:lnTo>
                  <a:pt x="122" y="714"/>
                </a:lnTo>
                <a:lnTo>
                  <a:pt x="125" y="723"/>
                </a:lnTo>
                <a:lnTo>
                  <a:pt x="128" y="732"/>
                </a:lnTo>
                <a:lnTo>
                  <a:pt x="131" y="741"/>
                </a:lnTo>
                <a:lnTo>
                  <a:pt x="134" y="748"/>
                </a:lnTo>
                <a:lnTo>
                  <a:pt x="137" y="757"/>
                </a:lnTo>
                <a:lnTo>
                  <a:pt x="139" y="765"/>
                </a:lnTo>
                <a:lnTo>
                  <a:pt x="142" y="772"/>
                </a:lnTo>
                <a:lnTo>
                  <a:pt x="145" y="781"/>
                </a:lnTo>
                <a:lnTo>
                  <a:pt x="148" y="789"/>
                </a:lnTo>
                <a:lnTo>
                  <a:pt x="151" y="795"/>
                </a:lnTo>
                <a:lnTo>
                  <a:pt x="152" y="802"/>
                </a:lnTo>
                <a:lnTo>
                  <a:pt x="155" y="808"/>
                </a:lnTo>
                <a:lnTo>
                  <a:pt x="158" y="816"/>
                </a:lnTo>
                <a:lnTo>
                  <a:pt x="161" y="822"/>
                </a:lnTo>
                <a:lnTo>
                  <a:pt x="164" y="827"/>
                </a:lnTo>
                <a:lnTo>
                  <a:pt x="167" y="833"/>
                </a:lnTo>
                <a:lnTo>
                  <a:pt x="169" y="839"/>
                </a:lnTo>
                <a:lnTo>
                  <a:pt x="172" y="845"/>
                </a:lnTo>
                <a:lnTo>
                  <a:pt x="175" y="851"/>
                </a:lnTo>
                <a:lnTo>
                  <a:pt x="178" y="857"/>
                </a:lnTo>
                <a:lnTo>
                  <a:pt x="181" y="862"/>
                </a:lnTo>
                <a:lnTo>
                  <a:pt x="184" y="866"/>
                </a:lnTo>
                <a:lnTo>
                  <a:pt x="187" y="871"/>
                </a:lnTo>
                <a:lnTo>
                  <a:pt x="188" y="877"/>
                </a:lnTo>
                <a:lnTo>
                  <a:pt x="191" y="881"/>
                </a:lnTo>
                <a:lnTo>
                  <a:pt x="194" y="886"/>
                </a:lnTo>
                <a:lnTo>
                  <a:pt x="197" y="890"/>
                </a:lnTo>
                <a:lnTo>
                  <a:pt x="199" y="893"/>
                </a:lnTo>
                <a:lnTo>
                  <a:pt x="202" y="898"/>
                </a:lnTo>
                <a:lnTo>
                  <a:pt x="204" y="901"/>
                </a:lnTo>
                <a:lnTo>
                  <a:pt x="207" y="905"/>
                </a:lnTo>
                <a:lnTo>
                  <a:pt x="210" y="908"/>
                </a:lnTo>
                <a:lnTo>
                  <a:pt x="213" y="911"/>
                </a:lnTo>
                <a:lnTo>
                  <a:pt x="216" y="916"/>
                </a:lnTo>
                <a:lnTo>
                  <a:pt x="218" y="919"/>
                </a:lnTo>
                <a:lnTo>
                  <a:pt x="221" y="922"/>
                </a:lnTo>
                <a:lnTo>
                  <a:pt x="224" y="923"/>
                </a:lnTo>
                <a:lnTo>
                  <a:pt x="227" y="926"/>
                </a:lnTo>
                <a:lnTo>
                  <a:pt x="230" y="929"/>
                </a:lnTo>
                <a:lnTo>
                  <a:pt x="233" y="931"/>
                </a:lnTo>
                <a:lnTo>
                  <a:pt x="234" y="934"/>
                </a:lnTo>
                <a:lnTo>
                  <a:pt x="237" y="935"/>
                </a:lnTo>
                <a:lnTo>
                  <a:pt x="240" y="938"/>
                </a:lnTo>
                <a:lnTo>
                  <a:pt x="243" y="940"/>
                </a:lnTo>
                <a:lnTo>
                  <a:pt x="246" y="941"/>
                </a:lnTo>
                <a:lnTo>
                  <a:pt x="249" y="943"/>
                </a:lnTo>
                <a:lnTo>
                  <a:pt x="252" y="946"/>
                </a:lnTo>
                <a:lnTo>
                  <a:pt x="254" y="947"/>
                </a:lnTo>
                <a:lnTo>
                  <a:pt x="257" y="947"/>
                </a:lnTo>
                <a:lnTo>
                  <a:pt x="260" y="949"/>
                </a:lnTo>
                <a:lnTo>
                  <a:pt x="263" y="950"/>
                </a:lnTo>
                <a:lnTo>
                  <a:pt x="264" y="952"/>
                </a:lnTo>
                <a:lnTo>
                  <a:pt x="267" y="953"/>
                </a:lnTo>
                <a:lnTo>
                  <a:pt x="270" y="953"/>
                </a:lnTo>
                <a:lnTo>
                  <a:pt x="273" y="955"/>
                </a:lnTo>
                <a:lnTo>
                  <a:pt x="276" y="955"/>
                </a:lnTo>
                <a:lnTo>
                  <a:pt x="279" y="955"/>
                </a:lnTo>
                <a:lnTo>
                  <a:pt x="282" y="956"/>
                </a:lnTo>
                <a:lnTo>
                  <a:pt x="284" y="956"/>
                </a:lnTo>
                <a:lnTo>
                  <a:pt x="287" y="956"/>
                </a:lnTo>
                <a:lnTo>
                  <a:pt x="290" y="956"/>
                </a:lnTo>
                <a:lnTo>
                  <a:pt x="293" y="956"/>
                </a:lnTo>
                <a:lnTo>
                  <a:pt x="296" y="956"/>
                </a:lnTo>
                <a:lnTo>
                  <a:pt x="299" y="956"/>
                </a:lnTo>
                <a:lnTo>
                  <a:pt x="300" y="956"/>
                </a:lnTo>
                <a:lnTo>
                  <a:pt x="303" y="956"/>
                </a:lnTo>
                <a:lnTo>
                  <a:pt x="306" y="956"/>
                </a:lnTo>
                <a:lnTo>
                  <a:pt x="309" y="956"/>
                </a:lnTo>
                <a:lnTo>
                  <a:pt x="311" y="955"/>
                </a:lnTo>
                <a:lnTo>
                  <a:pt x="314" y="955"/>
                </a:lnTo>
                <a:lnTo>
                  <a:pt x="317" y="955"/>
                </a:lnTo>
                <a:lnTo>
                  <a:pt x="319" y="953"/>
                </a:lnTo>
                <a:lnTo>
                  <a:pt x="322" y="953"/>
                </a:lnTo>
                <a:lnTo>
                  <a:pt x="325" y="952"/>
                </a:lnTo>
                <a:lnTo>
                  <a:pt x="328" y="952"/>
                </a:lnTo>
                <a:lnTo>
                  <a:pt x="330" y="950"/>
                </a:lnTo>
                <a:lnTo>
                  <a:pt x="333" y="949"/>
                </a:lnTo>
                <a:lnTo>
                  <a:pt x="336" y="947"/>
                </a:lnTo>
                <a:lnTo>
                  <a:pt x="339" y="947"/>
                </a:lnTo>
                <a:lnTo>
                  <a:pt x="342" y="946"/>
                </a:lnTo>
                <a:lnTo>
                  <a:pt x="345" y="944"/>
                </a:lnTo>
                <a:lnTo>
                  <a:pt x="346" y="943"/>
                </a:lnTo>
                <a:lnTo>
                  <a:pt x="349" y="941"/>
                </a:lnTo>
                <a:lnTo>
                  <a:pt x="352" y="941"/>
                </a:lnTo>
                <a:lnTo>
                  <a:pt x="355" y="938"/>
                </a:lnTo>
                <a:lnTo>
                  <a:pt x="358" y="937"/>
                </a:lnTo>
                <a:lnTo>
                  <a:pt x="361" y="935"/>
                </a:lnTo>
                <a:lnTo>
                  <a:pt x="363" y="934"/>
                </a:lnTo>
                <a:lnTo>
                  <a:pt x="366" y="932"/>
                </a:lnTo>
                <a:lnTo>
                  <a:pt x="369" y="931"/>
                </a:lnTo>
                <a:lnTo>
                  <a:pt x="372" y="929"/>
                </a:lnTo>
                <a:lnTo>
                  <a:pt x="375" y="928"/>
                </a:lnTo>
                <a:lnTo>
                  <a:pt x="376" y="925"/>
                </a:lnTo>
                <a:lnTo>
                  <a:pt x="379" y="923"/>
                </a:lnTo>
                <a:lnTo>
                  <a:pt x="382" y="922"/>
                </a:lnTo>
                <a:lnTo>
                  <a:pt x="385" y="919"/>
                </a:lnTo>
                <a:lnTo>
                  <a:pt x="388" y="917"/>
                </a:lnTo>
                <a:lnTo>
                  <a:pt x="391" y="914"/>
                </a:lnTo>
                <a:lnTo>
                  <a:pt x="394" y="913"/>
                </a:lnTo>
                <a:lnTo>
                  <a:pt x="396" y="910"/>
                </a:lnTo>
                <a:lnTo>
                  <a:pt x="399" y="908"/>
                </a:lnTo>
                <a:lnTo>
                  <a:pt x="402" y="905"/>
                </a:lnTo>
                <a:lnTo>
                  <a:pt x="405" y="904"/>
                </a:lnTo>
                <a:lnTo>
                  <a:pt x="408" y="901"/>
                </a:lnTo>
                <a:lnTo>
                  <a:pt x="411" y="898"/>
                </a:lnTo>
                <a:lnTo>
                  <a:pt x="412" y="896"/>
                </a:lnTo>
                <a:lnTo>
                  <a:pt x="415" y="893"/>
                </a:lnTo>
                <a:lnTo>
                  <a:pt x="418" y="890"/>
                </a:lnTo>
                <a:lnTo>
                  <a:pt x="421" y="889"/>
                </a:lnTo>
                <a:lnTo>
                  <a:pt x="424" y="886"/>
                </a:lnTo>
                <a:lnTo>
                  <a:pt x="426" y="883"/>
                </a:lnTo>
                <a:lnTo>
                  <a:pt x="429" y="880"/>
                </a:lnTo>
                <a:lnTo>
                  <a:pt x="432" y="878"/>
                </a:lnTo>
                <a:lnTo>
                  <a:pt x="435" y="875"/>
                </a:lnTo>
                <a:lnTo>
                  <a:pt x="437" y="872"/>
                </a:lnTo>
                <a:lnTo>
                  <a:pt x="440" y="869"/>
                </a:lnTo>
                <a:lnTo>
                  <a:pt x="442" y="866"/>
                </a:lnTo>
                <a:lnTo>
                  <a:pt x="445" y="865"/>
                </a:lnTo>
                <a:lnTo>
                  <a:pt x="448" y="860"/>
                </a:lnTo>
                <a:lnTo>
                  <a:pt x="451" y="859"/>
                </a:lnTo>
                <a:lnTo>
                  <a:pt x="454" y="856"/>
                </a:lnTo>
                <a:lnTo>
                  <a:pt x="457" y="853"/>
                </a:lnTo>
                <a:lnTo>
                  <a:pt x="460" y="850"/>
                </a:lnTo>
                <a:lnTo>
                  <a:pt x="461" y="845"/>
                </a:lnTo>
                <a:lnTo>
                  <a:pt x="464" y="844"/>
                </a:lnTo>
                <a:lnTo>
                  <a:pt x="467" y="839"/>
                </a:lnTo>
                <a:lnTo>
                  <a:pt x="470" y="838"/>
                </a:lnTo>
                <a:lnTo>
                  <a:pt x="472" y="833"/>
                </a:lnTo>
                <a:lnTo>
                  <a:pt x="475" y="830"/>
                </a:lnTo>
                <a:lnTo>
                  <a:pt x="478" y="827"/>
                </a:lnTo>
                <a:lnTo>
                  <a:pt x="481" y="825"/>
                </a:lnTo>
                <a:lnTo>
                  <a:pt x="484" y="822"/>
                </a:lnTo>
                <a:lnTo>
                  <a:pt x="487" y="819"/>
                </a:lnTo>
                <a:lnTo>
                  <a:pt x="490" y="816"/>
                </a:lnTo>
                <a:lnTo>
                  <a:pt x="491" y="813"/>
                </a:lnTo>
                <a:lnTo>
                  <a:pt x="494" y="808"/>
                </a:lnTo>
                <a:lnTo>
                  <a:pt x="497" y="805"/>
                </a:lnTo>
                <a:lnTo>
                  <a:pt x="500" y="802"/>
                </a:lnTo>
                <a:lnTo>
                  <a:pt x="503" y="799"/>
                </a:lnTo>
                <a:lnTo>
                  <a:pt x="505" y="796"/>
                </a:lnTo>
                <a:lnTo>
                  <a:pt x="508" y="792"/>
                </a:lnTo>
                <a:lnTo>
                  <a:pt x="511" y="789"/>
                </a:lnTo>
                <a:lnTo>
                  <a:pt x="514" y="786"/>
                </a:lnTo>
                <a:lnTo>
                  <a:pt x="517" y="783"/>
                </a:lnTo>
                <a:lnTo>
                  <a:pt x="520" y="778"/>
                </a:lnTo>
                <a:lnTo>
                  <a:pt x="521" y="775"/>
                </a:lnTo>
                <a:lnTo>
                  <a:pt x="524" y="772"/>
                </a:lnTo>
                <a:lnTo>
                  <a:pt x="527" y="769"/>
                </a:lnTo>
                <a:lnTo>
                  <a:pt x="530" y="765"/>
                </a:lnTo>
                <a:lnTo>
                  <a:pt x="533" y="762"/>
                </a:lnTo>
                <a:lnTo>
                  <a:pt x="536" y="759"/>
                </a:lnTo>
                <a:lnTo>
                  <a:pt x="538" y="754"/>
                </a:lnTo>
                <a:lnTo>
                  <a:pt x="541" y="751"/>
                </a:lnTo>
                <a:lnTo>
                  <a:pt x="544" y="748"/>
                </a:lnTo>
                <a:lnTo>
                  <a:pt x="547" y="744"/>
                </a:lnTo>
                <a:lnTo>
                  <a:pt x="550" y="741"/>
                </a:lnTo>
                <a:lnTo>
                  <a:pt x="551" y="738"/>
                </a:lnTo>
                <a:lnTo>
                  <a:pt x="554" y="733"/>
                </a:lnTo>
                <a:lnTo>
                  <a:pt x="557" y="730"/>
                </a:lnTo>
                <a:lnTo>
                  <a:pt x="560" y="727"/>
                </a:lnTo>
                <a:lnTo>
                  <a:pt x="563" y="724"/>
                </a:lnTo>
                <a:lnTo>
                  <a:pt x="566" y="720"/>
                </a:lnTo>
                <a:lnTo>
                  <a:pt x="567" y="717"/>
                </a:lnTo>
                <a:lnTo>
                  <a:pt x="570" y="712"/>
                </a:lnTo>
                <a:lnTo>
                  <a:pt x="573" y="709"/>
                </a:lnTo>
                <a:lnTo>
                  <a:pt x="576" y="706"/>
                </a:lnTo>
                <a:lnTo>
                  <a:pt x="579" y="702"/>
                </a:lnTo>
                <a:lnTo>
                  <a:pt x="582" y="699"/>
                </a:lnTo>
                <a:lnTo>
                  <a:pt x="585" y="696"/>
                </a:lnTo>
                <a:lnTo>
                  <a:pt x="587" y="691"/>
                </a:lnTo>
                <a:lnTo>
                  <a:pt x="590" y="688"/>
                </a:lnTo>
                <a:lnTo>
                  <a:pt x="593" y="685"/>
                </a:lnTo>
                <a:lnTo>
                  <a:pt x="596" y="681"/>
                </a:lnTo>
                <a:lnTo>
                  <a:pt x="599" y="678"/>
                </a:lnTo>
                <a:lnTo>
                  <a:pt x="602" y="675"/>
                </a:lnTo>
                <a:lnTo>
                  <a:pt x="603" y="670"/>
                </a:lnTo>
                <a:lnTo>
                  <a:pt x="606" y="667"/>
                </a:lnTo>
                <a:lnTo>
                  <a:pt x="609" y="663"/>
                </a:lnTo>
                <a:lnTo>
                  <a:pt x="612" y="660"/>
                </a:lnTo>
                <a:lnTo>
                  <a:pt x="615" y="655"/>
                </a:lnTo>
                <a:lnTo>
                  <a:pt x="617" y="652"/>
                </a:lnTo>
                <a:lnTo>
                  <a:pt x="620" y="649"/>
                </a:lnTo>
                <a:lnTo>
                  <a:pt x="623" y="645"/>
                </a:lnTo>
                <a:lnTo>
                  <a:pt x="626" y="642"/>
                </a:lnTo>
                <a:lnTo>
                  <a:pt x="629" y="639"/>
                </a:lnTo>
                <a:lnTo>
                  <a:pt x="632" y="634"/>
                </a:lnTo>
                <a:lnTo>
                  <a:pt x="633" y="631"/>
                </a:lnTo>
                <a:lnTo>
                  <a:pt x="636" y="628"/>
                </a:lnTo>
                <a:lnTo>
                  <a:pt x="639" y="624"/>
                </a:lnTo>
                <a:lnTo>
                  <a:pt x="642" y="621"/>
                </a:lnTo>
                <a:lnTo>
                  <a:pt x="645" y="616"/>
                </a:lnTo>
                <a:lnTo>
                  <a:pt x="648" y="613"/>
                </a:lnTo>
                <a:lnTo>
                  <a:pt x="651" y="610"/>
                </a:lnTo>
                <a:lnTo>
                  <a:pt x="653" y="606"/>
                </a:lnTo>
                <a:lnTo>
                  <a:pt x="656" y="603"/>
                </a:lnTo>
                <a:lnTo>
                  <a:pt x="659" y="600"/>
                </a:lnTo>
                <a:lnTo>
                  <a:pt x="662" y="595"/>
                </a:lnTo>
                <a:lnTo>
                  <a:pt x="665" y="592"/>
                </a:lnTo>
                <a:lnTo>
                  <a:pt x="666" y="589"/>
                </a:lnTo>
                <a:lnTo>
                  <a:pt x="669" y="585"/>
                </a:lnTo>
                <a:lnTo>
                  <a:pt x="672" y="582"/>
                </a:lnTo>
                <a:lnTo>
                  <a:pt x="675" y="579"/>
                </a:lnTo>
                <a:lnTo>
                  <a:pt x="678" y="575"/>
                </a:lnTo>
                <a:lnTo>
                  <a:pt x="681" y="572"/>
                </a:lnTo>
                <a:lnTo>
                  <a:pt x="682" y="567"/>
                </a:lnTo>
                <a:lnTo>
                  <a:pt x="685" y="564"/>
                </a:lnTo>
                <a:lnTo>
                  <a:pt x="688" y="561"/>
                </a:lnTo>
                <a:lnTo>
                  <a:pt x="691" y="557"/>
                </a:lnTo>
                <a:lnTo>
                  <a:pt x="694" y="554"/>
                </a:lnTo>
                <a:lnTo>
                  <a:pt x="697" y="551"/>
                </a:lnTo>
                <a:lnTo>
                  <a:pt x="699" y="548"/>
                </a:lnTo>
                <a:lnTo>
                  <a:pt x="702" y="543"/>
                </a:lnTo>
                <a:lnTo>
                  <a:pt x="705" y="540"/>
                </a:lnTo>
                <a:lnTo>
                  <a:pt x="708" y="536"/>
                </a:lnTo>
                <a:lnTo>
                  <a:pt x="711" y="533"/>
                </a:lnTo>
                <a:lnTo>
                  <a:pt x="712" y="530"/>
                </a:lnTo>
                <a:lnTo>
                  <a:pt x="715" y="527"/>
                </a:lnTo>
                <a:lnTo>
                  <a:pt x="718" y="522"/>
                </a:lnTo>
                <a:lnTo>
                  <a:pt x="721" y="519"/>
                </a:lnTo>
                <a:lnTo>
                  <a:pt x="724" y="516"/>
                </a:lnTo>
                <a:lnTo>
                  <a:pt x="727" y="512"/>
                </a:lnTo>
                <a:lnTo>
                  <a:pt x="729" y="509"/>
                </a:lnTo>
                <a:lnTo>
                  <a:pt x="732" y="506"/>
                </a:lnTo>
                <a:lnTo>
                  <a:pt x="735" y="503"/>
                </a:lnTo>
                <a:lnTo>
                  <a:pt x="738" y="498"/>
                </a:lnTo>
                <a:lnTo>
                  <a:pt x="741" y="495"/>
                </a:lnTo>
                <a:lnTo>
                  <a:pt x="744" y="492"/>
                </a:lnTo>
                <a:lnTo>
                  <a:pt x="745" y="488"/>
                </a:lnTo>
                <a:lnTo>
                  <a:pt x="748" y="485"/>
                </a:lnTo>
                <a:lnTo>
                  <a:pt x="751" y="482"/>
                </a:lnTo>
                <a:lnTo>
                  <a:pt x="754" y="477"/>
                </a:lnTo>
                <a:lnTo>
                  <a:pt x="757" y="474"/>
                </a:lnTo>
                <a:lnTo>
                  <a:pt x="760" y="471"/>
                </a:lnTo>
                <a:lnTo>
                  <a:pt x="763" y="468"/>
                </a:lnTo>
                <a:lnTo>
                  <a:pt x="765" y="465"/>
                </a:lnTo>
                <a:lnTo>
                  <a:pt x="768" y="461"/>
                </a:lnTo>
                <a:lnTo>
                  <a:pt x="771" y="458"/>
                </a:lnTo>
                <a:lnTo>
                  <a:pt x="774" y="455"/>
                </a:lnTo>
                <a:lnTo>
                  <a:pt x="775" y="452"/>
                </a:lnTo>
                <a:lnTo>
                  <a:pt x="778" y="449"/>
                </a:lnTo>
                <a:lnTo>
                  <a:pt x="781" y="446"/>
                </a:lnTo>
                <a:lnTo>
                  <a:pt x="784" y="441"/>
                </a:lnTo>
                <a:lnTo>
                  <a:pt x="787" y="438"/>
                </a:lnTo>
                <a:lnTo>
                  <a:pt x="790" y="435"/>
                </a:lnTo>
                <a:lnTo>
                  <a:pt x="793" y="432"/>
                </a:lnTo>
                <a:lnTo>
                  <a:pt x="794" y="428"/>
                </a:lnTo>
                <a:lnTo>
                  <a:pt x="797" y="425"/>
                </a:lnTo>
                <a:lnTo>
                  <a:pt x="800" y="422"/>
                </a:lnTo>
                <a:lnTo>
                  <a:pt x="803" y="419"/>
                </a:lnTo>
                <a:lnTo>
                  <a:pt x="806" y="416"/>
                </a:lnTo>
                <a:lnTo>
                  <a:pt x="809" y="413"/>
                </a:lnTo>
                <a:lnTo>
                  <a:pt x="811" y="410"/>
                </a:lnTo>
                <a:lnTo>
                  <a:pt x="814" y="407"/>
                </a:lnTo>
                <a:lnTo>
                  <a:pt x="817" y="402"/>
                </a:lnTo>
                <a:lnTo>
                  <a:pt x="820" y="399"/>
                </a:lnTo>
                <a:lnTo>
                  <a:pt x="823" y="396"/>
                </a:lnTo>
                <a:lnTo>
                  <a:pt x="826" y="393"/>
                </a:lnTo>
                <a:lnTo>
                  <a:pt x="829" y="390"/>
                </a:lnTo>
                <a:lnTo>
                  <a:pt x="830" y="387"/>
                </a:lnTo>
                <a:lnTo>
                  <a:pt x="833" y="384"/>
                </a:lnTo>
                <a:lnTo>
                  <a:pt x="836" y="381"/>
                </a:lnTo>
                <a:lnTo>
                  <a:pt x="839" y="378"/>
                </a:lnTo>
                <a:lnTo>
                  <a:pt x="842" y="375"/>
                </a:lnTo>
                <a:lnTo>
                  <a:pt x="845" y="372"/>
                </a:lnTo>
                <a:lnTo>
                  <a:pt x="847" y="369"/>
                </a:lnTo>
                <a:lnTo>
                  <a:pt x="850" y="365"/>
                </a:lnTo>
                <a:lnTo>
                  <a:pt x="853" y="363"/>
                </a:lnTo>
                <a:lnTo>
                  <a:pt x="856" y="359"/>
                </a:lnTo>
                <a:lnTo>
                  <a:pt x="859" y="356"/>
                </a:lnTo>
                <a:lnTo>
                  <a:pt x="860" y="353"/>
                </a:lnTo>
                <a:lnTo>
                  <a:pt x="863" y="35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3583080" y="2509920"/>
            <a:ext cx="844560" cy="825480"/>
          </a:xfrm>
          <a:custGeom>
            <a:avLst/>
            <a:gdLst/>
            <a:ahLst/>
            <a:rect l="l" t="t" r="r" b="b"/>
            <a:pathLst>
              <a:path w="435" h="364">
                <a:moveTo>
                  <a:pt x="0" y="364"/>
                </a:moveTo>
                <a:lnTo>
                  <a:pt x="3" y="361"/>
                </a:lnTo>
                <a:lnTo>
                  <a:pt x="6" y="358"/>
                </a:lnTo>
                <a:lnTo>
                  <a:pt x="9" y="355"/>
                </a:lnTo>
                <a:lnTo>
                  <a:pt x="12" y="352"/>
                </a:lnTo>
                <a:lnTo>
                  <a:pt x="14" y="349"/>
                </a:lnTo>
                <a:lnTo>
                  <a:pt x="17" y="346"/>
                </a:lnTo>
                <a:lnTo>
                  <a:pt x="20" y="345"/>
                </a:lnTo>
                <a:lnTo>
                  <a:pt x="23" y="340"/>
                </a:lnTo>
                <a:lnTo>
                  <a:pt x="26" y="339"/>
                </a:lnTo>
                <a:lnTo>
                  <a:pt x="29" y="336"/>
                </a:lnTo>
                <a:lnTo>
                  <a:pt x="32" y="333"/>
                </a:lnTo>
                <a:lnTo>
                  <a:pt x="33" y="330"/>
                </a:lnTo>
                <a:lnTo>
                  <a:pt x="36" y="327"/>
                </a:lnTo>
                <a:lnTo>
                  <a:pt x="39" y="324"/>
                </a:lnTo>
                <a:lnTo>
                  <a:pt x="42" y="321"/>
                </a:lnTo>
                <a:lnTo>
                  <a:pt x="45" y="318"/>
                </a:lnTo>
                <a:lnTo>
                  <a:pt x="48" y="315"/>
                </a:lnTo>
                <a:lnTo>
                  <a:pt x="49" y="312"/>
                </a:lnTo>
                <a:lnTo>
                  <a:pt x="52" y="309"/>
                </a:lnTo>
                <a:lnTo>
                  <a:pt x="55" y="307"/>
                </a:lnTo>
                <a:lnTo>
                  <a:pt x="58" y="304"/>
                </a:lnTo>
                <a:lnTo>
                  <a:pt x="61" y="301"/>
                </a:lnTo>
                <a:lnTo>
                  <a:pt x="63" y="298"/>
                </a:lnTo>
                <a:lnTo>
                  <a:pt x="66" y="295"/>
                </a:lnTo>
                <a:lnTo>
                  <a:pt x="69" y="292"/>
                </a:lnTo>
                <a:lnTo>
                  <a:pt x="72" y="289"/>
                </a:lnTo>
                <a:lnTo>
                  <a:pt x="75" y="288"/>
                </a:lnTo>
                <a:lnTo>
                  <a:pt x="78" y="285"/>
                </a:lnTo>
                <a:lnTo>
                  <a:pt x="79" y="282"/>
                </a:lnTo>
                <a:lnTo>
                  <a:pt x="82" y="279"/>
                </a:lnTo>
                <a:lnTo>
                  <a:pt x="85" y="276"/>
                </a:lnTo>
                <a:lnTo>
                  <a:pt x="88" y="273"/>
                </a:lnTo>
                <a:lnTo>
                  <a:pt x="91" y="271"/>
                </a:lnTo>
                <a:lnTo>
                  <a:pt x="94" y="268"/>
                </a:lnTo>
                <a:lnTo>
                  <a:pt x="96" y="265"/>
                </a:lnTo>
                <a:lnTo>
                  <a:pt x="99" y="262"/>
                </a:lnTo>
                <a:lnTo>
                  <a:pt x="102" y="259"/>
                </a:lnTo>
                <a:lnTo>
                  <a:pt x="105" y="258"/>
                </a:lnTo>
                <a:lnTo>
                  <a:pt x="108" y="255"/>
                </a:lnTo>
                <a:lnTo>
                  <a:pt x="109" y="252"/>
                </a:lnTo>
                <a:lnTo>
                  <a:pt x="112" y="250"/>
                </a:lnTo>
                <a:lnTo>
                  <a:pt x="115" y="247"/>
                </a:lnTo>
                <a:lnTo>
                  <a:pt x="118" y="244"/>
                </a:lnTo>
                <a:lnTo>
                  <a:pt x="121" y="241"/>
                </a:lnTo>
                <a:lnTo>
                  <a:pt x="124" y="238"/>
                </a:lnTo>
                <a:lnTo>
                  <a:pt x="127" y="237"/>
                </a:lnTo>
                <a:lnTo>
                  <a:pt x="129" y="234"/>
                </a:lnTo>
                <a:lnTo>
                  <a:pt x="132" y="231"/>
                </a:lnTo>
                <a:lnTo>
                  <a:pt x="135" y="229"/>
                </a:lnTo>
                <a:lnTo>
                  <a:pt x="138" y="226"/>
                </a:lnTo>
                <a:lnTo>
                  <a:pt x="141" y="223"/>
                </a:lnTo>
                <a:lnTo>
                  <a:pt x="144" y="220"/>
                </a:lnTo>
                <a:lnTo>
                  <a:pt x="145" y="219"/>
                </a:lnTo>
                <a:lnTo>
                  <a:pt x="148" y="216"/>
                </a:lnTo>
                <a:lnTo>
                  <a:pt x="151" y="213"/>
                </a:lnTo>
                <a:lnTo>
                  <a:pt x="154" y="211"/>
                </a:lnTo>
                <a:lnTo>
                  <a:pt x="157" y="208"/>
                </a:lnTo>
                <a:lnTo>
                  <a:pt x="159" y="205"/>
                </a:lnTo>
                <a:lnTo>
                  <a:pt x="161" y="204"/>
                </a:lnTo>
                <a:lnTo>
                  <a:pt x="164" y="201"/>
                </a:lnTo>
                <a:lnTo>
                  <a:pt x="167" y="199"/>
                </a:lnTo>
                <a:lnTo>
                  <a:pt x="170" y="196"/>
                </a:lnTo>
                <a:lnTo>
                  <a:pt x="173" y="193"/>
                </a:lnTo>
                <a:lnTo>
                  <a:pt x="175" y="192"/>
                </a:lnTo>
                <a:lnTo>
                  <a:pt x="178" y="189"/>
                </a:lnTo>
                <a:lnTo>
                  <a:pt x="181" y="186"/>
                </a:lnTo>
                <a:lnTo>
                  <a:pt x="184" y="184"/>
                </a:lnTo>
                <a:lnTo>
                  <a:pt x="187" y="181"/>
                </a:lnTo>
                <a:lnTo>
                  <a:pt x="190" y="180"/>
                </a:lnTo>
                <a:lnTo>
                  <a:pt x="193" y="177"/>
                </a:lnTo>
                <a:lnTo>
                  <a:pt x="194" y="174"/>
                </a:lnTo>
                <a:lnTo>
                  <a:pt x="197" y="172"/>
                </a:lnTo>
                <a:lnTo>
                  <a:pt x="200" y="169"/>
                </a:lnTo>
                <a:lnTo>
                  <a:pt x="203" y="168"/>
                </a:lnTo>
                <a:lnTo>
                  <a:pt x="206" y="165"/>
                </a:lnTo>
                <a:lnTo>
                  <a:pt x="209" y="163"/>
                </a:lnTo>
                <a:lnTo>
                  <a:pt x="211" y="160"/>
                </a:lnTo>
                <a:lnTo>
                  <a:pt x="214" y="159"/>
                </a:lnTo>
                <a:lnTo>
                  <a:pt x="217" y="156"/>
                </a:lnTo>
                <a:lnTo>
                  <a:pt x="220" y="154"/>
                </a:lnTo>
                <a:lnTo>
                  <a:pt x="223" y="151"/>
                </a:lnTo>
                <a:lnTo>
                  <a:pt x="224" y="150"/>
                </a:lnTo>
                <a:lnTo>
                  <a:pt x="227" y="147"/>
                </a:lnTo>
                <a:lnTo>
                  <a:pt x="230" y="145"/>
                </a:lnTo>
                <a:lnTo>
                  <a:pt x="233" y="142"/>
                </a:lnTo>
                <a:lnTo>
                  <a:pt x="236" y="141"/>
                </a:lnTo>
                <a:lnTo>
                  <a:pt x="239" y="138"/>
                </a:lnTo>
                <a:lnTo>
                  <a:pt x="241" y="136"/>
                </a:lnTo>
                <a:lnTo>
                  <a:pt x="244" y="135"/>
                </a:lnTo>
                <a:lnTo>
                  <a:pt x="247" y="132"/>
                </a:lnTo>
                <a:lnTo>
                  <a:pt x="250" y="129"/>
                </a:lnTo>
                <a:lnTo>
                  <a:pt x="253" y="127"/>
                </a:lnTo>
                <a:lnTo>
                  <a:pt x="256" y="126"/>
                </a:lnTo>
                <a:lnTo>
                  <a:pt x="259" y="123"/>
                </a:lnTo>
                <a:lnTo>
                  <a:pt x="260" y="121"/>
                </a:lnTo>
                <a:lnTo>
                  <a:pt x="263" y="118"/>
                </a:lnTo>
                <a:lnTo>
                  <a:pt x="266" y="117"/>
                </a:lnTo>
                <a:lnTo>
                  <a:pt x="269" y="115"/>
                </a:lnTo>
                <a:lnTo>
                  <a:pt x="271" y="112"/>
                </a:lnTo>
                <a:lnTo>
                  <a:pt x="274" y="111"/>
                </a:lnTo>
                <a:lnTo>
                  <a:pt x="277" y="109"/>
                </a:lnTo>
                <a:lnTo>
                  <a:pt x="279" y="107"/>
                </a:lnTo>
                <a:lnTo>
                  <a:pt x="282" y="105"/>
                </a:lnTo>
                <a:lnTo>
                  <a:pt x="285" y="102"/>
                </a:lnTo>
                <a:lnTo>
                  <a:pt x="288" y="101"/>
                </a:lnTo>
                <a:lnTo>
                  <a:pt x="290" y="99"/>
                </a:lnTo>
                <a:lnTo>
                  <a:pt x="293" y="96"/>
                </a:lnTo>
                <a:lnTo>
                  <a:pt x="296" y="95"/>
                </a:lnTo>
                <a:lnTo>
                  <a:pt x="299" y="92"/>
                </a:lnTo>
                <a:lnTo>
                  <a:pt x="302" y="90"/>
                </a:lnTo>
                <a:lnTo>
                  <a:pt x="305" y="89"/>
                </a:lnTo>
                <a:lnTo>
                  <a:pt x="306" y="86"/>
                </a:lnTo>
                <a:lnTo>
                  <a:pt x="309" y="84"/>
                </a:lnTo>
                <a:lnTo>
                  <a:pt x="312" y="83"/>
                </a:lnTo>
                <a:lnTo>
                  <a:pt x="315" y="80"/>
                </a:lnTo>
                <a:lnTo>
                  <a:pt x="318" y="78"/>
                </a:lnTo>
                <a:lnTo>
                  <a:pt x="320" y="77"/>
                </a:lnTo>
                <a:lnTo>
                  <a:pt x="323" y="75"/>
                </a:lnTo>
                <a:lnTo>
                  <a:pt x="326" y="72"/>
                </a:lnTo>
                <a:lnTo>
                  <a:pt x="329" y="71"/>
                </a:lnTo>
                <a:lnTo>
                  <a:pt x="332" y="69"/>
                </a:lnTo>
                <a:lnTo>
                  <a:pt x="335" y="66"/>
                </a:lnTo>
                <a:lnTo>
                  <a:pt x="336" y="65"/>
                </a:lnTo>
                <a:lnTo>
                  <a:pt x="339" y="63"/>
                </a:lnTo>
                <a:lnTo>
                  <a:pt x="342" y="60"/>
                </a:lnTo>
                <a:lnTo>
                  <a:pt x="345" y="59"/>
                </a:lnTo>
                <a:lnTo>
                  <a:pt x="348" y="57"/>
                </a:lnTo>
                <a:lnTo>
                  <a:pt x="351" y="56"/>
                </a:lnTo>
                <a:lnTo>
                  <a:pt x="354" y="53"/>
                </a:lnTo>
                <a:lnTo>
                  <a:pt x="356" y="51"/>
                </a:lnTo>
                <a:lnTo>
                  <a:pt x="359" y="50"/>
                </a:lnTo>
                <a:lnTo>
                  <a:pt x="362" y="48"/>
                </a:lnTo>
                <a:lnTo>
                  <a:pt x="365" y="47"/>
                </a:lnTo>
                <a:lnTo>
                  <a:pt x="368" y="44"/>
                </a:lnTo>
                <a:lnTo>
                  <a:pt x="371" y="42"/>
                </a:lnTo>
                <a:lnTo>
                  <a:pt x="372" y="41"/>
                </a:lnTo>
                <a:lnTo>
                  <a:pt x="375" y="39"/>
                </a:lnTo>
                <a:lnTo>
                  <a:pt x="378" y="36"/>
                </a:lnTo>
                <a:lnTo>
                  <a:pt x="381" y="35"/>
                </a:lnTo>
                <a:lnTo>
                  <a:pt x="383" y="33"/>
                </a:lnTo>
                <a:lnTo>
                  <a:pt x="386" y="32"/>
                </a:lnTo>
                <a:lnTo>
                  <a:pt x="389" y="30"/>
                </a:lnTo>
                <a:lnTo>
                  <a:pt x="392" y="27"/>
                </a:lnTo>
                <a:lnTo>
                  <a:pt x="395" y="26"/>
                </a:lnTo>
                <a:lnTo>
                  <a:pt x="397" y="24"/>
                </a:lnTo>
                <a:lnTo>
                  <a:pt x="400" y="23"/>
                </a:lnTo>
                <a:lnTo>
                  <a:pt x="402" y="21"/>
                </a:lnTo>
                <a:lnTo>
                  <a:pt x="405" y="20"/>
                </a:lnTo>
                <a:lnTo>
                  <a:pt x="408" y="17"/>
                </a:lnTo>
                <a:lnTo>
                  <a:pt x="411" y="15"/>
                </a:lnTo>
                <a:lnTo>
                  <a:pt x="414" y="14"/>
                </a:lnTo>
                <a:lnTo>
                  <a:pt x="417" y="12"/>
                </a:lnTo>
                <a:lnTo>
                  <a:pt x="418" y="11"/>
                </a:lnTo>
                <a:lnTo>
                  <a:pt x="421" y="9"/>
                </a:lnTo>
                <a:lnTo>
                  <a:pt x="424" y="8"/>
                </a:lnTo>
                <a:lnTo>
                  <a:pt x="427" y="6"/>
                </a:lnTo>
                <a:lnTo>
                  <a:pt x="430" y="3"/>
                </a:lnTo>
                <a:lnTo>
                  <a:pt x="432" y="2"/>
                </a:lnTo>
                <a:lnTo>
                  <a:pt x="435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2046240" y="2508120"/>
            <a:ext cx="1536840" cy="2237040"/>
          </a:xfrm>
          <a:custGeom>
            <a:avLst/>
            <a:gdLst/>
            <a:ahLst/>
            <a:rect l="l" t="t" r="r" b="b"/>
            <a:pathLst>
              <a:path w="791" h="986">
                <a:moveTo>
                  <a:pt x="0" y="0"/>
                </a:moveTo>
                <a:lnTo>
                  <a:pt x="1" y="24"/>
                </a:lnTo>
                <a:lnTo>
                  <a:pt x="4" y="48"/>
                </a:lnTo>
                <a:lnTo>
                  <a:pt x="7" y="70"/>
                </a:lnTo>
                <a:lnTo>
                  <a:pt x="10" y="93"/>
                </a:lnTo>
                <a:lnTo>
                  <a:pt x="13" y="115"/>
                </a:lnTo>
                <a:lnTo>
                  <a:pt x="16" y="136"/>
                </a:lnTo>
                <a:lnTo>
                  <a:pt x="19" y="158"/>
                </a:lnTo>
                <a:lnTo>
                  <a:pt x="20" y="179"/>
                </a:lnTo>
                <a:lnTo>
                  <a:pt x="23" y="200"/>
                </a:lnTo>
                <a:lnTo>
                  <a:pt x="26" y="220"/>
                </a:lnTo>
                <a:lnTo>
                  <a:pt x="29" y="239"/>
                </a:lnTo>
                <a:lnTo>
                  <a:pt x="31" y="259"/>
                </a:lnTo>
                <a:lnTo>
                  <a:pt x="34" y="278"/>
                </a:lnTo>
                <a:lnTo>
                  <a:pt x="37" y="296"/>
                </a:lnTo>
                <a:lnTo>
                  <a:pt x="40" y="314"/>
                </a:lnTo>
                <a:lnTo>
                  <a:pt x="43" y="334"/>
                </a:lnTo>
                <a:lnTo>
                  <a:pt x="46" y="352"/>
                </a:lnTo>
                <a:lnTo>
                  <a:pt x="49" y="368"/>
                </a:lnTo>
                <a:lnTo>
                  <a:pt x="50" y="384"/>
                </a:lnTo>
                <a:lnTo>
                  <a:pt x="53" y="401"/>
                </a:lnTo>
                <a:lnTo>
                  <a:pt x="56" y="417"/>
                </a:lnTo>
                <a:lnTo>
                  <a:pt x="59" y="434"/>
                </a:lnTo>
                <a:lnTo>
                  <a:pt x="62" y="449"/>
                </a:lnTo>
                <a:lnTo>
                  <a:pt x="65" y="465"/>
                </a:lnTo>
                <a:lnTo>
                  <a:pt x="67" y="480"/>
                </a:lnTo>
                <a:lnTo>
                  <a:pt x="70" y="495"/>
                </a:lnTo>
                <a:lnTo>
                  <a:pt x="73" y="509"/>
                </a:lnTo>
                <a:lnTo>
                  <a:pt x="76" y="524"/>
                </a:lnTo>
                <a:lnTo>
                  <a:pt x="79" y="537"/>
                </a:lnTo>
                <a:lnTo>
                  <a:pt x="80" y="551"/>
                </a:lnTo>
                <a:lnTo>
                  <a:pt x="83" y="564"/>
                </a:lnTo>
                <a:lnTo>
                  <a:pt x="86" y="576"/>
                </a:lnTo>
                <a:lnTo>
                  <a:pt x="89" y="590"/>
                </a:lnTo>
                <a:lnTo>
                  <a:pt x="92" y="601"/>
                </a:lnTo>
                <a:lnTo>
                  <a:pt x="95" y="613"/>
                </a:lnTo>
                <a:lnTo>
                  <a:pt x="97" y="625"/>
                </a:lnTo>
                <a:lnTo>
                  <a:pt x="100" y="637"/>
                </a:lnTo>
                <a:lnTo>
                  <a:pt x="103" y="649"/>
                </a:lnTo>
                <a:lnTo>
                  <a:pt x="106" y="660"/>
                </a:lnTo>
                <a:lnTo>
                  <a:pt x="109" y="670"/>
                </a:lnTo>
                <a:lnTo>
                  <a:pt x="112" y="682"/>
                </a:lnTo>
                <a:lnTo>
                  <a:pt x="115" y="693"/>
                </a:lnTo>
                <a:lnTo>
                  <a:pt x="116" y="702"/>
                </a:lnTo>
                <a:lnTo>
                  <a:pt x="119" y="712"/>
                </a:lnTo>
                <a:lnTo>
                  <a:pt x="122" y="721"/>
                </a:lnTo>
                <a:lnTo>
                  <a:pt x="125" y="732"/>
                </a:lnTo>
                <a:lnTo>
                  <a:pt x="127" y="741"/>
                </a:lnTo>
                <a:lnTo>
                  <a:pt x="130" y="750"/>
                </a:lnTo>
                <a:lnTo>
                  <a:pt x="132" y="759"/>
                </a:lnTo>
                <a:lnTo>
                  <a:pt x="135" y="768"/>
                </a:lnTo>
                <a:lnTo>
                  <a:pt x="138" y="775"/>
                </a:lnTo>
                <a:lnTo>
                  <a:pt x="141" y="784"/>
                </a:lnTo>
                <a:lnTo>
                  <a:pt x="144" y="792"/>
                </a:lnTo>
                <a:lnTo>
                  <a:pt x="146" y="799"/>
                </a:lnTo>
                <a:lnTo>
                  <a:pt x="149" y="807"/>
                </a:lnTo>
                <a:lnTo>
                  <a:pt x="152" y="814"/>
                </a:lnTo>
                <a:lnTo>
                  <a:pt x="155" y="822"/>
                </a:lnTo>
                <a:lnTo>
                  <a:pt x="158" y="829"/>
                </a:lnTo>
                <a:lnTo>
                  <a:pt x="161" y="835"/>
                </a:lnTo>
                <a:lnTo>
                  <a:pt x="162" y="842"/>
                </a:lnTo>
                <a:lnTo>
                  <a:pt x="165" y="848"/>
                </a:lnTo>
                <a:lnTo>
                  <a:pt x="168" y="854"/>
                </a:lnTo>
                <a:lnTo>
                  <a:pt x="171" y="860"/>
                </a:lnTo>
                <a:lnTo>
                  <a:pt x="174" y="866"/>
                </a:lnTo>
                <a:lnTo>
                  <a:pt x="177" y="872"/>
                </a:lnTo>
                <a:lnTo>
                  <a:pt x="180" y="877"/>
                </a:lnTo>
                <a:lnTo>
                  <a:pt x="182" y="883"/>
                </a:lnTo>
                <a:lnTo>
                  <a:pt x="185" y="887"/>
                </a:lnTo>
                <a:lnTo>
                  <a:pt x="188" y="892"/>
                </a:lnTo>
                <a:lnTo>
                  <a:pt x="191" y="898"/>
                </a:lnTo>
                <a:lnTo>
                  <a:pt x="192" y="902"/>
                </a:lnTo>
                <a:lnTo>
                  <a:pt x="195" y="907"/>
                </a:lnTo>
                <a:lnTo>
                  <a:pt x="198" y="911"/>
                </a:lnTo>
                <a:lnTo>
                  <a:pt x="201" y="916"/>
                </a:lnTo>
                <a:lnTo>
                  <a:pt x="204" y="920"/>
                </a:lnTo>
                <a:lnTo>
                  <a:pt x="207" y="923"/>
                </a:lnTo>
                <a:lnTo>
                  <a:pt x="210" y="928"/>
                </a:lnTo>
                <a:lnTo>
                  <a:pt x="212" y="931"/>
                </a:lnTo>
                <a:lnTo>
                  <a:pt x="215" y="935"/>
                </a:lnTo>
                <a:lnTo>
                  <a:pt x="218" y="938"/>
                </a:lnTo>
                <a:lnTo>
                  <a:pt x="221" y="941"/>
                </a:lnTo>
                <a:lnTo>
                  <a:pt x="224" y="944"/>
                </a:lnTo>
                <a:lnTo>
                  <a:pt x="227" y="947"/>
                </a:lnTo>
                <a:lnTo>
                  <a:pt x="228" y="950"/>
                </a:lnTo>
                <a:lnTo>
                  <a:pt x="231" y="953"/>
                </a:lnTo>
                <a:lnTo>
                  <a:pt x="234" y="956"/>
                </a:lnTo>
                <a:lnTo>
                  <a:pt x="237" y="958"/>
                </a:lnTo>
                <a:lnTo>
                  <a:pt x="240" y="961"/>
                </a:lnTo>
                <a:lnTo>
                  <a:pt x="242" y="962"/>
                </a:lnTo>
                <a:lnTo>
                  <a:pt x="245" y="965"/>
                </a:lnTo>
                <a:lnTo>
                  <a:pt x="247" y="967"/>
                </a:lnTo>
                <a:lnTo>
                  <a:pt x="250" y="968"/>
                </a:lnTo>
                <a:lnTo>
                  <a:pt x="253" y="970"/>
                </a:lnTo>
                <a:lnTo>
                  <a:pt x="256" y="973"/>
                </a:lnTo>
                <a:lnTo>
                  <a:pt x="258" y="974"/>
                </a:lnTo>
                <a:lnTo>
                  <a:pt x="261" y="976"/>
                </a:lnTo>
                <a:lnTo>
                  <a:pt x="264" y="977"/>
                </a:lnTo>
                <a:lnTo>
                  <a:pt x="267" y="977"/>
                </a:lnTo>
                <a:lnTo>
                  <a:pt x="270" y="979"/>
                </a:lnTo>
                <a:lnTo>
                  <a:pt x="273" y="980"/>
                </a:lnTo>
                <a:lnTo>
                  <a:pt x="274" y="982"/>
                </a:lnTo>
                <a:lnTo>
                  <a:pt x="277" y="982"/>
                </a:lnTo>
                <a:lnTo>
                  <a:pt x="280" y="983"/>
                </a:lnTo>
                <a:lnTo>
                  <a:pt x="283" y="983"/>
                </a:lnTo>
                <a:lnTo>
                  <a:pt x="286" y="983"/>
                </a:lnTo>
                <a:lnTo>
                  <a:pt x="289" y="985"/>
                </a:lnTo>
                <a:lnTo>
                  <a:pt x="291" y="985"/>
                </a:lnTo>
                <a:lnTo>
                  <a:pt x="294" y="985"/>
                </a:lnTo>
                <a:lnTo>
                  <a:pt x="297" y="985"/>
                </a:lnTo>
                <a:lnTo>
                  <a:pt x="300" y="986"/>
                </a:lnTo>
                <a:lnTo>
                  <a:pt x="303" y="986"/>
                </a:lnTo>
                <a:lnTo>
                  <a:pt x="304" y="986"/>
                </a:lnTo>
                <a:lnTo>
                  <a:pt x="307" y="985"/>
                </a:lnTo>
                <a:lnTo>
                  <a:pt x="310" y="985"/>
                </a:lnTo>
                <a:lnTo>
                  <a:pt x="313" y="985"/>
                </a:lnTo>
                <a:lnTo>
                  <a:pt x="316" y="985"/>
                </a:lnTo>
                <a:lnTo>
                  <a:pt x="319" y="985"/>
                </a:lnTo>
                <a:lnTo>
                  <a:pt x="322" y="983"/>
                </a:lnTo>
                <a:lnTo>
                  <a:pt x="324" y="983"/>
                </a:lnTo>
                <a:lnTo>
                  <a:pt x="327" y="982"/>
                </a:lnTo>
                <a:lnTo>
                  <a:pt x="330" y="982"/>
                </a:lnTo>
                <a:lnTo>
                  <a:pt x="333" y="982"/>
                </a:lnTo>
                <a:lnTo>
                  <a:pt x="336" y="980"/>
                </a:lnTo>
                <a:lnTo>
                  <a:pt x="339" y="979"/>
                </a:lnTo>
                <a:lnTo>
                  <a:pt x="340" y="979"/>
                </a:lnTo>
                <a:lnTo>
                  <a:pt x="343" y="977"/>
                </a:lnTo>
                <a:lnTo>
                  <a:pt x="346" y="976"/>
                </a:lnTo>
                <a:lnTo>
                  <a:pt x="349" y="976"/>
                </a:lnTo>
                <a:lnTo>
                  <a:pt x="352" y="974"/>
                </a:lnTo>
                <a:lnTo>
                  <a:pt x="354" y="973"/>
                </a:lnTo>
                <a:lnTo>
                  <a:pt x="357" y="971"/>
                </a:lnTo>
                <a:lnTo>
                  <a:pt x="360" y="970"/>
                </a:lnTo>
                <a:lnTo>
                  <a:pt x="363" y="968"/>
                </a:lnTo>
                <a:lnTo>
                  <a:pt x="365" y="967"/>
                </a:lnTo>
                <a:lnTo>
                  <a:pt x="368" y="965"/>
                </a:lnTo>
                <a:lnTo>
                  <a:pt x="370" y="964"/>
                </a:lnTo>
                <a:lnTo>
                  <a:pt x="373" y="962"/>
                </a:lnTo>
                <a:lnTo>
                  <a:pt x="376" y="961"/>
                </a:lnTo>
                <a:lnTo>
                  <a:pt x="379" y="959"/>
                </a:lnTo>
                <a:lnTo>
                  <a:pt x="382" y="956"/>
                </a:lnTo>
                <a:lnTo>
                  <a:pt x="385" y="955"/>
                </a:lnTo>
                <a:lnTo>
                  <a:pt x="388" y="953"/>
                </a:lnTo>
                <a:lnTo>
                  <a:pt x="389" y="952"/>
                </a:lnTo>
                <a:lnTo>
                  <a:pt x="392" y="949"/>
                </a:lnTo>
                <a:lnTo>
                  <a:pt x="395" y="947"/>
                </a:lnTo>
                <a:lnTo>
                  <a:pt x="398" y="944"/>
                </a:lnTo>
                <a:lnTo>
                  <a:pt x="400" y="943"/>
                </a:lnTo>
                <a:lnTo>
                  <a:pt x="403" y="941"/>
                </a:lnTo>
                <a:lnTo>
                  <a:pt x="406" y="938"/>
                </a:lnTo>
                <a:lnTo>
                  <a:pt x="409" y="937"/>
                </a:lnTo>
                <a:lnTo>
                  <a:pt x="412" y="934"/>
                </a:lnTo>
                <a:lnTo>
                  <a:pt x="415" y="932"/>
                </a:lnTo>
                <a:lnTo>
                  <a:pt x="418" y="929"/>
                </a:lnTo>
                <a:lnTo>
                  <a:pt x="419" y="926"/>
                </a:lnTo>
                <a:lnTo>
                  <a:pt x="422" y="925"/>
                </a:lnTo>
                <a:lnTo>
                  <a:pt x="425" y="922"/>
                </a:lnTo>
                <a:lnTo>
                  <a:pt x="428" y="919"/>
                </a:lnTo>
                <a:lnTo>
                  <a:pt x="431" y="917"/>
                </a:lnTo>
                <a:lnTo>
                  <a:pt x="433" y="914"/>
                </a:lnTo>
                <a:lnTo>
                  <a:pt x="436" y="911"/>
                </a:lnTo>
                <a:lnTo>
                  <a:pt x="439" y="910"/>
                </a:lnTo>
                <a:lnTo>
                  <a:pt x="442" y="907"/>
                </a:lnTo>
                <a:lnTo>
                  <a:pt x="445" y="904"/>
                </a:lnTo>
                <a:lnTo>
                  <a:pt x="448" y="901"/>
                </a:lnTo>
                <a:lnTo>
                  <a:pt x="449" y="899"/>
                </a:lnTo>
                <a:lnTo>
                  <a:pt x="452" y="896"/>
                </a:lnTo>
                <a:lnTo>
                  <a:pt x="455" y="893"/>
                </a:lnTo>
                <a:lnTo>
                  <a:pt x="458" y="890"/>
                </a:lnTo>
                <a:lnTo>
                  <a:pt x="461" y="887"/>
                </a:lnTo>
                <a:lnTo>
                  <a:pt x="464" y="884"/>
                </a:lnTo>
                <a:lnTo>
                  <a:pt x="466" y="881"/>
                </a:lnTo>
                <a:lnTo>
                  <a:pt x="469" y="878"/>
                </a:lnTo>
                <a:lnTo>
                  <a:pt x="472" y="875"/>
                </a:lnTo>
                <a:lnTo>
                  <a:pt x="475" y="872"/>
                </a:lnTo>
                <a:lnTo>
                  <a:pt x="478" y="869"/>
                </a:lnTo>
                <a:lnTo>
                  <a:pt x="479" y="866"/>
                </a:lnTo>
                <a:lnTo>
                  <a:pt x="482" y="863"/>
                </a:lnTo>
                <a:lnTo>
                  <a:pt x="485" y="860"/>
                </a:lnTo>
                <a:lnTo>
                  <a:pt x="488" y="857"/>
                </a:lnTo>
                <a:lnTo>
                  <a:pt x="491" y="854"/>
                </a:lnTo>
                <a:lnTo>
                  <a:pt x="494" y="851"/>
                </a:lnTo>
                <a:lnTo>
                  <a:pt x="495" y="848"/>
                </a:lnTo>
                <a:lnTo>
                  <a:pt x="498" y="845"/>
                </a:lnTo>
                <a:lnTo>
                  <a:pt x="501" y="842"/>
                </a:lnTo>
                <a:lnTo>
                  <a:pt x="504" y="838"/>
                </a:lnTo>
                <a:lnTo>
                  <a:pt x="507" y="835"/>
                </a:lnTo>
                <a:lnTo>
                  <a:pt x="510" y="832"/>
                </a:lnTo>
                <a:lnTo>
                  <a:pt x="513" y="829"/>
                </a:lnTo>
                <a:lnTo>
                  <a:pt x="515" y="826"/>
                </a:lnTo>
                <a:lnTo>
                  <a:pt x="518" y="823"/>
                </a:lnTo>
                <a:lnTo>
                  <a:pt x="521" y="819"/>
                </a:lnTo>
                <a:lnTo>
                  <a:pt x="524" y="816"/>
                </a:lnTo>
                <a:lnTo>
                  <a:pt x="527" y="813"/>
                </a:lnTo>
                <a:lnTo>
                  <a:pt x="530" y="810"/>
                </a:lnTo>
                <a:lnTo>
                  <a:pt x="531" y="805"/>
                </a:lnTo>
                <a:lnTo>
                  <a:pt x="534" y="802"/>
                </a:lnTo>
                <a:lnTo>
                  <a:pt x="537" y="799"/>
                </a:lnTo>
                <a:lnTo>
                  <a:pt x="540" y="796"/>
                </a:lnTo>
                <a:lnTo>
                  <a:pt x="543" y="792"/>
                </a:lnTo>
                <a:lnTo>
                  <a:pt x="545" y="789"/>
                </a:lnTo>
                <a:lnTo>
                  <a:pt x="548" y="786"/>
                </a:lnTo>
                <a:lnTo>
                  <a:pt x="551" y="783"/>
                </a:lnTo>
                <a:lnTo>
                  <a:pt x="554" y="778"/>
                </a:lnTo>
                <a:lnTo>
                  <a:pt x="557" y="775"/>
                </a:lnTo>
                <a:lnTo>
                  <a:pt x="560" y="772"/>
                </a:lnTo>
                <a:lnTo>
                  <a:pt x="561" y="769"/>
                </a:lnTo>
                <a:lnTo>
                  <a:pt x="564" y="765"/>
                </a:lnTo>
                <a:lnTo>
                  <a:pt x="567" y="762"/>
                </a:lnTo>
                <a:lnTo>
                  <a:pt x="570" y="759"/>
                </a:lnTo>
                <a:lnTo>
                  <a:pt x="573" y="754"/>
                </a:lnTo>
                <a:lnTo>
                  <a:pt x="576" y="751"/>
                </a:lnTo>
                <a:lnTo>
                  <a:pt x="579" y="748"/>
                </a:lnTo>
                <a:lnTo>
                  <a:pt x="581" y="745"/>
                </a:lnTo>
                <a:lnTo>
                  <a:pt x="584" y="741"/>
                </a:lnTo>
                <a:lnTo>
                  <a:pt x="587" y="738"/>
                </a:lnTo>
                <a:lnTo>
                  <a:pt x="590" y="733"/>
                </a:lnTo>
                <a:lnTo>
                  <a:pt x="593" y="730"/>
                </a:lnTo>
                <a:lnTo>
                  <a:pt x="594" y="727"/>
                </a:lnTo>
                <a:lnTo>
                  <a:pt x="597" y="723"/>
                </a:lnTo>
                <a:lnTo>
                  <a:pt x="600" y="720"/>
                </a:lnTo>
                <a:lnTo>
                  <a:pt x="603" y="717"/>
                </a:lnTo>
                <a:lnTo>
                  <a:pt x="606" y="714"/>
                </a:lnTo>
                <a:lnTo>
                  <a:pt x="609" y="709"/>
                </a:lnTo>
                <a:lnTo>
                  <a:pt x="610" y="706"/>
                </a:lnTo>
                <a:lnTo>
                  <a:pt x="613" y="702"/>
                </a:lnTo>
                <a:lnTo>
                  <a:pt x="616" y="699"/>
                </a:lnTo>
                <a:lnTo>
                  <a:pt x="619" y="696"/>
                </a:lnTo>
                <a:lnTo>
                  <a:pt x="622" y="691"/>
                </a:lnTo>
                <a:lnTo>
                  <a:pt x="625" y="688"/>
                </a:lnTo>
                <a:lnTo>
                  <a:pt x="627" y="685"/>
                </a:lnTo>
                <a:lnTo>
                  <a:pt x="630" y="681"/>
                </a:lnTo>
                <a:lnTo>
                  <a:pt x="633" y="678"/>
                </a:lnTo>
                <a:lnTo>
                  <a:pt x="636" y="675"/>
                </a:lnTo>
                <a:lnTo>
                  <a:pt x="639" y="670"/>
                </a:lnTo>
                <a:lnTo>
                  <a:pt x="640" y="667"/>
                </a:lnTo>
                <a:lnTo>
                  <a:pt x="643" y="664"/>
                </a:lnTo>
                <a:lnTo>
                  <a:pt x="646" y="660"/>
                </a:lnTo>
                <a:lnTo>
                  <a:pt x="649" y="657"/>
                </a:lnTo>
                <a:lnTo>
                  <a:pt x="652" y="654"/>
                </a:lnTo>
                <a:lnTo>
                  <a:pt x="655" y="649"/>
                </a:lnTo>
                <a:lnTo>
                  <a:pt x="657" y="646"/>
                </a:lnTo>
                <a:lnTo>
                  <a:pt x="660" y="643"/>
                </a:lnTo>
                <a:lnTo>
                  <a:pt x="663" y="639"/>
                </a:lnTo>
                <a:lnTo>
                  <a:pt x="666" y="636"/>
                </a:lnTo>
                <a:lnTo>
                  <a:pt x="669" y="631"/>
                </a:lnTo>
                <a:lnTo>
                  <a:pt x="672" y="628"/>
                </a:lnTo>
                <a:lnTo>
                  <a:pt x="675" y="625"/>
                </a:lnTo>
                <a:lnTo>
                  <a:pt x="676" y="622"/>
                </a:lnTo>
                <a:lnTo>
                  <a:pt x="679" y="618"/>
                </a:lnTo>
                <a:lnTo>
                  <a:pt x="682" y="615"/>
                </a:lnTo>
                <a:lnTo>
                  <a:pt x="685" y="612"/>
                </a:lnTo>
                <a:lnTo>
                  <a:pt x="688" y="607"/>
                </a:lnTo>
                <a:lnTo>
                  <a:pt x="691" y="604"/>
                </a:lnTo>
                <a:lnTo>
                  <a:pt x="693" y="600"/>
                </a:lnTo>
                <a:lnTo>
                  <a:pt x="696" y="597"/>
                </a:lnTo>
                <a:lnTo>
                  <a:pt x="699" y="594"/>
                </a:lnTo>
                <a:lnTo>
                  <a:pt x="702" y="591"/>
                </a:lnTo>
                <a:lnTo>
                  <a:pt x="705" y="587"/>
                </a:lnTo>
                <a:lnTo>
                  <a:pt x="706" y="584"/>
                </a:lnTo>
                <a:lnTo>
                  <a:pt x="709" y="581"/>
                </a:lnTo>
                <a:lnTo>
                  <a:pt x="712" y="576"/>
                </a:lnTo>
                <a:lnTo>
                  <a:pt x="715" y="573"/>
                </a:lnTo>
                <a:lnTo>
                  <a:pt x="718" y="570"/>
                </a:lnTo>
                <a:lnTo>
                  <a:pt x="721" y="567"/>
                </a:lnTo>
                <a:lnTo>
                  <a:pt x="722" y="563"/>
                </a:lnTo>
                <a:lnTo>
                  <a:pt x="725" y="560"/>
                </a:lnTo>
                <a:lnTo>
                  <a:pt x="728" y="555"/>
                </a:lnTo>
                <a:lnTo>
                  <a:pt x="731" y="552"/>
                </a:lnTo>
                <a:lnTo>
                  <a:pt x="734" y="549"/>
                </a:lnTo>
                <a:lnTo>
                  <a:pt x="737" y="546"/>
                </a:lnTo>
                <a:lnTo>
                  <a:pt x="739" y="543"/>
                </a:lnTo>
                <a:lnTo>
                  <a:pt x="742" y="539"/>
                </a:lnTo>
                <a:lnTo>
                  <a:pt x="745" y="536"/>
                </a:lnTo>
                <a:lnTo>
                  <a:pt x="748" y="533"/>
                </a:lnTo>
                <a:lnTo>
                  <a:pt x="751" y="530"/>
                </a:lnTo>
                <a:lnTo>
                  <a:pt x="754" y="525"/>
                </a:lnTo>
                <a:lnTo>
                  <a:pt x="757" y="522"/>
                </a:lnTo>
                <a:lnTo>
                  <a:pt x="758" y="519"/>
                </a:lnTo>
                <a:lnTo>
                  <a:pt x="761" y="515"/>
                </a:lnTo>
                <a:lnTo>
                  <a:pt x="764" y="512"/>
                </a:lnTo>
                <a:lnTo>
                  <a:pt x="767" y="509"/>
                </a:lnTo>
                <a:lnTo>
                  <a:pt x="770" y="506"/>
                </a:lnTo>
                <a:lnTo>
                  <a:pt x="773" y="503"/>
                </a:lnTo>
                <a:lnTo>
                  <a:pt x="775" y="498"/>
                </a:lnTo>
                <a:lnTo>
                  <a:pt x="778" y="495"/>
                </a:lnTo>
                <a:lnTo>
                  <a:pt x="781" y="492"/>
                </a:lnTo>
                <a:lnTo>
                  <a:pt x="784" y="489"/>
                </a:lnTo>
                <a:lnTo>
                  <a:pt x="787" y="486"/>
                </a:lnTo>
                <a:lnTo>
                  <a:pt x="788" y="482"/>
                </a:lnTo>
                <a:lnTo>
                  <a:pt x="791" y="479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3583080" y="2657520"/>
            <a:ext cx="861840" cy="938160"/>
          </a:xfrm>
          <a:custGeom>
            <a:avLst/>
            <a:gdLst/>
            <a:ahLst/>
            <a:rect l="l" t="t" r="r" b="b"/>
            <a:pathLst>
              <a:path w="444" h="413">
                <a:moveTo>
                  <a:pt x="0" y="413"/>
                </a:moveTo>
                <a:lnTo>
                  <a:pt x="3" y="410"/>
                </a:lnTo>
                <a:lnTo>
                  <a:pt x="6" y="407"/>
                </a:lnTo>
                <a:lnTo>
                  <a:pt x="9" y="402"/>
                </a:lnTo>
                <a:lnTo>
                  <a:pt x="12" y="399"/>
                </a:lnTo>
                <a:lnTo>
                  <a:pt x="14" y="396"/>
                </a:lnTo>
                <a:lnTo>
                  <a:pt x="17" y="393"/>
                </a:lnTo>
                <a:lnTo>
                  <a:pt x="20" y="390"/>
                </a:lnTo>
                <a:lnTo>
                  <a:pt x="23" y="387"/>
                </a:lnTo>
                <a:lnTo>
                  <a:pt x="26" y="384"/>
                </a:lnTo>
                <a:lnTo>
                  <a:pt x="29" y="381"/>
                </a:lnTo>
                <a:lnTo>
                  <a:pt x="32" y="377"/>
                </a:lnTo>
                <a:lnTo>
                  <a:pt x="33" y="374"/>
                </a:lnTo>
                <a:lnTo>
                  <a:pt x="36" y="371"/>
                </a:lnTo>
                <a:lnTo>
                  <a:pt x="39" y="368"/>
                </a:lnTo>
                <a:lnTo>
                  <a:pt x="42" y="365"/>
                </a:lnTo>
                <a:lnTo>
                  <a:pt x="45" y="362"/>
                </a:lnTo>
                <a:lnTo>
                  <a:pt x="48" y="359"/>
                </a:lnTo>
                <a:lnTo>
                  <a:pt x="49" y="356"/>
                </a:lnTo>
                <a:lnTo>
                  <a:pt x="52" y="351"/>
                </a:lnTo>
                <a:lnTo>
                  <a:pt x="55" y="350"/>
                </a:lnTo>
                <a:lnTo>
                  <a:pt x="58" y="345"/>
                </a:lnTo>
                <a:lnTo>
                  <a:pt x="61" y="342"/>
                </a:lnTo>
                <a:lnTo>
                  <a:pt x="63" y="339"/>
                </a:lnTo>
                <a:lnTo>
                  <a:pt x="66" y="336"/>
                </a:lnTo>
                <a:lnTo>
                  <a:pt x="69" y="333"/>
                </a:lnTo>
                <a:lnTo>
                  <a:pt x="72" y="330"/>
                </a:lnTo>
                <a:lnTo>
                  <a:pt x="75" y="327"/>
                </a:lnTo>
                <a:lnTo>
                  <a:pt x="78" y="324"/>
                </a:lnTo>
                <a:lnTo>
                  <a:pt x="79" y="321"/>
                </a:lnTo>
                <a:lnTo>
                  <a:pt x="82" y="318"/>
                </a:lnTo>
                <a:lnTo>
                  <a:pt x="85" y="315"/>
                </a:lnTo>
                <a:lnTo>
                  <a:pt x="88" y="312"/>
                </a:lnTo>
                <a:lnTo>
                  <a:pt x="91" y="309"/>
                </a:lnTo>
                <a:lnTo>
                  <a:pt x="94" y="306"/>
                </a:lnTo>
                <a:lnTo>
                  <a:pt x="96" y="303"/>
                </a:lnTo>
                <a:lnTo>
                  <a:pt x="99" y="300"/>
                </a:lnTo>
                <a:lnTo>
                  <a:pt x="102" y="297"/>
                </a:lnTo>
                <a:lnTo>
                  <a:pt x="105" y="294"/>
                </a:lnTo>
                <a:lnTo>
                  <a:pt x="108" y="291"/>
                </a:lnTo>
                <a:lnTo>
                  <a:pt x="109" y="288"/>
                </a:lnTo>
                <a:lnTo>
                  <a:pt x="112" y="286"/>
                </a:lnTo>
                <a:lnTo>
                  <a:pt x="115" y="283"/>
                </a:lnTo>
                <a:lnTo>
                  <a:pt x="118" y="280"/>
                </a:lnTo>
                <a:lnTo>
                  <a:pt x="121" y="277"/>
                </a:lnTo>
                <a:lnTo>
                  <a:pt x="124" y="274"/>
                </a:lnTo>
                <a:lnTo>
                  <a:pt x="127" y="272"/>
                </a:lnTo>
                <a:lnTo>
                  <a:pt x="129" y="269"/>
                </a:lnTo>
                <a:lnTo>
                  <a:pt x="132" y="266"/>
                </a:lnTo>
                <a:lnTo>
                  <a:pt x="135" y="263"/>
                </a:lnTo>
                <a:lnTo>
                  <a:pt x="138" y="260"/>
                </a:lnTo>
                <a:lnTo>
                  <a:pt x="141" y="257"/>
                </a:lnTo>
                <a:lnTo>
                  <a:pt x="144" y="254"/>
                </a:lnTo>
                <a:lnTo>
                  <a:pt x="145" y="251"/>
                </a:lnTo>
                <a:lnTo>
                  <a:pt x="148" y="248"/>
                </a:lnTo>
                <a:lnTo>
                  <a:pt x="151" y="247"/>
                </a:lnTo>
                <a:lnTo>
                  <a:pt x="154" y="244"/>
                </a:lnTo>
                <a:lnTo>
                  <a:pt x="157" y="241"/>
                </a:lnTo>
                <a:lnTo>
                  <a:pt x="159" y="238"/>
                </a:lnTo>
                <a:lnTo>
                  <a:pt x="161" y="235"/>
                </a:lnTo>
                <a:lnTo>
                  <a:pt x="164" y="233"/>
                </a:lnTo>
                <a:lnTo>
                  <a:pt x="167" y="230"/>
                </a:lnTo>
                <a:lnTo>
                  <a:pt x="170" y="227"/>
                </a:lnTo>
                <a:lnTo>
                  <a:pt x="173" y="224"/>
                </a:lnTo>
                <a:lnTo>
                  <a:pt x="175" y="221"/>
                </a:lnTo>
                <a:lnTo>
                  <a:pt x="178" y="218"/>
                </a:lnTo>
                <a:lnTo>
                  <a:pt x="181" y="217"/>
                </a:lnTo>
                <a:lnTo>
                  <a:pt x="184" y="214"/>
                </a:lnTo>
                <a:lnTo>
                  <a:pt x="187" y="211"/>
                </a:lnTo>
                <a:lnTo>
                  <a:pt x="190" y="208"/>
                </a:lnTo>
                <a:lnTo>
                  <a:pt x="193" y="206"/>
                </a:lnTo>
                <a:lnTo>
                  <a:pt x="194" y="203"/>
                </a:lnTo>
                <a:lnTo>
                  <a:pt x="197" y="200"/>
                </a:lnTo>
                <a:lnTo>
                  <a:pt x="200" y="197"/>
                </a:lnTo>
                <a:lnTo>
                  <a:pt x="203" y="196"/>
                </a:lnTo>
                <a:lnTo>
                  <a:pt x="206" y="193"/>
                </a:lnTo>
                <a:lnTo>
                  <a:pt x="209" y="190"/>
                </a:lnTo>
                <a:lnTo>
                  <a:pt x="211" y="187"/>
                </a:lnTo>
                <a:lnTo>
                  <a:pt x="214" y="185"/>
                </a:lnTo>
                <a:lnTo>
                  <a:pt x="217" y="182"/>
                </a:lnTo>
                <a:lnTo>
                  <a:pt x="220" y="179"/>
                </a:lnTo>
                <a:lnTo>
                  <a:pt x="223" y="178"/>
                </a:lnTo>
                <a:lnTo>
                  <a:pt x="224" y="175"/>
                </a:lnTo>
                <a:lnTo>
                  <a:pt x="227" y="172"/>
                </a:lnTo>
                <a:lnTo>
                  <a:pt x="230" y="170"/>
                </a:lnTo>
                <a:lnTo>
                  <a:pt x="233" y="167"/>
                </a:lnTo>
                <a:lnTo>
                  <a:pt x="236" y="164"/>
                </a:lnTo>
                <a:lnTo>
                  <a:pt x="239" y="161"/>
                </a:lnTo>
                <a:lnTo>
                  <a:pt x="241" y="160"/>
                </a:lnTo>
                <a:lnTo>
                  <a:pt x="244" y="157"/>
                </a:lnTo>
                <a:lnTo>
                  <a:pt x="247" y="154"/>
                </a:lnTo>
                <a:lnTo>
                  <a:pt x="250" y="152"/>
                </a:lnTo>
                <a:lnTo>
                  <a:pt x="253" y="149"/>
                </a:lnTo>
                <a:lnTo>
                  <a:pt x="256" y="146"/>
                </a:lnTo>
                <a:lnTo>
                  <a:pt x="259" y="145"/>
                </a:lnTo>
                <a:lnTo>
                  <a:pt x="260" y="142"/>
                </a:lnTo>
                <a:lnTo>
                  <a:pt x="263" y="140"/>
                </a:lnTo>
                <a:lnTo>
                  <a:pt x="266" y="137"/>
                </a:lnTo>
                <a:lnTo>
                  <a:pt x="269" y="134"/>
                </a:lnTo>
                <a:lnTo>
                  <a:pt x="271" y="133"/>
                </a:lnTo>
                <a:lnTo>
                  <a:pt x="274" y="130"/>
                </a:lnTo>
                <a:lnTo>
                  <a:pt x="277" y="128"/>
                </a:lnTo>
                <a:lnTo>
                  <a:pt x="279" y="125"/>
                </a:lnTo>
                <a:lnTo>
                  <a:pt x="282" y="122"/>
                </a:lnTo>
                <a:lnTo>
                  <a:pt x="285" y="121"/>
                </a:lnTo>
                <a:lnTo>
                  <a:pt x="288" y="118"/>
                </a:lnTo>
                <a:lnTo>
                  <a:pt x="290" y="116"/>
                </a:lnTo>
                <a:lnTo>
                  <a:pt x="293" y="113"/>
                </a:lnTo>
                <a:lnTo>
                  <a:pt x="296" y="112"/>
                </a:lnTo>
                <a:lnTo>
                  <a:pt x="299" y="109"/>
                </a:lnTo>
                <a:lnTo>
                  <a:pt x="302" y="107"/>
                </a:lnTo>
                <a:lnTo>
                  <a:pt x="305" y="104"/>
                </a:lnTo>
                <a:lnTo>
                  <a:pt x="306" y="101"/>
                </a:lnTo>
                <a:lnTo>
                  <a:pt x="309" y="100"/>
                </a:lnTo>
                <a:lnTo>
                  <a:pt x="312" y="97"/>
                </a:lnTo>
                <a:lnTo>
                  <a:pt x="315" y="95"/>
                </a:lnTo>
                <a:lnTo>
                  <a:pt x="318" y="94"/>
                </a:lnTo>
                <a:lnTo>
                  <a:pt x="320" y="91"/>
                </a:lnTo>
                <a:lnTo>
                  <a:pt x="323" y="89"/>
                </a:lnTo>
                <a:lnTo>
                  <a:pt x="326" y="86"/>
                </a:lnTo>
                <a:lnTo>
                  <a:pt x="329" y="83"/>
                </a:lnTo>
                <a:lnTo>
                  <a:pt x="332" y="82"/>
                </a:lnTo>
                <a:lnTo>
                  <a:pt x="335" y="80"/>
                </a:lnTo>
                <a:lnTo>
                  <a:pt x="336" y="77"/>
                </a:lnTo>
                <a:lnTo>
                  <a:pt x="339" y="76"/>
                </a:lnTo>
                <a:lnTo>
                  <a:pt x="342" y="73"/>
                </a:lnTo>
                <a:lnTo>
                  <a:pt x="345" y="71"/>
                </a:lnTo>
                <a:lnTo>
                  <a:pt x="348" y="68"/>
                </a:lnTo>
                <a:lnTo>
                  <a:pt x="351" y="67"/>
                </a:lnTo>
                <a:lnTo>
                  <a:pt x="354" y="64"/>
                </a:lnTo>
                <a:lnTo>
                  <a:pt x="356" y="62"/>
                </a:lnTo>
                <a:lnTo>
                  <a:pt x="359" y="61"/>
                </a:lnTo>
                <a:lnTo>
                  <a:pt x="362" y="58"/>
                </a:lnTo>
                <a:lnTo>
                  <a:pt x="365" y="56"/>
                </a:lnTo>
                <a:lnTo>
                  <a:pt x="368" y="53"/>
                </a:lnTo>
                <a:lnTo>
                  <a:pt x="371" y="52"/>
                </a:lnTo>
                <a:lnTo>
                  <a:pt x="372" y="50"/>
                </a:lnTo>
                <a:lnTo>
                  <a:pt x="375" y="47"/>
                </a:lnTo>
                <a:lnTo>
                  <a:pt x="378" y="46"/>
                </a:lnTo>
                <a:lnTo>
                  <a:pt x="381" y="44"/>
                </a:lnTo>
                <a:lnTo>
                  <a:pt x="383" y="42"/>
                </a:lnTo>
                <a:lnTo>
                  <a:pt x="386" y="40"/>
                </a:lnTo>
                <a:lnTo>
                  <a:pt x="389" y="39"/>
                </a:lnTo>
                <a:lnTo>
                  <a:pt x="392" y="36"/>
                </a:lnTo>
                <a:lnTo>
                  <a:pt x="395" y="34"/>
                </a:lnTo>
                <a:lnTo>
                  <a:pt x="397" y="33"/>
                </a:lnTo>
                <a:lnTo>
                  <a:pt x="400" y="30"/>
                </a:lnTo>
                <a:lnTo>
                  <a:pt x="402" y="28"/>
                </a:lnTo>
                <a:lnTo>
                  <a:pt x="405" y="25"/>
                </a:lnTo>
                <a:lnTo>
                  <a:pt x="408" y="24"/>
                </a:lnTo>
                <a:lnTo>
                  <a:pt x="411" y="22"/>
                </a:lnTo>
                <a:lnTo>
                  <a:pt x="414" y="21"/>
                </a:lnTo>
                <a:lnTo>
                  <a:pt x="417" y="18"/>
                </a:lnTo>
                <a:lnTo>
                  <a:pt x="418" y="16"/>
                </a:lnTo>
                <a:lnTo>
                  <a:pt x="421" y="15"/>
                </a:lnTo>
                <a:lnTo>
                  <a:pt x="424" y="13"/>
                </a:lnTo>
                <a:lnTo>
                  <a:pt x="427" y="10"/>
                </a:lnTo>
                <a:lnTo>
                  <a:pt x="430" y="9"/>
                </a:lnTo>
                <a:lnTo>
                  <a:pt x="432" y="7"/>
                </a:lnTo>
                <a:lnTo>
                  <a:pt x="435" y="6"/>
                </a:lnTo>
                <a:lnTo>
                  <a:pt x="438" y="3"/>
                </a:lnTo>
                <a:lnTo>
                  <a:pt x="441" y="1"/>
                </a:lnTo>
                <a:lnTo>
                  <a:pt x="444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1220760" y="4784760"/>
            <a:ext cx="3348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1192320" y="4532400"/>
            <a:ext cx="619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1220760" y="4284720"/>
            <a:ext cx="3348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192320" y="4032360"/>
            <a:ext cx="619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220760" y="3780000"/>
            <a:ext cx="33480" cy="2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192320" y="3527280"/>
            <a:ext cx="6192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220760" y="3281400"/>
            <a:ext cx="33480" cy="3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192320" y="3030480"/>
            <a:ext cx="61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220760" y="2778120"/>
            <a:ext cx="3348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1192320" y="2527200"/>
            <a:ext cx="61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 flipV="1">
            <a:off x="1254240" y="2527200"/>
            <a:ext cx="3240" cy="2508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V="1">
            <a:off x="1254240" y="5006880"/>
            <a:ext cx="3240" cy="38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2057400" y="5006880"/>
            <a:ext cx="3240" cy="74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V="1">
            <a:off x="2859120" y="5006880"/>
            <a:ext cx="1440" cy="38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 flipV="1">
            <a:off x="3659040" y="5006880"/>
            <a:ext cx="1800" cy="74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4462560" y="5006880"/>
            <a:ext cx="1440" cy="38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1254240" y="5006880"/>
            <a:ext cx="3208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1192320" y="5006880"/>
            <a:ext cx="61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 flipV="1">
            <a:off x="1636560" y="5024160"/>
            <a:ext cx="1800" cy="36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2443320" y="5024160"/>
            <a:ext cx="1440" cy="36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V="1">
            <a:off x="3252960" y="5024160"/>
            <a:ext cx="1440" cy="36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 flipV="1">
            <a:off x="4057560" y="5024160"/>
            <a:ext cx="1800" cy="36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5330880" y="4970520"/>
            <a:ext cx="223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5305320" y="472608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5305320" y="447372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5305320" y="422928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5305320" y="397512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5305320" y="3732120"/>
            <a:ext cx="22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5305320" y="347832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5305320" y="3233880"/>
            <a:ext cx="2232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5305320" y="2981160"/>
            <a:ext cx="22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5305320" y="2736720"/>
            <a:ext cx="22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5305320" y="2484360"/>
            <a:ext cx="223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334120" y="4971960"/>
            <a:ext cx="319392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 flipV="1">
            <a:off x="5651640" y="5003280"/>
            <a:ext cx="144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 flipV="1">
            <a:off x="597204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 flipV="1">
            <a:off x="6291360" y="5003280"/>
            <a:ext cx="144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 flipV="1">
            <a:off x="661176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 flipV="1">
            <a:off x="693252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 flipV="1">
            <a:off x="7245360" y="5003280"/>
            <a:ext cx="144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 flipV="1">
            <a:off x="756432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 flipV="1">
            <a:off x="788508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 flipV="1">
            <a:off x="8205840" y="5003280"/>
            <a:ext cx="144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524800" y="5003280"/>
            <a:ext cx="1800" cy="255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5786280" y="2449440"/>
            <a:ext cx="22320" cy="209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808600" y="2658960"/>
            <a:ext cx="163440" cy="1116000"/>
          </a:xfrm>
          <a:custGeom>
            <a:avLst/>
            <a:gdLst/>
            <a:ahLst/>
            <a:rect l="l" t="t" r="r" b="b"/>
            <a:pathLst>
              <a:path w="103" h="703">
                <a:moveTo>
                  <a:pt x="0" y="0"/>
                </a:moveTo>
                <a:lnTo>
                  <a:pt x="13" y="121"/>
                </a:lnTo>
                <a:lnTo>
                  <a:pt x="26" y="231"/>
                </a:lnTo>
                <a:lnTo>
                  <a:pt x="40" y="329"/>
                </a:lnTo>
                <a:lnTo>
                  <a:pt x="49" y="417"/>
                </a:lnTo>
                <a:lnTo>
                  <a:pt x="62" y="494"/>
                </a:lnTo>
                <a:lnTo>
                  <a:pt x="76" y="571"/>
                </a:lnTo>
                <a:lnTo>
                  <a:pt x="89" y="637"/>
                </a:lnTo>
                <a:lnTo>
                  <a:pt x="103" y="70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5972040" y="3774960"/>
            <a:ext cx="155880" cy="497160"/>
          </a:xfrm>
          <a:custGeom>
            <a:avLst/>
            <a:gdLst/>
            <a:ahLst/>
            <a:rect l="l" t="t" r="r" b="b"/>
            <a:pathLst>
              <a:path w="98" h="313">
                <a:moveTo>
                  <a:pt x="0" y="0"/>
                </a:moveTo>
                <a:lnTo>
                  <a:pt x="13" y="61"/>
                </a:lnTo>
                <a:lnTo>
                  <a:pt x="22" y="110"/>
                </a:lnTo>
                <a:lnTo>
                  <a:pt x="35" y="154"/>
                </a:lnTo>
                <a:lnTo>
                  <a:pt x="49" y="192"/>
                </a:lnTo>
                <a:lnTo>
                  <a:pt x="62" y="231"/>
                </a:lnTo>
                <a:lnTo>
                  <a:pt x="76" y="264"/>
                </a:lnTo>
                <a:lnTo>
                  <a:pt x="98" y="31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6127920" y="4272120"/>
            <a:ext cx="163440" cy="104760"/>
          </a:xfrm>
          <a:custGeom>
            <a:avLst/>
            <a:gdLst/>
            <a:ahLst/>
            <a:rect l="l" t="t" r="r" b="b"/>
            <a:pathLst>
              <a:path w="103" h="66">
                <a:moveTo>
                  <a:pt x="0" y="0"/>
                </a:moveTo>
                <a:lnTo>
                  <a:pt x="14" y="22"/>
                </a:lnTo>
                <a:lnTo>
                  <a:pt x="27" y="33"/>
                </a:lnTo>
                <a:lnTo>
                  <a:pt x="49" y="55"/>
                </a:lnTo>
                <a:lnTo>
                  <a:pt x="76" y="66"/>
                </a:lnTo>
                <a:lnTo>
                  <a:pt x="103" y="6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6291360" y="4272120"/>
            <a:ext cx="156960" cy="104760"/>
          </a:xfrm>
          <a:custGeom>
            <a:avLst/>
            <a:gdLst/>
            <a:ahLst/>
            <a:rect l="l" t="t" r="r" b="b"/>
            <a:pathLst>
              <a:path w="99" h="66">
                <a:moveTo>
                  <a:pt x="0" y="66"/>
                </a:moveTo>
                <a:lnTo>
                  <a:pt x="27" y="61"/>
                </a:lnTo>
                <a:lnTo>
                  <a:pt x="50" y="44"/>
                </a:lnTo>
                <a:lnTo>
                  <a:pt x="72" y="22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6448320" y="4054320"/>
            <a:ext cx="163440" cy="217800"/>
          </a:xfrm>
          <a:custGeom>
            <a:avLst/>
            <a:gdLst/>
            <a:ahLst/>
            <a:rect l="l" t="t" r="r" b="b"/>
            <a:pathLst>
              <a:path w="103" h="137">
                <a:moveTo>
                  <a:pt x="0" y="137"/>
                </a:moveTo>
                <a:lnTo>
                  <a:pt x="27" y="110"/>
                </a:lnTo>
                <a:lnTo>
                  <a:pt x="49" y="77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6611760" y="3784680"/>
            <a:ext cx="157320" cy="26964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49" y="88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6769080" y="3495600"/>
            <a:ext cx="163440" cy="289080"/>
          </a:xfrm>
          <a:custGeom>
            <a:avLst/>
            <a:gdLst/>
            <a:ahLst/>
            <a:rect l="l" t="t" r="r" b="b"/>
            <a:pathLst>
              <a:path w="103" h="182">
                <a:moveTo>
                  <a:pt x="0" y="182"/>
                </a:moveTo>
                <a:lnTo>
                  <a:pt x="49" y="94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6932520" y="3216240"/>
            <a:ext cx="155520" cy="279360"/>
          </a:xfrm>
          <a:custGeom>
            <a:avLst/>
            <a:gdLst/>
            <a:ahLst/>
            <a:rect l="l" t="t" r="r" b="b"/>
            <a:pathLst>
              <a:path w="98" h="176">
                <a:moveTo>
                  <a:pt x="0" y="176"/>
                </a:moveTo>
                <a:lnTo>
                  <a:pt x="49" y="88"/>
                </a:lnTo>
                <a:lnTo>
                  <a:pt x="9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7088040" y="2955960"/>
            <a:ext cx="157320" cy="260280"/>
          </a:xfrm>
          <a:custGeom>
            <a:avLst/>
            <a:gdLst/>
            <a:ahLst/>
            <a:rect l="l" t="t" r="r" b="b"/>
            <a:pathLst>
              <a:path w="99" h="164">
                <a:moveTo>
                  <a:pt x="0" y="164"/>
                </a:moveTo>
                <a:lnTo>
                  <a:pt x="49" y="82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7245360" y="2719440"/>
            <a:ext cx="163440" cy="236520"/>
          </a:xfrm>
          <a:custGeom>
            <a:avLst/>
            <a:gdLst/>
            <a:ahLst/>
            <a:rect l="l" t="t" r="r" b="b"/>
            <a:pathLst>
              <a:path w="103" h="149">
                <a:moveTo>
                  <a:pt x="0" y="149"/>
                </a:moveTo>
                <a:lnTo>
                  <a:pt x="49" y="72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7408800" y="2502000"/>
            <a:ext cx="155520" cy="217440"/>
          </a:xfrm>
          <a:custGeom>
            <a:avLst/>
            <a:gdLst/>
            <a:ahLst/>
            <a:rect l="l" t="t" r="r" b="b"/>
            <a:pathLst>
              <a:path w="98" h="137">
                <a:moveTo>
                  <a:pt x="0" y="137"/>
                </a:moveTo>
                <a:lnTo>
                  <a:pt x="49" y="66"/>
                </a:lnTo>
                <a:lnTo>
                  <a:pt x="98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5900760" y="2489040"/>
            <a:ext cx="71280" cy="657360"/>
          </a:xfrm>
          <a:custGeom>
            <a:avLst/>
            <a:gdLst/>
            <a:ahLst/>
            <a:rect l="l" t="t" r="r" b="b"/>
            <a:pathLst>
              <a:path w="45" h="414">
                <a:moveTo>
                  <a:pt x="0" y="0"/>
                </a:moveTo>
                <a:lnTo>
                  <a:pt x="4" y="52"/>
                </a:lnTo>
                <a:lnTo>
                  <a:pt x="18" y="178"/>
                </a:lnTo>
                <a:lnTo>
                  <a:pt x="31" y="299"/>
                </a:lnTo>
                <a:lnTo>
                  <a:pt x="45" y="41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5972040" y="3146400"/>
            <a:ext cx="155880" cy="968400"/>
          </a:xfrm>
          <a:custGeom>
            <a:avLst/>
            <a:gdLst/>
            <a:ahLst/>
            <a:rect l="l" t="t" r="r" b="b"/>
            <a:pathLst>
              <a:path w="98" h="610">
                <a:moveTo>
                  <a:pt x="0" y="0"/>
                </a:moveTo>
                <a:lnTo>
                  <a:pt x="13" y="105"/>
                </a:lnTo>
                <a:lnTo>
                  <a:pt x="26" y="204"/>
                </a:lnTo>
                <a:lnTo>
                  <a:pt x="35" y="286"/>
                </a:lnTo>
                <a:lnTo>
                  <a:pt x="49" y="363"/>
                </a:lnTo>
                <a:lnTo>
                  <a:pt x="62" y="435"/>
                </a:lnTo>
                <a:lnTo>
                  <a:pt x="71" y="495"/>
                </a:lnTo>
                <a:lnTo>
                  <a:pt x="85" y="555"/>
                </a:lnTo>
                <a:lnTo>
                  <a:pt x="98" y="61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6127920" y="4114800"/>
            <a:ext cx="163440" cy="401760"/>
          </a:xfrm>
          <a:custGeom>
            <a:avLst/>
            <a:gdLst/>
            <a:ahLst/>
            <a:rect l="l" t="t" r="r" b="b"/>
            <a:pathLst>
              <a:path w="103" h="253">
                <a:moveTo>
                  <a:pt x="0" y="0"/>
                </a:moveTo>
                <a:lnTo>
                  <a:pt x="14" y="50"/>
                </a:lnTo>
                <a:lnTo>
                  <a:pt x="27" y="88"/>
                </a:lnTo>
                <a:lnTo>
                  <a:pt x="41" y="127"/>
                </a:lnTo>
                <a:lnTo>
                  <a:pt x="49" y="160"/>
                </a:lnTo>
                <a:lnTo>
                  <a:pt x="63" y="187"/>
                </a:lnTo>
                <a:lnTo>
                  <a:pt x="76" y="215"/>
                </a:lnTo>
                <a:lnTo>
                  <a:pt x="103" y="25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6291360" y="4516560"/>
            <a:ext cx="15696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0"/>
                </a:moveTo>
                <a:lnTo>
                  <a:pt x="14" y="17"/>
                </a:lnTo>
                <a:lnTo>
                  <a:pt x="27" y="28"/>
                </a:lnTo>
                <a:lnTo>
                  <a:pt x="50" y="44"/>
                </a:lnTo>
                <a:lnTo>
                  <a:pt x="72" y="50"/>
                </a:lnTo>
                <a:lnTo>
                  <a:pt x="99" y="44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6448320" y="4446720"/>
            <a:ext cx="163440" cy="139680"/>
          </a:xfrm>
          <a:custGeom>
            <a:avLst/>
            <a:gdLst/>
            <a:ahLst/>
            <a:rect l="l" t="t" r="r" b="b"/>
            <a:pathLst>
              <a:path w="103" h="88">
                <a:moveTo>
                  <a:pt x="0" y="88"/>
                </a:moveTo>
                <a:lnTo>
                  <a:pt x="27" y="77"/>
                </a:lnTo>
                <a:lnTo>
                  <a:pt x="49" y="55"/>
                </a:lnTo>
                <a:lnTo>
                  <a:pt x="76" y="28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6611760" y="4211640"/>
            <a:ext cx="157320" cy="235080"/>
          </a:xfrm>
          <a:custGeom>
            <a:avLst/>
            <a:gdLst/>
            <a:ahLst/>
            <a:rect l="l" t="t" r="r" b="b"/>
            <a:pathLst>
              <a:path w="99" h="148">
                <a:moveTo>
                  <a:pt x="0" y="148"/>
                </a:moveTo>
                <a:lnTo>
                  <a:pt x="27" y="115"/>
                </a:lnTo>
                <a:lnTo>
                  <a:pt x="49" y="82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6769080" y="3914640"/>
            <a:ext cx="163440" cy="297000"/>
          </a:xfrm>
          <a:custGeom>
            <a:avLst/>
            <a:gdLst/>
            <a:ahLst/>
            <a:rect l="l" t="t" r="r" b="b"/>
            <a:pathLst>
              <a:path w="103" h="187">
                <a:moveTo>
                  <a:pt x="0" y="187"/>
                </a:moveTo>
                <a:lnTo>
                  <a:pt x="26" y="143"/>
                </a:lnTo>
                <a:lnTo>
                  <a:pt x="49" y="93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 flipV="1">
            <a:off x="6932520" y="3618000"/>
            <a:ext cx="155520" cy="296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7088040" y="3330720"/>
            <a:ext cx="157320" cy="287280"/>
          </a:xfrm>
          <a:custGeom>
            <a:avLst/>
            <a:gdLst/>
            <a:ahLst/>
            <a:rect l="l" t="t" r="r" b="b"/>
            <a:pathLst>
              <a:path w="99" h="181">
                <a:moveTo>
                  <a:pt x="0" y="181"/>
                </a:moveTo>
                <a:lnTo>
                  <a:pt x="49" y="88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7245360" y="3060720"/>
            <a:ext cx="163440" cy="270000"/>
          </a:xfrm>
          <a:custGeom>
            <a:avLst/>
            <a:gdLst/>
            <a:ahLst/>
            <a:rect l="l" t="t" r="r" b="b"/>
            <a:pathLst>
              <a:path w="103" h="170">
                <a:moveTo>
                  <a:pt x="0" y="170"/>
                </a:moveTo>
                <a:lnTo>
                  <a:pt x="49" y="82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7408800" y="2816280"/>
            <a:ext cx="155520" cy="244440"/>
          </a:xfrm>
          <a:custGeom>
            <a:avLst/>
            <a:gdLst/>
            <a:ahLst/>
            <a:rect l="l" t="t" r="r" b="b"/>
            <a:pathLst>
              <a:path w="98" h="154">
                <a:moveTo>
                  <a:pt x="0" y="154"/>
                </a:moveTo>
                <a:lnTo>
                  <a:pt x="49" y="77"/>
                </a:lnTo>
                <a:lnTo>
                  <a:pt x="9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564320" y="2597040"/>
            <a:ext cx="163800" cy="219240"/>
          </a:xfrm>
          <a:custGeom>
            <a:avLst/>
            <a:gdLst/>
            <a:ahLst/>
            <a:rect l="l" t="t" r="r" b="b"/>
            <a:pathLst>
              <a:path w="103" h="138">
                <a:moveTo>
                  <a:pt x="0" y="138"/>
                </a:moveTo>
                <a:lnTo>
                  <a:pt x="50" y="66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V="1">
            <a:off x="7728120" y="2491920"/>
            <a:ext cx="79200" cy="10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6013440" y="2457360"/>
            <a:ext cx="114480" cy="1135080"/>
          </a:xfrm>
          <a:custGeom>
            <a:avLst/>
            <a:gdLst/>
            <a:ahLst/>
            <a:rect l="l" t="t" r="r" b="b"/>
            <a:pathLst>
              <a:path w="72" h="715">
                <a:moveTo>
                  <a:pt x="0" y="0"/>
                </a:moveTo>
                <a:lnTo>
                  <a:pt x="9" y="143"/>
                </a:lnTo>
                <a:lnTo>
                  <a:pt x="23" y="275"/>
                </a:lnTo>
                <a:lnTo>
                  <a:pt x="36" y="396"/>
                </a:lnTo>
                <a:lnTo>
                  <a:pt x="45" y="506"/>
                </a:lnTo>
                <a:lnTo>
                  <a:pt x="59" y="616"/>
                </a:lnTo>
                <a:lnTo>
                  <a:pt x="72" y="715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6127920" y="3592440"/>
            <a:ext cx="163440" cy="836640"/>
          </a:xfrm>
          <a:custGeom>
            <a:avLst/>
            <a:gdLst/>
            <a:ahLst/>
            <a:rect l="l" t="t" r="r" b="b"/>
            <a:pathLst>
              <a:path w="103" h="527">
                <a:moveTo>
                  <a:pt x="0" y="0"/>
                </a:moveTo>
                <a:lnTo>
                  <a:pt x="14" y="93"/>
                </a:lnTo>
                <a:lnTo>
                  <a:pt x="27" y="176"/>
                </a:lnTo>
                <a:lnTo>
                  <a:pt x="41" y="247"/>
                </a:lnTo>
                <a:lnTo>
                  <a:pt x="49" y="313"/>
                </a:lnTo>
                <a:lnTo>
                  <a:pt x="63" y="373"/>
                </a:lnTo>
                <a:lnTo>
                  <a:pt x="76" y="428"/>
                </a:lnTo>
                <a:lnTo>
                  <a:pt x="90" y="478"/>
                </a:lnTo>
                <a:lnTo>
                  <a:pt x="103" y="527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6291360" y="4429080"/>
            <a:ext cx="156960" cy="331920"/>
          </a:xfrm>
          <a:custGeom>
            <a:avLst/>
            <a:gdLst/>
            <a:ahLst/>
            <a:rect l="l" t="t" r="r" b="b"/>
            <a:pathLst>
              <a:path w="99" h="209">
                <a:moveTo>
                  <a:pt x="0" y="0"/>
                </a:moveTo>
                <a:lnTo>
                  <a:pt x="14" y="39"/>
                </a:lnTo>
                <a:lnTo>
                  <a:pt x="23" y="77"/>
                </a:lnTo>
                <a:lnTo>
                  <a:pt x="36" y="110"/>
                </a:lnTo>
                <a:lnTo>
                  <a:pt x="50" y="132"/>
                </a:lnTo>
                <a:lnTo>
                  <a:pt x="76" y="176"/>
                </a:lnTo>
                <a:lnTo>
                  <a:pt x="99" y="209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6448320" y="4761000"/>
            <a:ext cx="163440" cy="34920"/>
          </a:xfrm>
          <a:custGeom>
            <a:avLst/>
            <a:gdLst/>
            <a:ahLst/>
            <a:rect l="l" t="t" r="r" b="b"/>
            <a:pathLst>
              <a:path w="103" h="22">
                <a:moveTo>
                  <a:pt x="0" y="0"/>
                </a:moveTo>
                <a:lnTo>
                  <a:pt x="13" y="11"/>
                </a:lnTo>
                <a:lnTo>
                  <a:pt x="27" y="17"/>
                </a:lnTo>
                <a:lnTo>
                  <a:pt x="49" y="22"/>
                </a:lnTo>
                <a:lnTo>
                  <a:pt x="76" y="22"/>
                </a:lnTo>
                <a:lnTo>
                  <a:pt x="103" y="11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6611760" y="4621320"/>
            <a:ext cx="157320" cy="156960"/>
          </a:xfrm>
          <a:custGeom>
            <a:avLst/>
            <a:gdLst/>
            <a:ahLst/>
            <a:rect l="l" t="t" r="r" b="b"/>
            <a:pathLst>
              <a:path w="99" h="99">
                <a:moveTo>
                  <a:pt x="0" y="99"/>
                </a:moveTo>
                <a:lnTo>
                  <a:pt x="27" y="83"/>
                </a:lnTo>
                <a:lnTo>
                  <a:pt x="49" y="61"/>
                </a:lnTo>
                <a:lnTo>
                  <a:pt x="72" y="33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6769080" y="4359240"/>
            <a:ext cx="163440" cy="262080"/>
          </a:xfrm>
          <a:custGeom>
            <a:avLst/>
            <a:gdLst/>
            <a:ahLst/>
            <a:rect l="l" t="t" r="r" b="b"/>
            <a:pathLst>
              <a:path w="103" h="165">
                <a:moveTo>
                  <a:pt x="0" y="165"/>
                </a:moveTo>
                <a:lnTo>
                  <a:pt x="26" y="127"/>
                </a:lnTo>
                <a:lnTo>
                  <a:pt x="49" y="88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6932520" y="4062240"/>
            <a:ext cx="155520" cy="297000"/>
          </a:xfrm>
          <a:custGeom>
            <a:avLst/>
            <a:gdLst/>
            <a:ahLst/>
            <a:rect l="l" t="t" r="r" b="b"/>
            <a:pathLst>
              <a:path w="98" h="187">
                <a:moveTo>
                  <a:pt x="0" y="187"/>
                </a:moveTo>
                <a:lnTo>
                  <a:pt x="49" y="94"/>
                </a:lnTo>
                <a:lnTo>
                  <a:pt x="98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7088040" y="3749760"/>
            <a:ext cx="157320" cy="312480"/>
          </a:xfrm>
          <a:custGeom>
            <a:avLst/>
            <a:gdLst/>
            <a:ahLst/>
            <a:rect l="l" t="t" r="r" b="b"/>
            <a:pathLst>
              <a:path w="99" h="197">
                <a:moveTo>
                  <a:pt x="0" y="197"/>
                </a:moveTo>
                <a:lnTo>
                  <a:pt x="49" y="99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245360" y="3452400"/>
            <a:ext cx="163440" cy="297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7408800" y="3173400"/>
            <a:ext cx="155520" cy="279360"/>
          </a:xfrm>
          <a:custGeom>
            <a:avLst/>
            <a:gdLst/>
            <a:ahLst/>
            <a:rect l="l" t="t" r="r" b="b"/>
            <a:pathLst>
              <a:path w="98" h="176">
                <a:moveTo>
                  <a:pt x="0" y="176"/>
                </a:moveTo>
                <a:lnTo>
                  <a:pt x="49" y="88"/>
                </a:lnTo>
                <a:lnTo>
                  <a:pt x="98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7564320" y="2921040"/>
            <a:ext cx="163800" cy="252360"/>
          </a:xfrm>
          <a:custGeom>
            <a:avLst/>
            <a:gdLst/>
            <a:ahLst/>
            <a:rect l="l" t="t" r="r" b="b"/>
            <a:pathLst>
              <a:path w="103" h="159">
                <a:moveTo>
                  <a:pt x="0" y="159"/>
                </a:moveTo>
                <a:lnTo>
                  <a:pt x="50" y="77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7728120" y="2684520"/>
            <a:ext cx="156960" cy="236520"/>
          </a:xfrm>
          <a:custGeom>
            <a:avLst/>
            <a:gdLst/>
            <a:ahLst/>
            <a:rect l="l" t="t" r="r" b="b"/>
            <a:pathLst>
              <a:path w="99" h="149">
                <a:moveTo>
                  <a:pt x="0" y="149"/>
                </a:moveTo>
                <a:lnTo>
                  <a:pt x="50" y="72"/>
                </a:lnTo>
                <a:lnTo>
                  <a:pt x="99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7885080" y="2484360"/>
            <a:ext cx="163440" cy="200160"/>
          </a:xfrm>
          <a:custGeom>
            <a:avLst/>
            <a:gdLst/>
            <a:ahLst/>
            <a:rect l="l" t="t" r="r" b="b"/>
            <a:pathLst>
              <a:path w="103" h="126">
                <a:moveTo>
                  <a:pt x="0" y="126"/>
                </a:moveTo>
                <a:lnTo>
                  <a:pt x="49" y="60"/>
                </a:lnTo>
                <a:lnTo>
                  <a:pt x="103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202360" y="5035680"/>
            <a:ext cx="56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6819840" y="505944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8435880" y="503568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6553080" y="5562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 flipV="1">
            <a:off x="5334120" y="2438280"/>
            <a:ext cx="2880" cy="2508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4800960" y="4362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4800960" y="33526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4927680" y="23623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2517120" y="16765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-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479280" y="1752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-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4572000" y="1143000"/>
            <a:ext cx="838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7848720" y="914400"/>
            <a:ext cx="838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81840" y="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76964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High-resolution spectroscopy of radical-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Rg-OH, Rg-SH, Ar-HO</a:t>
            </a:r>
            <a:r>
              <a:rPr b="1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ja-JP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ja-JP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O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ure rotational transitions of ArSH  and Ar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in the ground state by FTMW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Two-dimensional PES of Ar-SH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4400" y="5013360"/>
            <a:ext cx="405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CP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13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121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JMS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22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8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"/>
          <p:cNvSpPr/>
          <p:nvPr/>
        </p:nvSpPr>
        <p:spPr>
          <a:xfrm>
            <a:off x="3289320" y="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pol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6860160" y="55627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CCSD(T)/av5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314440" y="482904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rot="16200000">
            <a:off x="-235440" y="276444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/ Deb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097320" y="2362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4955040" y="1720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4974120" y="2590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4986720" y="34732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5229720" y="419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0.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6753600" y="419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8231760" y="419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6746760" y="4767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/ a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838080" y="17524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0.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838080" y="25909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0.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1143000" y="419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2743200" y="419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4267080" y="419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1.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2792520" y="1295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599880" y="13240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1378080" y="2311560"/>
            <a:ext cx="252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1406520" y="1876320"/>
            <a:ext cx="1440" cy="2192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1406520" y="4068720"/>
            <a:ext cx="25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1378080" y="3633840"/>
            <a:ext cx="252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1378080" y="3189240"/>
            <a:ext cx="252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1378080" y="2754360"/>
            <a:ext cx="252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1378080" y="2311560"/>
            <a:ext cx="252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1406520" y="4068720"/>
            <a:ext cx="30891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 flipV="1">
            <a:off x="1406520" y="4039920"/>
            <a:ext cx="1440" cy="28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2178000" y="4078080"/>
            <a:ext cx="1800" cy="28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 flipV="1">
            <a:off x="2951280" y="4078080"/>
            <a:ext cx="1440" cy="28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 flipV="1">
            <a:off x="3722760" y="4078080"/>
            <a:ext cx="1440" cy="28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 flipV="1">
            <a:off x="4495680" y="4078080"/>
            <a:ext cx="1800" cy="28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1406520" y="2471760"/>
            <a:ext cx="771480" cy="38160"/>
          </a:xfrm>
          <a:custGeom>
            <a:avLst/>
            <a:gdLst/>
            <a:ahLst/>
            <a:rect l="l" t="t" r="r" b="b"/>
            <a:pathLst>
              <a:path w="486" h="24">
                <a:moveTo>
                  <a:pt x="0" y="0"/>
                </a:moveTo>
                <a:lnTo>
                  <a:pt x="240" y="12"/>
                </a:lnTo>
                <a:lnTo>
                  <a:pt x="486" y="2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2178000" y="2509920"/>
            <a:ext cx="773280" cy="65160"/>
          </a:xfrm>
          <a:custGeom>
            <a:avLst/>
            <a:gdLst/>
            <a:ahLst/>
            <a:rect l="l" t="t" r="r" b="b"/>
            <a:pathLst>
              <a:path w="487" h="41">
                <a:moveTo>
                  <a:pt x="0" y="0"/>
                </a:moveTo>
                <a:lnTo>
                  <a:pt x="241" y="18"/>
                </a:lnTo>
                <a:lnTo>
                  <a:pt x="487" y="4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2951280" y="2575080"/>
            <a:ext cx="771480" cy="95040"/>
          </a:xfrm>
          <a:custGeom>
            <a:avLst/>
            <a:gdLst/>
            <a:ahLst/>
            <a:rect l="l" t="t" r="r" b="b"/>
            <a:pathLst>
              <a:path w="486" h="60">
                <a:moveTo>
                  <a:pt x="0" y="0"/>
                </a:moveTo>
                <a:lnTo>
                  <a:pt x="240" y="30"/>
                </a:lnTo>
                <a:lnTo>
                  <a:pt x="486" y="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3722760" y="2670120"/>
            <a:ext cx="772920" cy="131760"/>
          </a:xfrm>
          <a:custGeom>
            <a:avLst/>
            <a:gdLst/>
            <a:ahLst/>
            <a:rect l="l" t="t" r="r" b="b"/>
            <a:pathLst>
              <a:path w="487" h="83">
                <a:moveTo>
                  <a:pt x="0" y="0"/>
                </a:moveTo>
                <a:lnTo>
                  <a:pt x="241" y="42"/>
                </a:lnTo>
                <a:lnTo>
                  <a:pt x="487" y="8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838080" y="3505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0.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1403280" y="2311560"/>
            <a:ext cx="309240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415880" y="2755800"/>
            <a:ext cx="3092760" cy="18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1415880" y="3198960"/>
            <a:ext cx="30927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1409760" y="3630600"/>
            <a:ext cx="309240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1415880" y="1878120"/>
            <a:ext cx="30927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519880" y="23241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5519880" y="18813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5548320" y="1881360"/>
            <a:ext cx="1440" cy="2209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5548320" y="409104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5519880" y="364824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5519880" y="3206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5519880" y="276552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5519880" y="23241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5519880" y="18813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5548320" y="4091040"/>
            <a:ext cx="30607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 flipV="1">
            <a:off x="5548320" y="4063680"/>
            <a:ext cx="1440" cy="270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V="1">
            <a:off x="6313320" y="4095360"/>
            <a:ext cx="1800" cy="270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 flipV="1">
            <a:off x="7078680" y="4095360"/>
            <a:ext cx="1440" cy="270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 flipV="1">
            <a:off x="7843680" y="4095360"/>
            <a:ext cx="1800" cy="270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 flipV="1">
            <a:off x="8609040" y="4095360"/>
            <a:ext cx="1440" cy="270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 flipV="1">
            <a:off x="5548320" y="3657600"/>
            <a:ext cx="307800" cy="26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5856120" y="3065400"/>
            <a:ext cx="765360" cy="592200"/>
          </a:xfrm>
          <a:custGeom>
            <a:avLst/>
            <a:gdLst/>
            <a:ahLst/>
            <a:rect l="l" t="t" r="r" b="b"/>
            <a:pathLst>
              <a:path w="482" h="373">
                <a:moveTo>
                  <a:pt x="0" y="373"/>
                </a:moveTo>
                <a:lnTo>
                  <a:pt x="238" y="184"/>
                </a:lnTo>
                <a:lnTo>
                  <a:pt x="48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6621480" y="2535120"/>
            <a:ext cx="765000" cy="530280"/>
          </a:xfrm>
          <a:custGeom>
            <a:avLst/>
            <a:gdLst/>
            <a:ahLst/>
            <a:rect l="l" t="t" r="r" b="b"/>
            <a:pathLst>
              <a:path w="482" h="334">
                <a:moveTo>
                  <a:pt x="0" y="334"/>
                </a:moveTo>
                <a:lnTo>
                  <a:pt x="238" y="162"/>
                </a:lnTo>
                <a:lnTo>
                  <a:pt x="363" y="78"/>
                </a:lnTo>
                <a:lnTo>
                  <a:pt x="48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7386480" y="2103480"/>
            <a:ext cx="765360" cy="431640"/>
          </a:xfrm>
          <a:custGeom>
            <a:avLst/>
            <a:gdLst/>
            <a:ahLst/>
            <a:rect l="l" t="t" r="r" b="b"/>
            <a:pathLst>
              <a:path w="482" h="272">
                <a:moveTo>
                  <a:pt x="0" y="272"/>
                </a:moveTo>
                <a:lnTo>
                  <a:pt x="238" y="128"/>
                </a:lnTo>
                <a:lnTo>
                  <a:pt x="48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 flipV="1">
            <a:off x="8151840" y="1917720"/>
            <a:ext cx="377640" cy="185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551560" y="1879560"/>
            <a:ext cx="3092400" cy="18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551560" y="2322360"/>
            <a:ext cx="3092400" cy="18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5551560" y="2768760"/>
            <a:ext cx="309240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5551560" y="3206880"/>
            <a:ext cx="309240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5551560" y="3649680"/>
            <a:ext cx="309240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6889680" y="256536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2705040" y="276876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1982520" y="2743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81480" y="-1260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9280" y="1671480"/>
            <a:ext cx="61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200" spc="-1" strike="noStrike">
                <a:solidFill>
                  <a:srgbClr val="ffff00"/>
                </a:solidFill>
                <a:latin typeface="Arial"/>
              </a:rPr>
              <a:t>PES</a:t>
            </a: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i="1" lang="ja-JP" sz="22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at RCCSD(T)/aVTZ+33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2080" y="3795840"/>
            <a:ext cx="7448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Optimize the </a:t>
            </a:r>
            <a:r>
              <a:rPr b="1" lang="ja-JP" sz="2200" spc="-1" strike="noStrike">
                <a:solidFill>
                  <a:srgbClr val="ffff00"/>
                </a:solidFill>
                <a:latin typeface="Arial"/>
              </a:rPr>
              <a:t>2D PES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to reproduce the FTMW data of </a:t>
            </a:r>
            <a:r>
              <a:rPr b="1" lang="ja-JP" sz="2200" spc="-1" strike="noStrike">
                <a:solidFill>
                  <a:srgbClr val="ffff00"/>
                </a:solidFill>
                <a:latin typeface="Arial"/>
              </a:rPr>
              <a:t>Ar-SH &amp; Ar-S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Effective correction term for </a:t>
            </a:r>
            <a:r>
              <a:rPr b="1" i="1" lang="ja-JP" sz="22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ja-JP" sz="2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ja-JP" sz="2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ja-JP" sz="22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ja-JP" sz="2200" spc="-1" strike="noStrike">
                <a:solidFill>
                  <a:srgbClr val="ffffff"/>
                </a:solidFill>
                <a:latin typeface="Arial"/>
              </a:rPr>
              <a:t> for Ar-SD         </a:t>
            </a:r>
            <a:r>
              <a:rPr b="1" lang="ja-JP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i="1" lang="ja-JP" sz="2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ja-JP" sz="2200" spc="-1" strike="noStrike">
                <a:solidFill>
                  <a:srgbClr val="ff0000"/>
                </a:solidFill>
                <a:latin typeface="Arial"/>
              </a:rPr>
              <a:t> = -0.034 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5400" y="3230640"/>
            <a:ext cx="0" cy="274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0720" y="272088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  Solve the 2D Sch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ö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nger equation on th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5400" y="2187720"/>
            <a:ext cx="0" cy="30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4640" y="10666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068480"/>
            <a:ext cx="2057400" cy="5331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9960" y="40608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-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5400" y="22320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-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60880" y="55738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3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1480" y="4954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3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41760" y="45734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9080" y="5249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09040" y="604188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90 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meter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75040" y="5456160"/>
            <a:ext cx="0" cy="357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9128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7240" y="3660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4440" y="18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38606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400440" y="2209680"/>
            <a:ext cx="622440" cy="107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632640" y="2152800"/>
            <a:ext cx="1143000" cy="1707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400800" y="2209320"/>
            <a:ext cx="838080" cy="685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032600" y="2895120"/>
            <a:ext cx="282600" cy="37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956120" y="2079360"/>
            <a:ext cx="0" cy="37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6120" y="116532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184720" y="131760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4720" y="2232000"/>
            <a:ext cx="0" cy="2209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8040" y="860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2600" y="4667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spectros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143000"/>
            <a:ext cx="304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ergy leve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ined by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44280" y="3067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641520" y="340740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 /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8520" y="2308320"/>
            <a:ext cx="0" cy="358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6240" y="230832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6240" y="302256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6240" y="372744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6240" y="442260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6240" y="512748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584208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2400" y="583236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22400" y="54324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2400" y="526104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2400" y="48229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7520" y="583236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18160" y="44798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75040" y="313704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75040" y="28512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29000" y="2841480"/>
            <a:ext cx="1374840" cy="24163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29000" y="3146040"/>
            <a:ext cx="1374840" cy="16542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29000" y="4495680"/>
            <a:ext cx="129528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2240" y="583236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160" y="4213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0120" y="2841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6440" y="566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2240" y="-1260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investigate the 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6600" y="5029200"/>
            <a:ext cx="24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c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300 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5960" y="548640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rry et 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Chem.Phy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96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90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57840" y="3860640"/>
            <a:ext cx="428760" cy="25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629400" y="3580920"/>
            <a:ext cx="206280" cy="29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781320" y="358092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4520" y="388620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6640" y="3276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8240" y="2044800"/>
            <a:ext cx="61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P =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63280" y="2781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63280" y="2333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80680" y="1468440"/>
            <a:ext cx="46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 =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4080" y="9144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00"/>
                </a:solidFill>
                <a:latin typeface="Arial"/>
              </a:rPr>
              <a:t>Ar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960" y="9144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00"/>
                </a:solidFill>
                <a:latin typeface="Arial"/>
              </a:rPr>
              <a:t>Ar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124560" y="332424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ergy / c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5794200"/>
            <a:ext cx="745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5480" y="5349960"/>
            <a:ext cx="363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57320" y="4900680"/>
            <a:ext cx="74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95480" y="4454640"/>
            <a:ext cx="3636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7320" y="4008600"/>
            <a:ext cx="74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3560760"/>
            <a:ext cx="363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7320" y="3112920"/>
            <a:ext cx="74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95480" y="2668680"/>
            <a:ext cx="363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7320" y="2222640"/>
            <a:ext cx="74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1774800"/>
            <a:ext cx="363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7320" y="1327320"/>
            <a:ext cx="74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31840" y="1327320"/>
            <a:ext cx="1800" cy="4525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1960" y="2327400"/>
            <a:ext cx="379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01960" y="2425680"/>
            <a:ext cx="379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2720" y="1792440"/>
            <a:ext cx="37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82720" y="1917720"/>
            <a:ext cx="3780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82720" y="2736720"/>
            <a:ext cx="3780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2720" y="2827440"/>
            <a:ext cx="37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306216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01960" y="3122640"/>
            <a:ext cx="379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82720" y="3278160"/>
            <a:ext cx="37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325680"/>
            <a:ext cx="3780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01960" y="339552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5080" y="1913040"/>
            <a:ext cx="37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5080" y="2198520"/>
            <a:ext cx="3776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9480" y="1371600"/>
            <a:ext cx="379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89480" y="170640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89480" y="235260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89480" y="257004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2692440"/>
            <a:ext cx="37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5080" y="2851200"/>
            <a:ext cx="37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9480" y="2925720"/>
            <a:ext cx="379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89480" y="3024360"/>
            <a:ext cx="379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5080" y="3062160"/>
            <a:ext cx="3776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5000" y="3301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11080" y="3179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4360" y="294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11080" y="2657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80840" y="2246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3120" y="1625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14720" y="18637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85200" y="25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06800" y="27907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0280" y="214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1880" y="2381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0280" y="28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188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5200" y="3106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06800" y="33447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0280" y="332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0120" y="1230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34080" y="1609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4720" y="1809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4520" y="204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39480" y="2241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6400" y="24764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1440" y="2533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2680" y="27669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45960" y="277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56400" y="29685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1440" y="2998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02640" y="1701720"/>
            <a:ext cx="46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 =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360" y="1219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360" y="2955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8360" y="3825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8360" y="2087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360" y="4791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8360" y="5661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4000" y="2936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04800" y="2583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9840" y="1881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6840" y="24066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0880" y="1192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6480" y="203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526600" y="203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210520" y="222876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134200" y="1496880"/>
            <a:ext cx="457200" cy="609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60960" y="-12600"/>
            <a:ext cx="41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 leve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01960" y="838080"/>
            <a:ext cx="6663960" cy="5639760"/>
            <a:chOff x="2001960" y="838080"/>
            <a:chExt cx="6663960" cy="5639760"/>
          </a:xfrm>
        </p:grpSpPr>
        <p:sp>
          <p:nvSpPr>
            <p:cNvPr id="198" name=""/>
            <p:cNvSpPr/>
            <p:nvPr/>
          </p:nvSpPr>
          <p:spPr>
            <a:xfrm>
              <a:off x="6798240" y="4932360"/>
              <a:ext cx="61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</a:rPr>
                <a:t>P = 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3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91120" y="5595840"/>
              <a:ext cx="44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91120" y="5300640"/>
              <a:ext cx="44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5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2320" y="5029200"/>
              <a:ext cx="718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=7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01960" y="5235480"/>
              <a:ext cx="37944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82720" y="5235480"/>
              <a:ext cx="3780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01960" y="5557680"/>
              <a:ext cx="379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82720" y="5565600"/>
              <a:ext cx="3780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1960" y="5794200"/>
              <a:ext cx="379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82720" y="5794200"/>
              <a:ext cx="3780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5080" y="5235480"/>
              <a:ext cx="37764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9480" y="5235480"/>
              <a:ext cx="37944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5080" y="5557680"/>
              <a:ext cx="3776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89480" y="5565600"/>
              <a:ext cx="379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5080" y="5794200"/>
              <a:ext cx="3776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9480" y="5794200"/>
              <a:ext cx="379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8240" y="5946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0480" y="5962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59040" y="588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6840" y="593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0080" y="5646600"/>
              <a:ext cx="44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3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0080" y="5302080"/>
              <a:ext cx="447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5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21280" y="4984920"/>
              <a:ext cx="718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=7/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9280" y="614052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2160" y="5857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520" y="6035760"/>
              <a:ext cx="3873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32800" y="5850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32920" y="584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16840" y="602136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38480" y="838080"/>
              <a:ext cx="0" cy="556272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543040" y="1352520"/>
            <a:ext cx="2638440" cy="619200"/>
            <a:chOff x="2543040" y="1352520"/>
            <a:chExt cx="2638440" cy="619200"/>
          </a:xfrm>
        </p:grpSpPr>
        <p:sp>
          <p:nvSpPr>
            <p:cNvPr id="229" name=""/>
            <p:cNvSpPr/>
            <p:nvPr/>
          </p:nvSpPr>
          <p:spPr>
            <a:xfrm>
              <a:off x="2543040" y="17431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1352520"/>
              <a:ext cx="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365200" y="373392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1724.4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792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4360" y="373392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1719.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2109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556236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556236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09680" y="3123720"/>
            <a:ext cx="0" cy="26672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876920" y="2895480"/>
            <a:ext cx="0" cy="28958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47640" y="3276720"/>
          <a:ext cx="805032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276720"/>
                    <a:ext cx="805032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409760" y="5153040"/>
          <a:ext cx="49147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5153040"/>
                    <a:ext cx="491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504960" y="-12600"/>
            <a:ext cx="47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iltonian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analysis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520" y="27147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tal Hamil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2840" y="7621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pl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94360" y="2436840"/>
            <a:ext cx="331920" cy="342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9400" y="2441520"/>
            <a:ext cx="323640" cy="3351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3720" y="2454120"/>
            <a:ext cx="355680" cy="3416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2457360"/>
            <a:ext cx="347400" cy="3351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23200" y="1279440"/>
            <a:ext cx="425520" cy="4255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26440" y="1282680"/>
            <a:ext cx="419040" cy="41904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823000" y="1599840"/>
            <a:ext cx="1600200" cy="99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08520" y="1338120"/>
            <a:ext cx="22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31680" y="2482920"/>
            <a:ext cx="13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7320" y="2481120"/>
            <a:ext cx="14688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81520" y="261144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02480" y="1914480"/>
            <a:ext cx="0" cy="696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757840" y="1230120"/>
            <a:ext cx="696960" cy="957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1341360"/>
            <a:ext cx="12420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3080" y="1989000"/>
            <a:ext cx="14292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03880" y="990720"/>
            <a:ext cx="17460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65960" y="14256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1280" y="1512720"/>
            <a:ext cx="11340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500160" y="1975680"/>
            <a:ext cx="320400" cy="1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0960" y="2057400"/>
            <a:ext cx="13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1840" y="2633760"/>
            <a:ext cx="479520" cy="27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97600" y="3006720"/>
            <a:ext cx="17460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11840" y="2600280"/>
            <a:ext cx="479520" cy="33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1640" y="2643120"/>
            <a:ext cx="34920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56120" y="1251000"/>
            <a:ext cx="609840" cy="17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1371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J = j + L, F = J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874480" y="2348640"/>
            <a:ext cx="320760" cy="19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3560" y="6019920"/>
            <a:ext cx="132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 = 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7600" y="429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121932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Average potential : ½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444760" y="2873520"/>
          <a:ext cx="21272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760" y="2873520"/>
                    <a:ext cx="21272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463840" y="3270240"/>
          <a:ext cx="30988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3270240"/>
                    <a:ext cx="3098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147680" y="1911240"/>
          <a:ext cx="571968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7680" y="1911240"/>
                    <a:ext cx="571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187880" y="4294080"/>
          <a:ext cx="379548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87880" y="4294080"/>
                    <a:ext cx="3795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135320" y="4903920"/>
          <a:ext cx="4356360" cy="6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35320" y="4903920"/>
                    <a:ext cx="4356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148280" y="5726160"/>
          <a:ext cx="334152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8280" y="5726160"/>
                    <a:ext cx="33415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894040" y="-12600"/>
            <a:ext cx="54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ential terms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analysis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442116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1800" y="4876920"/>
            <a:ext cx="30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Expan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Arial"/>
              </a:rPr>
              <a:t>Legendr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3303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Coordinate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43760" y="4122720"/>
            <a:ext cx="290520" cy="299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47000" y="4125960"/>
            <a:ext cx="284040" cy="2937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59800" y="5545080"/>
            <a:ext cx="311040" cy="300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24880" y="5548320"/>
            <a:ext cx="304560" cy="29376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289480"/>
            <a:ext cx="372960" cy="372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8240" y="5292720"/>
            <a:ext cx="366480" cy="366840"/>
          </a:xfrm>
          <a:prstGeom prst="ellipse">
            <a:avLst/>
          </a:prstGeom>
          <a:solidFill>
            <a:srgbClr val="000099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50040" y="4406760"/>
            <a:ext cx="568440" cy="1160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83280" y="5457960"/>
            <a:ext cx="1666800" cy="33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97680" y="5217840"/>
            <a:ext cx="1542960" cy="27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4800" y="5324400"/>
            <a:ext cx="93600" cy="125640"/>
          </a:xfrm>
          <a:custGeom>
            <a:avLst/>
            <a:gdLst/>
            <a:ahLst/>
            <a:rect l="l" t="t" r="r" b="b"/>
            <a:pathLst>
              <a:path w="88" h="119">
                <a:moveTo>
                  <a:pt x="0" y="119"/>
                </a:moveTo>
                <a:lnTo>
                  <a:pt x="2" y="95"/>
                </a:lnTo>
                <a:lnTo>
                  <a:pt x="8" y="73"/>
                </a:lnTo>
                <a:lnTo>
                  <a:pt x="15" y="52"/>
                </a:lnTo>
                <a:lnTo>
                  <a:pt x="25" y="36"/>
                </a:lnTo>
                <a:lnTo>
                  <a:pt x="39" y="21"/>
                </a:lnTo>
                <a:lnTo>
                  <a:pt x="54" y="9"/>
                </a:lnTo>
                <a:lnTo>
                  <a:pt x="70" y="3"/>
                </a:lnTo>
                <a:lnTo>
                  <a:pt x="88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07440" y="5105520"/>
            <a:ext cx="90360" cy="125280"/>
          </a:xfrm>
          <a:custGeom>
            <a:avLst/>
            <a:gdLst/>
            <a:ahLst/>
            <a:rect l="l" t="t" r="r" b="b"/>
            <a:pathLst>
              <a:path w="87" h="119">
                <a:moveTo>
                  <a:pt x="0" y="119"/>
                </a:moveTo>
                <a:lnTo>
                  <a:pt x="1" y="95"/>
                </a:lnTo>
                <a:lnTo>
                  <a:pt x="7" y="73"/>
                </a:lnTo>
                <a:lnTo>
                  <a:pt x="15" y="52"/>
                </a:lnTo>
                <a:lnTo>
                  <a:pt x="26" y="34"/>
                </a:lnTo>
                <a:lnTo>
                  <a:pt x="38" y="20"/>
                </a:lnTo>
                <a:lnTo>
                  <a:pt x="53" y="9"/>
                </a:lnTo>
                <a:lnTo>
                  <a:pt x="70" y="1"/>
                </a:lnTo>
                <a:lnTo>
                  <a:pt x="87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0960" y="5342040"/>
            <a:ext cx="22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09840" y="5570640"/>
            <a:ext cx="13644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3960" y="55418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503712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54943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5113440"/>
            <a:ext cx="457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600" spc="-1" strike="noStrike">
                <a:solidFill>
                  <a:srgbClr val="ffffff"/>
                </a:solidFill>
                <a:latin typeface="Symbol"/>
                <a:ea typeface="Symbol"/>
              </a:rPr>
              <a:t></a:t>
            </a:r>
            <a:r>
              <a:rPr b="1" i="1" lang="ja-JP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ja-JP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38880" y="4960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3760" y="4160880"/>
            <a:ext cx="146880" cy="243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81800" y="41608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1960" y="1343160"/>
          <a:ext cx="78944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343160"/>
                    <a:ext cx="78944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04920" y="685800"/>
            <a:ext cx="5943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Difference potential : ½(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465200" y="4603680"/>
          <a:ext cx="287820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5200" y="4603680"/>
                    <a:ext cx="2878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376280" y="5289480"/>
          <a:ext cx="395784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5289480"/>
                    <a:ext cx="39578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19280" y="5983200"/>
          <a:ext cx="100656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983200"/>
                    <a:ext cx="10065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1549440" y="3913200"/>
          <a:ext cx="203184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9440" y="3913200"/>
                    <a:ext cx="20318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2894760" y="0"/>
            <a:ext cx="53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ential terms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analysis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66720" y="800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ta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04080" y="2590920"/>
            <a:ext cx="30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uple the nuclear spin,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5715000"/>
            <a:ext cx="58672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17,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7.5,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: 48678 </a:t>
            </a:r>
            <a:r>
              <a:rPr b="1" lang="en-US" sz="1800" spc="-1" strike="noStrike" baseline="10000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48678    207 sec. by P4-3.2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335400" y="863640"/>
          <a:ext cx="451332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5400" y="863640"/>
                    <a:ext cx="4513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736640" y="1852560"/>
          <a:ext cx="61232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1852560"/>
                    <a:ext cx="61232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684440" y="3048120"/>
          <a:ext cx="641664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4440" y="3048120"/>
                    <a:ext cx="6416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286360" y="-12600"/>
            <a:ext cx="55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is functions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analysis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400" y="14954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8920" y="40384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 V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206960" y="4551480"/>
          <a:ext cx="745920" cy="40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6960" y="4551480"/>
                    <a:ext cx="745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84640" y="5211720"/>
          <a:ext cx="797040" cy="42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4640" y="5211720"/>
                    <a:ext cx="797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 rot="10788000">
            <a:off x="5257080" y="4571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08280" y="480060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Gauss-Hermit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8560" y="4524480"/>
            <a:ext cx="26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olecu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omer vibration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9:54:52Z</dcterms:created>
  <dc:creator>common</dc:creator>
  <dc:description/>
  <dc:language>en-US</dc:language>
  <cp:lastModifiedBy>common</cp:lastModifiedBy>
  <dcterms:modified xsi:type="dcterms:W3CDTF">2005-06-17T12:05:31Z</dcterms:modified>
  <cp:revision>1791</cp:revision>
  <dc:subject/>
  <dc:title>FTMW-millimater wave 2重共鳴分光法によるAr-SHのvdW振動遷移の観測</dc:title>
</cp:coreProperties>
</file>