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ct" ContentType="image/x-pict"/>
  <Override PartName="/ppt/media/image13.pct" ContentType="image/x-pict"/>
  <Override PartName="/ppt/media/image9.png" ContentType="image/png"/>
  <Override PartName="/ppt/media/image11.pct" ContentType="image/x-pict"/>
  <Override PartName="/ppt/media/image12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E8E9B-4AA3-4AB7-B36D-9A1465136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st fit using toy potential with ammonia barrier height and eq. geo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t to inversion potential of Joel’s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5+ potential expected to be smaller than KE, pick basis set to diagonal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t to the Tennyson potential at the equilibrium point, previous figs were using simpler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A8DF-787A-4619-AF9F-E5DBD9549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BF0A-8DAC-4B07-922F-BF98C7A23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7DF4-F542-4ABE-9540-F64D63D2A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2A1F-E812-4543-A81B-5B15C3632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5281-87C1-4762-A472-825AB26BC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E4AB-360C-4B0D-B6F9-F324A2E03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A252-C03A-4D0C-91BF-18F3E40D3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6207-C9D1-4766-A28F-6CAFA38BD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D651-31FC-40CF-80AC-19489C8CF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5EAA-4439-49A4-B670-F98D98F1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A848-4657-47B1-A6E3-67E27FBB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2D04-CE1E-43E2-8366-178719D2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5e"/>
            </a:gs>
            <a:gs pos="100000">
              <a:srgbClr val="33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ED1D5-7893-4DD2-B6C4-0C4D440B932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96920" y="5952960"/>
            <a:ext cx="1326960" cy="70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5e"/>
            </a:gs>
            <a:gs pos="100000">
              <a:srgbClr val="33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458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mic Sans MS"/>
              </a:rPr>
              <a:t>Particles-on-a-Sphere: A reduced dimensional approach to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Comic Sans MS"/>
              </a:rPr>
              <a:t>large-amplitude motion for polyatomic hydrides</a:t>
            </a:r>
            <a:endParaRPr b="0" lang="en-US" sz="40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09120" y="46483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ichael P. Deskevich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Chandra Savage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, and David J. Nesbit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"/>
          <p:cNvSpPr/>
          <p:nvPr/>
        </p:nvSpPr>
        <p:spPr>
          <a:xfrm>
            <a:off x="1676520" y="59752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JILA, National Institute of Standards and Technology and University of Colorado, Boulder, CO 803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14600" y="3276720"/>
            <a:ext cx="1550880" cy="1371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257800" y="3429000"/>
            <a:ext cx="17319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5e"/>
            </a:gs>
            <a:gs pos="100000">
              <a:srgbClr val="33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762120" y="-36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mic Sans MS"/>
              </a:rPr>
              <a:t>XH</a:t>
            </a:r>
            <a:r>
              <a:rPr b="0" lang="en-US" sz="4000" spc="-1" strike="noStrike" baseline="-25000">
                <a:solidFill>
                  <a:srgbClr val="ccffff"/>
                </a:solidFill>
                <a:latin typeface="Comic Sans MS"/>
              </a:rPr>
              <a:t>3</a:t>
            </a:r>
            <a:r>
              <a:rPr b="0" lang="en-US" sz="4000" spc="-1" strike="noStrike">
                <a:solidFill>
                  <a:srgbClr val="ccffff"/>
                </a:solidFill>
                <a:latin typeface="Comic Sans MS"/>
              </a:rPr>
              <a:t> Inversion</a:t>
            </a:r>
            <a:endParaRPr b="0" lang="en-US" sz="40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267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mall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limit not as simpl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Vector addition of three angular momenta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arge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values reproduce expected tunneling splitting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371840" y="0"/>
            <a:ext cx="4772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5e"/>
            </a:gs>
            <a:gs pos="100000">
              <a:srgbClr val="33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ymmetric Top Energy Levels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8960" y="548640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ree independent rotors at small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correlate at large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to a symmetric top with 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symmetr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511280" y="1077840"/>
            <a:ext cx="565164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5e"/>
            </a:gs>
            <a:gs pos="100000">
              <a:srgbClr val="33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2-D Wavefunctio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2133360"/>
            <a:ext cx="4419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ocalization depends on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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avefunction symmetry is as expecte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6680" y="0"/>
          <a:ext cx="45468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6680" y="0"/>
                    <a:ext cx="45468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5e"/>
            </a:gs>
            <a:gs pos="100000">
              <a:srgbClr val="33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52280" y="1066680"/>
            <a:ext cx="8839440" cy="56390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Comparison with NH</a:t>
            </a:r>
            <a:r>
              <a:rPr b="0" lang="en-US" sz="4400" spc="-1" strike="noStrike" baseline="-25000">
                <a:solidFill>
                  <a:srgbClr val="ccffff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0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8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38200" y="1309680"/>
          <a:ext cx="8248680" cy="477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8200" y="1309680"/>
                    <a:ext cx="8248680" cy="47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2819520" y="3505320"/>
            <a:ext cx="83808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168880" y="3505320"/>
            <a:ext cx="914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20120" y="3505320"/>
            <a:ext cx="914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5e"/>
            </a:gs>
            <a:gs pos="100000">
              <a:srgbClr val="33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52280" y="1143000"/>
            <a:ext cx="8839440" cy="5562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Comparison with H</a:t>
            </a:r>
            <a:r>
              <a:rPr b="0" lang="en-US" sz="4400" spc="-1" strike="noStrike" baseline="-25000">
                <a:solidFill>
                  <a:srgbClr val="ccffff"/>
                </a:solidFill>
                <a:latin typeface="Comic Sans MS"/>
              </a:rPr>
              <a:t>3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O</a:t>
            </a:r>
            <a:r>
              <a:rPr b="0" lang="en-US" sz="4400" spc="-1" strike="noStrike" baseline="30000">
                <a:solidFill>
                  <a:srgbClr val="ccffff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8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49280" y="1531800"/>
          <a:ext cx="8269200" cy="476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280" y="1531800"/>
                    <a:ext cx="8269200" cy="476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2666880" y="2819520"/>
            <a:ext cx="914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391520" y="2819520"/>
            <a:ext cx="914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952880" y="2819520"/>
            <a:ext cx="6098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5e"/>
            </a:gs>
            <a:gs pos="100000">
              <a:srgbClr val="33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ummary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OS designed for floppy systems, but performs well for rigid on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otential in POS model can easily be adjusted to model molecular energy level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2 and 3 particle POS models reproduce full-D QM and experimen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 to X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omic Sans MS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and X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286000" y="5791320"/>
            <a:ext cx="1033560" cy="9144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029200" y="5867280"/>
            <a:ext cx="1154160" cy="9144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7924680" y="5791320"/>
            <a:ext cx="9082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5e"/>
            </a:gs>
            <a:gs pos="100000">
              <a:srgbClr val="33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Acknowledgement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ike Deskevich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avid Nesbit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ntire Nesbitt Group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unding:  NSF, AFOSR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828800" y="5334120"/>
            <a:ext cx="1550880" cy="13716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572000" y="5486400"/>
            <a:ext cx="1731960" cy="13716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7467480" y="5334120"/>
            <a:ext cx="13622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5e"/>
            </a:gs>
            <a:gs pos="100000">
              <a:srgbClr val="33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Motivatio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eed a simple model for large-amplitude motion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 this talk, floppy = 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omic Sans MS"/>
              </a:rPr>
              <a:t>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, “rigid” = N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ynamics of small systems (HF and HCl dimers) can be calculated exactl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omic Sans MS"/>
              </a:rPr>
              <a:t>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calculations are prohibitively difficult with standard method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86000" y="5791320"/>
            <a:ext cx="1033560" cy="914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029200" y="5867280"/>
            <a:ext cx="1154160" cy="914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7924680" y="5791320"/>
            <a:ext cx="9082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5e"/>
            </a:gs>
            <a:gs pos="100000">
              <a:srgbClr val="33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Computational Strategy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-H bond lengths in C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5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remain nearly constant in full-D potentia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 C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5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, H-atom radial motions are much faster than the angular component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OS model reduces the 3N-dimensional system to 2N by fixing radial coordinat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odel is tested on X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and X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problems before expansion into harder X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and X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system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86000" y="5791320"/>
            <a:ext cx="1033560" cy="914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029200" y="5867280"/>
            <a:ext cx="1154160" cy="914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7924680" y="5791320"/>
            <a:ext cx="9082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5e"/>
            </a:gs>
            <a:gs pos="100000">
              <a:srgbClr val="33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257800" y="1447920"/>
            <a:ext cx="3352680" cy="42670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OS Hamiltonia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480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miltonian a function of individual angular momenta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ter-particle potential small compared to K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asis set chosen to be diagonal in J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5638680" y="1676520"/>
                <a:ext cx="27370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S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j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6934320" y="2971800"/>
                <a:ext cx="110016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∏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⟩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6781680" y="4114800"/>
                <a:ext cx="132732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JM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6324480" y="4952880"/>
                <a:ext cx="20894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JM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5345640" y="4114800"/>
            <a:ext cx="7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 =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45640" y="4952880"/>
            <a:ext cx="7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 =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5e"/>
            </a:gs>
            <a:gs pos="100000">
              <a:srgbClr val="33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572000" y="1066680"/>
            <a:ext cx="4419720" cy="5486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airwise Potential Simplificatio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runcate many-body expansion at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lculations become tractabl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airwise potential depends on the inter-particle angle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j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press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j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terms of k and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to make scaling eas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iffness factor: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k/b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724280" y="1143000"/>
                <a:ext cx="4035600" cy="27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&lt;</m:t>
                            </m:r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&lt;</m:t>
                            </m:r>
                            <m:r>
                              <m:t xml:space="preserve">j</m:t>
                            </m:r>
                            <m:r>
                              <m:t xml:space="preserve">&lt;</m:t>
                            </m:r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&lt;</m:t>
                            </m:r>
                            <m:r>
                              <m:t xml:space="preserve">j</m:t>
                            </m:r>
                            <m:r>
                              <m:t xml:space="preserve">&lt;</m:t>
                            </m:r>
                            <m:r>
                              <m:t xml:space="preserve">k</m:t>
                            </m:r>
                            <m:r>
                              <m:t xml:space="preserve">&lt;</m:t>
                            </m:r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5486400" y="4114800"/>
                <a:ext cx="230508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&lt;</m:t>
                        </m:r>
                        <m:r>
                          <m:t xml:space="preserve">j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4940280" y="5407200"/>
                <a:ext cx="359424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5e"/>
            </a:gs>
            <a:gs pos="100000">
              <a:srgbClr val="33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XH</a:t>
            </a:r>
            <a:r>
              <a:rPr b="0" lang="en-US" sz="4400" spc="-1" strike="noStrike" baseline="-25000">
                <a:solidFill>
                  <a:srgbClr val="ccffff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Bending Vibrations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3520" y="579096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imple rigid rotor pattern at small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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ear harmonic bending vibrations at large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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584360" y="1020600"/>
            <a:ext cx="5959440" cy="4685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 flipV="1">
            <a:off x="6248520" y="518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08400" y="5345280"/>
            <a:ext cx="505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5e"/>
            </a:gs>
            <a:gs pos="100000">
              <a:srgbClr val="33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Rotational Energy Levels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3520" y="57150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dependent rotors at low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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ully rigid rotor molecule at large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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00200" y="1066680"/>
            <a:ext cx="5807160" cy="46846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 flipV="1">
            <a:off x="5943600" y="4965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93760" y="5129280"/>
            <a:ext cx="505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5e"/>
            </a:gs>
            <a:gs pos="100000">
              <a:srgbClr val="33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mic Sans MS"/>
              </a:rPr>
              <a:t>1-D Wavefunction Localization</a:t>
            </a:r>
            <a:endParaRPr b="0" lang="en-US" sz="40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240" y="586728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ocalization of wavefunction signifies correlated motion of particles on the spher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511280" y="1084320"/>
            <a:ext cx="612144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5e"/>
            </a:gs>
            <a:gs pos="100000">
              <a:srgbClr val="33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785960" y="1295280"/>
            <a:ext cx="5715000" cy="3505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Comparison With Water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95280" y="5028840"/>
            <a:ext cx="74678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-D POS compares favorably with calculations and experimen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mall differences due to ro-vibrational coupling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209680" y="1541520"/>
          <a:ext cx="5583240" cy="348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541520"/>
                    <a:ext cx="5583240" cy="34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0" y="24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6T16:28:17Z</dcterms:created>
  <dc:creator>michael deskevich</dc:creator>
  <dc:description/>
  <dc:language>en-US</dc:language>
  <cp:lastModifiedBy>Chandra Savage Marsden</cp:lastModifiedBy>
  <dcterms:modified xsi:type="dcterms:W3CDTF">2005-06-19T03:19:58Z</dcterms:modified>
  <cp:revision>32</cp:revision>
  <dc:subject/>
  <dc:title>This Is The Title Slide</dc:title>
</cp:coreProperties>
</file>